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123-1165-4050-92CA-5C23B9E7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5AC-8C4C-47C5-A53F-8D7DB1D7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DDD-41BF-46CF-85AA-4E62EC85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D57-D680-42F7-9129-76AFE315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014-CC75-4407-A891-814B15BC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6AB-7A2D-46F5-B105-AE4A5083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5FC-95DD-4600-ACA6-4CF42FDD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980-E95F-4208-9DDB-F08AB35D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007-6019-40E3-B804-8D95C88B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992-F7FC-4700-AC85-B26A97C1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6D6-177F-4095-B195-538A5B15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249-EACC-41DE-AC56-96C39558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6/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E 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A23F-C4DA-4B8D-BB94-41B9BCC55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CP/IP Programm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ujtaba Khambatt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ortions of slide content from Opus1 (© 1996), TGV Software, Inc. (© 1996), Process Software Corp. (© 1996), Hari Balakrishnan (© 1998-2002), Addison-Wesley Publishers Limited (© 1990, 1994), Pearson Education Limited (© 2001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SE 5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twork interface looks like a fi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057400"/>
            <a:ext cx="25909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53000" y="3618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3360" y="46483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60520" y="4038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60160" y="4419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2057400"/>
            <a:ext cx="25905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3809880"/>
            <a:ext cx="4876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0720" y="4648320"/>
            <a:ext cx="4876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Byte Or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21337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order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1337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order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41911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order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1911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order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0480" y="27036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27036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40480" y="48006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5880" y="48006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4600" y="21700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120" y="4267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3276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34280" y="33130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7200" y="388620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 68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3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29640" y="19051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80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X &amp; Alpha (V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capsulation of messag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1981080"/>
            <a:ext cx="3200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743200"/>
            <a:ext cx="3200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27432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3505320"/>
            <a:ext cx="4800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3505320"/>
            <a:ext cx="14479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4267080"/>
            <a:ext cx="6248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267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029200"/>
            <a:ext cx="8763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362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29600" y="2362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124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3124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886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3886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464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91720" y="464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29600" y="4267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2040" y="202392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gmentation and Reassembl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362320"/>
            <a:ext cx="1295280" cy="914400"/>
          </a:xfrm>
          <a:prstGeom prst="flowChartManualOperation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4267080"/>
            <a:ext cx="838080" cy="838440"/>
          </a:xfrm>
          <a:prstGeom prst="flowChartMerg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3276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a mess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50532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350532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5410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5410080"/>
            <a:ext cx="838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5410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410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362320"/>
            <a:ext cx="1295280" cy="914400"/>
          </a:xfrm>
          <a:prstGeom prst="flowChartManualOperation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4267080"/>
            <a:ext cx="838080" cy="838440"/>
          </a:xfrm>
          <a:prstGeom prst="flowChartMerg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1676520"/>
            <a:ext cx="3276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a mess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350532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350532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410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5410080"/>
            <a:ext cx="838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5410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01000" y="5410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5562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3276720"/>
            <a:ext cx="812520" cy="228600"/>
          </a:xfrm>
          <a:custGeom>
            <a:avLst/>
            <a:gdLst/>
            <a:ahLst/>
            <a:rect l="l" t="t" r="r" b="b"/>
            <a:pathLst>
              <a:path w="512" h="144">
                <a:moveTo>
                  <a:pt x="480" y="0"/>
                </a:moveTo>
                <a:cubicBezTo>
                  <a:pt x="496" y="12"/>
                  <a:pt x="512" y="24"/>
                  <a:pt x="432" y="48"/>
                </a:cubicBezTo>
                <a:cubicBezTo>
                  <a:pt x="352" y="72"/>
                  <a:pt x="176" y="108"/>
                  <a:pt x="0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31840" y="3276720"/>
            <a:ext cx="635040" cy="228600"/>
          </a:xfrm>
          <a:custGeom>
            <a:avLst/>
            <a:gdLst/>
            <a:ahLst/>
            <a:rect l="l" t="t" r="r" b="b"/>
            <a:pathLst>
              <a:path w="400" h="144">
                <a:moveTo>
                  <a:pt x="16" y="0"/>
                </a:moveTo>
                <a:cubicBezTo>
                  <a:pt x="8" y="36"/>
                  <a:pt x="0" y="72"/>
                  <a:pt x="64" y="96"/>
                </a:cubicBezTo>
                <a:cubicBezTo>
                  <a:pt x="128" y="120"/>
                  <a:pt x="264" y="132"/>
                  <a:pt x="400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3276720"/>
            <a:ext cx="990720" cy="228600"/>
          </a:xfrm>
          <a:custGeom>
            <a:avLst/>
            <a:gdLst/>
            <a:ahLst/>
            <a:rect l="l" t="t" r="r" b="b"/>
            <a:pathLst>
              <a:path w="624" h="144">
                <a:moveTo>
                  <a:pt x="0" y="144"/>
                </a:moveTo>
                <a:cubicBezTo>
                  <a:pt x="216" y="132"/>
                  <a:pt x="432" y="120"/>
                  <a:pt x="528" y="96"/>
                </a:cubicBezTo>
                <a:cubicBezTo>
                  <a:pt x="624" y="72"/>
                  <a:pt x="600" y="36"/>
                  <a:pt x="5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03840" y="3276720"/>
            <a:ext cx="1092240" cy="228600"/>
          </a:xfrm>
          <a:custGeom>
            <a:avLst/>
            <a:gdLst/>
            <a:ahLst/>
            <a:rect l="l" t="t" r="r" b="b"/>
            <a:pathLst>
              <a:path w="688" h="144">
                <a:moveTo>
                  <a:pt x="688" y="144"/>
                </a:moveTo>
                <a:cubicBezTo>
                  <a:pt x="456" y="132"/>
                  <a:pt x="224" y="120"/>
                  <a:pt x="112" y="96"/>
                </a:cubicBezTo>
                <a:cubicBezTo>
                  <a:pt x="0" y="72"/>
                  <a:pt x="8" y="36"/>
                  <a:pt x="1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27000" y="3886200"/>
            <a:ext cx="901800" cy="380880"/>
          </a:xfrm>
          <a:custGeom>
            <a:avLst/>
            <a:gdLst/>
            <a:ahLst/>
            <a:rect l="l" t="t" r="r" b="b"/>
            <a:pathLst>
              <a:path w="568" h="240">
                <a:moveTo>
                  <a:pt x="40" y="0"/>
                </a:moveTo>
                <a:cubicBezTo>
                  <a:pt x="20" y="52"/>
                  <a:pt x="0" y="104"/>
                  <a:pt x="88" y="144"/>
                </a:cubicBezTo>
                <a:cubicBezTo>
                  <a:pt x="176" y="184"/>
                  <a:pt x="372" y="212"/>
                  <a:pt x="568" y="24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3886200"/>
            <a:ext cx="1003320" cy="380880"/>
          </a:xfrm>
          <a:custGeom>
            <a:avLst/>
            <a:gdLst/>
            <a:ahLst/>
            <a:rect l="l" t="t" r="r" b="b"/>
            <a:pathLst>
              <a:path w="632" h="240">
                <a:moveTo>
                  <a:pt x="624" y="0"/>
                </a:moveTo>
                <a:cubicBezTo>
                  <a:pt x="628" y="52"/>
                  <a:pt x="632" y="104"/>
                  <a:pt x="528" y="144"/>
                </a:cubicBezTo>
                <a:cubicBezTo>
                  <a:pt x="424" y="184"/>
                  <a:pt x="212" y="212"/>
                  <a:pt x="0" y="24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75320" y="3886200"/>
            <a:ext cx="901800" cy="380880"/>
          </a:xfrm>
          <a:custGeom>
            <a:avLst/>
            <a:gdLst/>
            <a:ahLst/>
            <a:rect l="l" t="t" r="r" b="b"/>
            <a:pathLst>
              <a:path w="568" h="240">
                <a:moveTo>
                  <a:pt x="40" y="0"/>
                </a:moveTo>
                <a:cubicBezTo>
                  <a:pt x="20" y="52"/>
                  <a:pt x="0" y="104"/>
                  <a:pt x="88" y="144"/>
                </a:cubicBezTo>
                <a:cubicBezTo>
                  <a:pt x="176" y="184"/>
                  <a:pt x="372" y="212"/>
                  <a:pt x="568" y="24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86200"/>
            <a:ext cx="1003320" cy="380880"/>
          </a:xfrm>
          <a:custGeom>
            <a:avLst/>
            <a:gdLst/>
            <a:ahLst/>
            <a:rect l="l" t="t" r="r" b="b"/>
            <a:pathLst>
              <a:path w="632" h="240">
                <a:moveTo>
                  <a:pt x="624" y="0"/>
                </a:moveTo>
                <a:cubicBezTo>
                  <a:pt x="628" y="52"/>
                  <a:pt x="632" y="104"/>
                  <a:pt x="528" y="144"/>
                </a:cubicBezTo>
                <a:cubicBezTo>
                  <a:pt x="424" y="184"/>
                  <a:pt x="212" y="212"/>
                  <a:pt x="0" y="24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699080"/>
            <a:ext cx="1219320" cy="711000"/>
          </a:xfrm>
          <a:custGeom>
            <a:avLst/>
            <a:gdLst/>
            <a:ahLst/>
            <a:rect l="l" t="t" r="r" b="b"/>
            <a:pathLst>
              <a:path w="768" h="448">
                <a:moveTo>
                  <a:pt x="768" y="64"/>
                </a:moveTo>
                <a:cubicBezTo>
                  <a:pt x="544" y="32"/>
                  <a:pt x="320" y="0"/>
                  <a:pt x="192" y="64"/>
                </a:cubicBezTo>
                <a:cubicBezTo>
                  <a:pt x="64" y="128"/>
                  <a:pt x="32" y="288"/>
                  <a:pt x="0" y="4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4952880"/>
            <a:ext cx="355680" cy="4572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224" y="0"/>
                </a:moveTo>
                <a:cubicBezTo>
                  <a:pt x="144" y="24"/>
                  <a:pt x="64" y="48"/>
                  <a:pt x="32" y="96"/>
                </a:cubicBezTo>
                <a:cubicBezTo>
                  <a:pt x="0" y="144"/>
                  <a:pt x="16" y="216"/>
                  <a:pt x="32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4952880"/>
            <a:ext cx="635040" cy="457200"/>
          </a:xfrm>
          <a:custGeom>
            <a:avLst/>
            <a:gdLst/>
            <a:ahLst/>
            <a:rect l="l" t="t" r="r" b="b"/>
            <a:pathLst>
              <a:path w="400" h="288">
                <a:moveTo>
                  <a:pt x="0" y="0"/>
                </a:moveTo>
                <a:cubicBezTo>
                  <a:pt x="136" y="24"/>
                  <a:pt x="272" y="48"/>
                  <a:pt x="336" y="96"/>
                </a:cubicBezTo>
                <a:cubicBezTo>
                  <a:pt x="400" y="144"/>
                  <a:pt x="392" y="216"/>
                  <a:pt x="384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800600"/>
            <a:ext cx="1600200" cy="60948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0" y="0"/>
                </a:moveTo>
                <a:cubicBezTo>
                  <a:pt x="324" y="16"/>
                  <a:pt x="648" y="32"/>
                  <a:pt x="816" y="96"/>
                </a:cubicBezTo>
                <a:cubicBezTo>
                  <a:pt x="984" y="160"/>
                  <a:pt x="996" y="272"/>
                  <a:pt x="1008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4699080"/>
            <a:ext cx="1219320" cy="711000"/>
          </a:xfrm>
          <a:custGeom>
            <a:avLst/>
            <a:gdLst/>
            <a:ahLst/>
            <a:rect l="l" t="t" r="r" b="b"/>
            <a:pathLst>
              <a:path w="768" h="448">
                <a:moveTo>
                  <a:pt x="768" y="64"/>
                </a:moveTo>
                <a:cubicBezTo>
                  <a:pt x="544" y="32"/>
                  <a:pt x="320" y="0"/>
                  <a:pt x="192" y="64"/>
                </a:cubicBezTo>
                <a:cubicBezTo>
                  <a:pt x="64" y="128"/>
                  <a:pt x="32" y="288"/>
                  <a:pt x="0" y="4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1440" y="4952880"/>
            <a:ext cx="355680" cy="4572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224" y="0"/>
                </a:moveTo>
                <a:cubicBezTo>
                  <a:pt x="144" y="24"/>
                  <a:pt x="64" y="48"/>
                  <a:pt x="32" y="96"/>
                </a:cubicBezTo>
                <a:cubicBezTo>
                  <a:pt x="0" y="144"/>
                  <a:pt x="16" y="216"/>
                  <a:pt x="32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4952880"/>
            <a:ext cx="635040" cy="457200"/>
          </a:xfrm>
          <a:custGeom>
            <a:avLst/>
            <a:gdLst/>
            <a:ahLst/>
            <a:rect l="l" t="t" r="r" b="b"/>
            <a:pathLst>
              <a:path w="400" h="288">
                <a:moveTo>
                  <a:pt x="0" y="0"/>
                </a:moveTo>
                <a:cubicBezTo>
                  <a:pt x="136" y="24"/>
                  <a:pt x="272" y="48"/>
                  <a:pt x="336" y="96"/>
                </a:cubicBezTo>
                <a:cubicBezTo>
                  <a:pt x="400" y="144"/>
                  <a:pt x="392" y="216"/>
                  <a:pt x="384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4800600"/>
            <a:ext cx="1600200" cy="60948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0" y="0"/>
                </a:moveTo>
                <a:cubicBezTo>
                  <a:pt x="324" y="16"/>
                  <a:pt x="648" y="32"/>
                  <a:pt x="816" y="96"/>
                </a:cubicBezTo>
                <a:cubicBezTo>
                  <a:pt x="984" y="160"/>
                  <a:pt x="996" y="272"/>
                  <a:pt x="1008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35720" y="175248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6920" y="289548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11040" y="480060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P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ddressing entities in a networ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CP/IP layers have 2 part address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of everything below it + Address of itsel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times lower-level addresses are impli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 Ethernet MA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IP addre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 addresses are importa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plication level address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Servers in RFC 1700, &lt;1024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6 bit integers, SMTP port=2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ansport level address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assigner IANA, RFC 1700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8 bit protocol numbers, TCP=6, UDP=1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twork level address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assigner InterNIC, manager admi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2 bit integers, 249.229.24.1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Address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iplet (IP, Protocol, Port) identifies a proce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2 Triplets identifies a connec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so called a socket / socket pai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191120"/>
            <a:ext cx="33526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number (port) 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protocol number 6 (T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IP address 249.229.24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4191120"/>
            <a:ext cx="33526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number (port)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protocol number 6 (T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IP address 192.246.25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4197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3962160" y="48769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coming Connections: Serv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2286000"/>
            <a:ext cx="380988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200400"/>
            <a:ext cx="1981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4495680"/>
            <a:ext cx="1981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1600200"/>
            <a:ext cx="2590560" cy="1219320"/>
          </a:xfrm>
          <a:prstGeom prst="wedgeRectCallout">
            <a:avLst>
              <a:gd name="adj1" fmla="val -59189"/>
              <a:gd name="adj2" fmla="val 8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thing should come in for Port 25 on TCP, give it to me. I will be waiting righ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3886200"/>
            <a:ext cx="685800" cy="380880"/>
          </a:xfrm>
          <a:prstGeom prst="wedgeRectCallout">
            <a:avLst>
              <a:gd name="adj1" fmla="val -135416"/>
              <a:gd name="adj2" fmla="val 12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83400" y="5715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em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2286000"/>
            <a:ext cx="3200400" cy="32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3200400"/>
            <a:ext cx="19810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648320"/>
            <a:ext cx="19810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1828800"/>
            <a:ext cx="2438640" cy="1219320"/>
          </a:xfrm>
          <a:prstGeom prst="wedgeRectCallout">
            <a:avLst>
              <a:gd name="adj1" fmla="val 40884"/>
              <a:gd name="adj2" fmla="val 70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25? I will start a new process runn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Appl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hand it this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4114800"/>
            <a:ext cx="1676520" cy="609480"/>
          </a:xfrm>
          <a:prstGeom prst="wedgeRectCallout">
            <a:avLst>
              <a:gd name="adj1" fmla="val -48578"/>
              <a:gd name="adj2" fmla="val 75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n incoming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18280" y="5715000"/>
            <a:ext cx="32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t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3200400"/>
            <a:ext cx="121932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ample Routines and Librar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CP/IP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CP/IP Programming Mode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erkeley Sockets popularized in 198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de implementation (Windows, UNIX, VMS,…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her mode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REAMS model (UNIX System 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unications end-poi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structure within the kern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3124080"/>
            <a:ext cx="266688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505320"/>
            <a:ext cx="2666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886200"/>
            <a:ext cx="2666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2670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57560" y="27036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666880"/>
            <a:ext cx="3581280" cy="914400"/>
          </a:xfrm>
          <a:prstGeom prst="wedgeRectCallout">
            <a:avLst>
              <a:gd name="adj1" fmla="val -88699"/>
              <a:gd name="adj2" fmla="val 1649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_UNIX: UNIX domain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_INET: Internet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_NS: Xerox 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3733920"/>
            <a:ext cx="4267080" cy="914400"/>
          </a:xfrm>
          <a:prstGeom prst="wedgeRectCallout">
            <a:avLst>
              <a:gd name="adj1" fmla="val -81958"/>
              <a:gd name="adj2" fmla="val -5416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_STREAM: TCP stream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_DGRAM: UDP Datagram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_RAW: Raw IP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01880" y="23223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3800" y="33526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480060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addr: a 2-octet address family identifier and then 14-octets of address specific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6440" y="3902040"/>
            <a:ext cx="2282760" cy="924120"/>
          </a:xfrm>
          <a:custGeom>
            <a:avLst/>
            <a:gdLst/>
            <a:ahLst/>
            <a:rect l="l" t="t" r="r" b="b"/>
            <a:pathLst>
              <a:path w="1438" h="582">
                <a:moveTo>
                  <a:pt x="821" y="22"/>
                </a:moveTo>
                <a:cubicBezTo>
                  <a:pt x="723" y="18"/>
                  <a:pt x="642" y="18"/>
                  <a:pt x="550" y="2"/>
                </a:cubicBezTo>
                <a:cubicBezTo>
                  <a:pt x="333" y="7"/>
                  <a:pt x="293" y="0"/>
                  <a:pt x="130" y="49"/>
                </a:cubicBezTo>
                <a:cubicBezTo>
                  <a:pt x="117" y="58"/>
                  <a:pt x="101" y="60"/>
                  <a:pt x="89" y="70"/>
                </a:cubicBezTo>
                <a:cubicBezTo>
                  <a:pt x="70" y="85"/>
                  <a:pt x="58" y="108"/>
                  <a:pt x="35" y="124"/>
                </a:cubicBezTo>
                <a:cubicBezTo>
                  <a:pt x="27" y="156"/>
                  <a:pt x="19" y="184"/>
                  <a:pt x="1" y="212"/>
                </a:cubicBezTo>
                <a:cubicBezTo>
                  <a:pt x="3" y="244"/>
                  <a:pt x="0" y="276"/>
                  <a:pt x="8" y="307"/>
                </a:cubicBezTo>
                <a:cubicBezTo>
                  <a:pt x="14" y="330"/>
                  <a:pt x="62" y="374"/>
                  <a:pt x="75" y="388"/>
                </a:cubicBezTo>
                <a:cubicBezTo>
                  <a:pt x="93" y="406"/>
                  <a:pt x="108" y="427"/>
                  <a:pt x="130" y="442"/>
                </a:cubicBezTo>
                <a:cubicBezTo>
                  <a:pt x="203" y="490"/>
                  <a:pt x="296" y="505"/>
                  <a:pt x="380" y="530"/>
                </a:cubicBezTo>
                <a:cubicBezTo>
                  <a:pt x="1111" y="525"/>
                  <a:pt x="937" y="582"/>
                  <a:pt x="1255" y="503"/>
                </a:cubicBezTo>
                <a:cubicBezTo>
                  <a:pt x="1270" y="493"/>
                  <a:pt x="1288" y="488"/>
                  <a:pt x="1302" y="476"/>
                </a:cubicBezTo>
                <a:cubicBezTo>
                  <a:pt x="1308" y="471"/>
                  <a:pt x="1310" y="461"/>
                  <a:pt x="1316" y="456"/>
                </a:cubicBezTo>
                <a:cubicBezTo>
                  <a:pt x="1328" y="447"/>
                  <a:pt x="1344" y="444"/>
                  <a:pt x="1356" y="436"/>
                </a:cubicBezTo>
                <a:cubicBezTo>
                  <a:pt x="1371" y="414"/>
                  <a:pt x="1389" y="397"/>
                  <a:pt x="1404" y="375"/>
                </a:cubicBezTo>
                <a:cubicBezTo>
                  <a:pt x="1421" y="314"/>
                  <a:pt x="1396" y="396"/>
                  <a:pt x="1424" y="334"/>
                </a:cubicBezTo>
                <a:cubicBezTo>
                  <a:pt x="1430" y="321"/>
                  <a:pt x="1438" y="293"/>
                  <a:pt x="1438" y="293"/>
                </a:cubicBezTo>
                <a:cubicBezTo>
                  <a:pt x="1430" y="221"/>
                  <a:pt x="1406" y="154"/>
                  <a:pt x="1329" y="131"/>
                </a:cubicBezTo>
                <a:cubicBezTo>
                  <a:pt x="1304" y="90"/>
                  <a:pt x="1331" y="124"/>
                  <a:pt x="1295" y="104"/>
                </a:cubicBezTo>
                <a:cubicBezTo>
                  <a:pt x="1210" y="57"/>
                  <a:pt x="1199" y="42"/>
                  <a:pt x="1092" y="36"/>
                </a:cubicBezTo>
                <a:cubicBezTo>
                  <a:pt x="1029" y="33"/>
                  <a:pt x="965" y="31"/>
                  <a:pt x="902" y="29"/>
                </a:cubicBezTo>
                <a:cubicBezTo>
                  <a:pt x="839" y="21"/>
                  <a:pt x="866" y="22"/>
                  <a:pt x="821" y="22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14240" y="4648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724280"/>
            <a:ext cx="4267080" cy="1600200"/>
          </a:xfrm>
          <a:prstGeom prst="wedgeRectCallout">
            <a:avLst>
              <a:gd name="adj1" fmla="val -93824"/>
              <a:gd name="adj2" fmla="val -7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sockaddr_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u_short sin_family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AF_INE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u_short sin_port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16 bit port #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in_addr sin_addr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32 bit IP add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har sin_zero[8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rms and Concep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ample Routines and Librar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dvanced Topic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cket: Connection-orient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25909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30481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35053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39625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47242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51814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59436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3600" y="28954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41911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47242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51814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59436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971440" y="4343400"/>
            <a:ext cx="297180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81280" y="4876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81280" y="5334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96252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until connection from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82320" y="25509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16640" y="25509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06760" y="2057400"/>
            <a:ext cx="674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038480" y="2361960"/>
            <a:ext cx="304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22400" y="178920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file ope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7840" y="2590920"/>
            <a:ext cx="549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5181480" y="2362320"/>
            <a:ext cx="457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cket: Connectionl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ent-Server is simpl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25909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30481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41148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vfro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51814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t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28954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33526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3600" y="45720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t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4864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vfro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971440" y="4724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581280" y="5334120"/>
            <a:ext cx="2362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96252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until data from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82320" y="25509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16640" y="25509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ent: socket(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ocket(int domain, int type, int protocol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, domain, type, protocol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main = AF_INE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always the same *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= SOCK_STREAM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TCP *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= 0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socket(domain, type, protocol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 &lt; 0) ERROR(“Cannot create socket!”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ent: connect(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SMTP_PORT 2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IP_ADDRESS 0xF9E50F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249.229.15.18 *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sockaddr_in sin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nnect(int s, struct sockaddr* name, int namelen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tus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n.sin_family = AF_INE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n.sin_port = htons(SMTP_PORT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n.sin_addr = htonl(IP_ADDRESS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us = connect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(struct sockaddr*)sin, sizeof(sin)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tus != 0) ERROR(“Cannot connect to other side!”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ent: read() / write(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buf[LINELEN+1]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 (n = read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f, LINELEN) ) &gt; 0) {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write(buf, n, 1, stdout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!fgets(buf, LINELEN, stdin)) break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e(s, buf, strlen(buf)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0) ERROR(“Cannot read from socket!”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ent: close(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= close(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atus != 0) ERROR(“Cannot close socket!”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er: socket(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ocket(int domain, int type, int protocol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, domain, type, protocol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main = AF_INE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always the same *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= SOCK_STREAM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TCP *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= 0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socket(domain, type, protocol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 &lt; 0) ERROR(“Cannot create socket!”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er: Local address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define SMTP_PORT 2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define IP_ADDRESS 0xF9E50F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249.229.15.18 *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sockaddr_in sin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n.sin_family = AF_INE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n.sin_port = htons(SMTP_PORT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n.sin_addr = INADDR_ANY; /* Don’t care about addr *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er: bind() &amp; listen(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define MAX_BACKLOG 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ind(int s, struct sockaddr* name, int namelen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listen(int s, int backlog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tatu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= bind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(struct sockaddr*)sin, sizeof(sin)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atus != 0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ROR(“Cannot bind to local address!”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= listen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MAX_BACKLOG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atus != 0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ROR(“Cannot ask kernel to listen!”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er: Blocking accept(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ccept(int s, struct sockaddr* addr, int* addrlen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tatus, addrlen, v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sockaddr_in sin2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rlen = sizeof(sin2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accept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(struct sockaddr*)&amp;sin2, &amp;addrlen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s &lt; 0) ERROR(“Cannot accept connection!”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rms and Concep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CP/IP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er: read() / write(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Get line from client *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f, 256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Write to client *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f, strlen(buf)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er: close(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= close(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atus != 0) ERROR(“Cannot close socket!”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y doing UDP on your own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yte Or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lways use byte order routines to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ok inside protocol head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ll protocol routin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_lo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on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u_long hostlong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_sho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on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u_short hostshort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_lo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toh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u_long netlong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_sho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toh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u_short netshort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et &amp; netdb routi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ternet address convers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*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“249.229.15.18” to 0xF9E50F1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_lo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et_add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har *cp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*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struct in_addr in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about converting “www.asu.edu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 DNS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hostbyname(),gethostbyaddr(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dvanced Top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CP/IP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teway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acilitate communication between different networks in an internetwor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wo approache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anslation bas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anslate headers and protoco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SI X.25/X.7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ified Network Lay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ndards Proc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volves people from different organiz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ETF (Internet Engineering Task Force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ets every 4 month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hort-lived groups (usually &lt;2 year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ough consensus” (no voting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blishes RFC (Request For Comment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net Drafts precede an RF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Pv4 Addres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v4 (1981 RFC-791) had 32 bit addr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es divided into cla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A: start with 0, next 7 bits- network id, last 24 bits-host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B: start with 10, next 14 bits-network id, 16 bits – host 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C: start with 110, next 21 bits-network id, 8 bits – host 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lass D: start with 1110, next 28 bits for group addres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Addresses starting with 1111 are reserved for experi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984 – Subnet masks introduc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990s – IETF deployed CIDR (Classless Inter-Domain Routing) becaus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rebuchet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lass B addresses were running ou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P Fragmentation &amp; Reassembl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fferent networks have different MTU (Maximum Transmission Unit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3429000"/>
            <a:ext cx="2133720" cy="60948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3124080"/>
            <a:ext cx="1600200" cy="838440"/>
          </a:xfrm>
          <a:prstGeom prst="cloudCallout">
            <a:avLst>
              <a:gd name="adj1" fmla="val -22319"/>
              <a:gd name="adj2" fmla="val 1098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4320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3124080"/>
            <a:ext cx="1600200" cy="838440"/>
          </a:xfrm>
          <a:prstGeom prst="cloudCallout">
            <a:avLst>
              <a:gd name="adj1" fmla="val -25097"/>
              <a:gd name="adj2" fmla="val 13634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21440" y="4419720"/>
            <a:ext cx="4815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P header flag = DO NOT FRA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iscard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gment packet into MTU-sized fra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dern TCP receivers implement a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delayed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K (receiver to sender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K alternate packet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in-sequence arriv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st ACK at least once every 500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K contains window si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pace available in receivers socket buff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fferent from congestion control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nder will wait for ACKs. Uses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timeou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meout value calculated as a running average of RTT (Round Trip Time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Famous OSI mode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905120"/>
            <a:ext cx="190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438280"/>
            <a:ext cx="190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971800"/>
            <a:ext cx="190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505320"/>
            <a:ext cx="190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038480"/>
            <a:ext cx="190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572000"/>
            <a:ext cx="190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105520"/>
            <a:ext cx="190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4038480"/>
            <a:ext cx="190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572000"/>
            <a:ext cx="190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105520"/>
            <a:ext cx="190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5720" y="1905120"/>
            <a:ext cx="190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2438280"/>
            <a:ext cx="190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971800"/>
            <a:ext cx="190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3505320"/>
            <a:ext cx="190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4038480"/>
            <a:ext cx="190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4572000"/>
            <a:ext cx="190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5105520"/>
            <a:ext cx="190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05740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25909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312408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365760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1911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47242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257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419112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472428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52578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ing Too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cpdum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laces device driver into promiscuous mo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ceive all transmitted and received packe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lter ones of user’s inter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user proce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g / nslookup / whoi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NS lookup too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Query Address regist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ing / tracerou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MP “Echo Request” waits for “Echo Reply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t an idea about route from a host to a destin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nald A. Curry, “Using C on the UNIX System”,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O’Reilly and Associat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uglas Comer, “Internetworking with TCP/IP Volume III”,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Prentice-Hall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sually TCP/IP has 4 lay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90512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(HTTP/SMTP/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200400"/>
            <a:ext cx="19051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CP/U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038480"/>
            <a:ext cx="19051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510552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 &amp;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038480"/>
            <a:ext cx="19047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5105520"/>
            <a:ext cx="1904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 &amp;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1905120"/>
            <a:ext cx="1904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(HTTP/SMTP/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3200400"/>
            <a:ext cx="19047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CP/U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4038480"/>
            <a:ext cx="19047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105520"/>
            <a:ext cx="1904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 &amp;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05740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35053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41911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4100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19112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41008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CP Over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ansmission Control Protoco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rst defined in RFC-793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nection-oriented protoco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d-to-end stream of da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ser Datagram Protoco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rst defined in RFC-768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nectionless protoco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nreliable datagram delive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is Client-Server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CP/IP networks are client-serv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pplication-to-Applic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ter-Process Communication (IPC) used between Client and Server process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pular TCP/IP based IPC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ckets (Berkeley UNIX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LI (AT&amp;T UNIX System 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cke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S independent, standardized AP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unication end-poi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kes the network look like a file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38280" y="3276720"/>
          <a:ext cx="5268960" cy="2587680"/>
        </p:xfrm>
        <a:graphic>
          <a:graphicData uri="http://schemas.openxmlformats.org/drawingml/2006/table">
            <a:tbl>
              <a:tblPr/>
              <a:tblGrid>
                <a:gridCol w="2233800"/>
                <a:gridCol w="303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Sys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k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EN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EN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n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n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CEIVE / 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ND / WR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5:27:41Z</dcterms:created>
  <dc:creator>Mujtaba Khambatti</dc:creator>
  <dc:description/>
  <dc:language>en-US</dc:language>
  <cp:lastModifiedBy>Mujtaba Khambatti</cp:lastModifiedBy>
  <dcterms:modified xsi:type="dcterms:W3CDTF">2003-10-05T21:12:20Z</dcterms:modified>
  <cp:revision>23</cp:revision>
  <dc:subject/>
  <dc:title>TCP/IP</dc:title>
</cp:coreProperties>
</file>