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4827588" cy="355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200" y="176832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4816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200" y="17683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48160" y="17683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905840" y="63648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345840" y="63648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200" y="17683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1905840" y="17683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345840" y="17683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6200" y="636480"/>
            <a:ext cx="4257720" cy="21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425772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648160" y="63648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6200" y="222120"/>
            <a:ext cx="4257720" cy="31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648160" y="63648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200" y="17683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6200" y="636480"/>
            <a:ext cx="4257720" cy="21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64816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648160" y="17683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64816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200" y="176832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200" y="176832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64816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200" y="17683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648160" y="17683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905840" y="63648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345840" y="63648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200" y="17683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1905840" y="17683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345840" y="1768320"/>
            <a:ext cx="137088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425772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648160" y="63648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6200" y="222120"/>
            <a:ext cx="4257720" cy="31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648160" y="63648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00" y="17683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207756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816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48160" y="176832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48160" y="636480"/>
            <a:ext cx="207756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200" y="1768320"/>
            <a:ext cx="4257720" cy="1033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677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Click to edit the title text format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200" y="636480"/>
            <a:ext cx="425772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63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800280" indent="-17316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976320" indent="-17460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976320" indent="-174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976320" indent="-1746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62040" y="3075120"/>
            <a:ext cx="3581280" cy="75600"/>
            <a:chOff x="662040" y="3075120"/>
            <a:chExt cx="3581280" cy="75600"/>
          </a:xfrm>
        </p:grpSpPr>
        <p:sp>
          <p:nvSpPr>
            <p:cNvPr id="3" name=""/>
            <p:cNvSpPr/>
            <p:nvPr/>
          </p:nvSpPr>
          <p:spPr>
            <a:xfrm>
              <a:off x="662040" y="3112920"/>
              <a:ext cx="7596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38000" y="3075120"/>
              <a:ext cx="76320" cy="378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4320" y="3112920"/>
              <a:ext cx="7632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0640" y="3075120"/>
              <a:ext cx="7596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66600" y="3112920"/>
              <a:ext cx="76320" cy="37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42920" y="3075120"/>
              <a:ext cx="7632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119240" y="3112920"/>
              <a:ext cx="7596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95200" y="3075120"/>
              <a:ext cx="76320" cy="378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71520" y="3112920"/>
              <a:ext cx="7632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47840" y="3075120"/>
              <a:ext cx="7596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23800" y="3112920"/>
              <a:ext cx="76320" cy="37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500120" y="3075120"/>
              <a:ext cx="76320" cy="378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576440" y="3112920"/>
              <a:ext cx="7596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652400" y="30751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728720" y="3112920"/>
              <a:ext cx="76320" cy="378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805040" y="3075120"/>
              <a:ext cx="7596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881000" y="3112920"/>
              <a:ext cx="7632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957320" y="30751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33640" y="3112920"/>
              <a:ext cx="7596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09600" y="3075120"/>
              <a:ext cx="76320" cy="37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185920" y="3112920"/>
              <a:ext cx="7632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262240" y="3075120"/>
              <a:ext cx="7596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38200" y="3112920"/>
              <a:ext cx="76320" cy="378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414520" y="30751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490840" y="3112920"/>
              <a:ext cx="7596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566800" y="30751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643120" y="31129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719440" y="3075120"/>
              <a:ext cx="7596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795400" y="31129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871720" y="3075120"/>
              <a:ext cx="76320" cy="37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948040" y="3112920"/>
              <a:ext cx="7596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024000" y="30751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100320" y="31129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176640" y="3075120"/>
              <a:ext cx="7596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252600" y="3112920"/>
              <a:ext cx="76320" cy="378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328920" y="3075120"/>
              <a:ext cx="76320" cy="37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405240" y="3112920"/>
              <a:ext cx="7596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481200" y="30751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557520" y="3112920"/>
              <a:ext cx="76320" cy="378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633840" y="3075120"/>
              <a:ext cx="7596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9800" y="3112920"/>
              <a:ext cx="7632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86120" y="30751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62440" y="3112920"/>
              <a:ext cx="7596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8400" y="30751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14720" y="3112920"/>
              <a:ext cx="76320" cy="378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91040" y="3075120"/>
              <a:ext cx="75960" cy="3780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67000" y="3112920"/>
              <a:ext cx="76320" cy="37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0" y="315108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Lucida Sans"/>
              </a:rPr>
              <a:t>Distributed Operating Systems Gro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18220"/>
                </a:solidFill>
                <a:latin typeface="AGaramond"/>
              </a:rPr>
              <a:t>A</a:t>
            </a:r>
            <a:r>
              <a:rPr b="1" lang="en-US" sz="800" spc="-1" strike="noStrike">
                <a:solidFill>
                  <a:srgbClr val="418220"/>
                </a:solidFill>
                <a:latin typeface="AGaramond"/>
              </a:rPr>
              <a:t>RIZONA</a:t>
            </a:r>
            <a:r>
              <a:rPr b="1" lang="en-US" sz="900" spc="-1" strike="noStrike">
                <a:solidFill>
                  <a:srgbClr val="418220"/>
                </a:solidFill>
                <a:latin typeface="AGaramond"/>
              </a:rPr>
              <a:t> S</a:t>
            </a:r>
            <a:r>
              <a:rPr b="1" lang="en-US" sz="800" spc="-1" strike="noStrike">
                <a:solidFill>
                  <a:srgbClr val="418220"/>
                </a:solidFill>
                <a:latin typeface="AGaramond"/>
              </a:rPr>
              <a:t>TATE</a:t>
            </a:r>
            <a:r>
              <a:rPr b="1" lang="en-US" sz="900" spc="-1" strike="noStrike">
                <a:solidFill>
                  <a:srgbClr val="418220"/>
                </a:solidFill>
                <a:latin typeface="AGaramond"/>
              </a:rPr>
              <a:t> U</a:t>
            </a:r>
            <a:r>
              <a:rPr b="1" lang="en-US" sz="800" spc="-1" strike="noStrike">
                <a:solidFill>
                  <a:srgbClr val="418220"/>
                </a:solidFill>
                <a:latin typeface="AGaramond"/>
              </a:rPr>
              <a:t>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7240" y="838080"/>
            <a:ext cx="3643200" cy="67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Click to edit the title text format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41200" y="831960"/>
            <a:ext cx="4344480" cy="20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0" algn="ctr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441360" algn="ctr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  <a:p>
            <a:pPr lvl="3" marL="627120" algn="ctr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4" marL="801720" algn="ctr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5" marL="801720"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6" marL="801720"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.yahoo.com/M=224039.1975710.3458970.1912433/D=cb/P=m2b2qmi010000000/S=1705000001:HEAD/A=1028592/R=0/*http://groups.yahoo.com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rd.yahoo.com/M=224039.1981973.3464238.1918470/D=chat/P=m2e2j91111000500/S=19401242:HEAD/A=1028570/R=0/*http://chat.yahoo.com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icq.com/products/webguide.html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hyperlink" Target="http://g.msn.com/2GRENUS/2_8098_01?client=1" TargetMode="External"/><Relationship Id="rId13" Type="http://schemas.openxmlformats.org/officeDocument/2006/relationships/image" Target="../media/image10.png"/><Relationship Id="rId14" Type="http://schemas.openxmlformats.org/officeDocument/2006/relationships/hyperlink" Target="http://dir.webring.com/rw" TargetMode="External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7240" y="409680"/>
            <a:ext cx="3643200" cy="7603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rebuchet MS"/>
              </a:rPr>
              <a:t>P2P Communities:</a:t>
            </a:r>
            <a:br>
              <a:rPr sz="2100"/>
            </a:br>
            <a:r>
              <a:rPr b="0" lang="en-US" sz="2400" spc="-1" strike="noStrike">
                <a:solidFill>
                  <a:srgbClr val="5f5f5f"/>
                </a:solidFill>
                <a:latin typeface="Trebuchet MS"/>
              </a:rPr>
              <a:t>Formation &amp; Discovery</a:t>
            </a:r>
            <a:endParaRPr b="1" lang="en-US" sz="24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57240" y="2084040"/>
            <a:ext cx="3379680" cy="8730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Mujtaba Khambatti, Kyung Ryu,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artha Dasgupta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it-IT" sz="1500" spc="-1" strike="noStrike">
                <a:solidFill>
                  <a:srgbClr val="489024"/>
                </a:solidFill>
                <a:latin typeface="Times New Roman"/>
              </a:rPr>
              <a:t>Arizona State University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66960" y="1550880"/>
            <a:ext cx="3581280" cy="152640"/>
            <a:chOff x="966960" y="1550880"/>
            <a:chExt cx="3581280" cy="152640"/>
          </a:xfrm>
        </p:grpSpPr>
        <p:sp>
          <p:nvSpPr>
            <p:cNvPr id="128" name=""/>
            <p:cNvSpPr/>
            <p:nvPr/>
          </p:nvSpPr>
          <p:spPr>
            <a:xfrm>
              <a:off x="966960" y="1627200"/>
              <a:ext cx="7596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42920" y="1550880"/>
              <a:ext cx="763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9240" y="1627200"/>
              <a:ext cx="7632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95560" y="1550880"/>
              <a:ext cx="7596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71520" y="1627200"/>
              <a:ext cx="76320" cy="7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47840" y="1550880"/>
              <a:ext cx="7632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24160" y="1627200"/>
              <a:ext cx="7596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00120" y="1550880"/>
              <a:ext cx="763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76440" y="1627200"/>
              <a:ext cx="7632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2760" y="1550880"/>
              <a:ext cx="7596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28720" y="1627200"/>
              <a:ext cx="76320" cy="7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05040" y="1550880"/>
              <a:ext cx="763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81360" y="1627200"/>
              <a:ext cx="7596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57320" y="155088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33640" y="1627200"/>
              <a:ext cx="763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09960" y="1550880"/>
              <a:ext cx="7596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85920" y="1627200"/>
              <a:ext cx="7632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62240" y="155088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38560" y="1627200"/>
              <a:ext cx="7596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14520" y="1550880"/>
              <a:ext cx="76320" cy="7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90840" y="1627200"/>
              <a:ext cx="7632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67160" y="1550880"/>
              <a:ext cx="7596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43120" y="1627200"/>
              <a:ext cx="763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19440" y="155088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5760" y="1627200"/>
              <a:ext cx="7596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71720" y="155088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8040" y="162720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24360" y="1550880"/>
              <a:ext cx="7596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00320" y="162720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76640" y="1550880"/>
              <a:ext cx="76320" cy="7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52960" y="1627200"/>
              <a:ext cx="7596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8920" y="155088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05240" y="162720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81560" y="1550880"/>
              <a:ext cx="7596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57520" y="1627200"/>
              <a:ext cx="763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33840" y="1550880"/>
              <a:ext cx="76320" cy="7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10160" y="1627200"/>
              <a:ext cx="7596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6120" y="155088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62440" y="1627200"/>
              <a:ext cx="763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38760" y="1550880"/>
              <a:ext cx="7596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14720" y="1627200"/>
              <a:ext cx="7632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91040" y="155088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67360" y="1627200"/>
              <a:ext cx="7596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43320" y="155088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19640" y="1627200"/>
              <a:ext cx="763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95960" y="1550880"/>
              <a:ext cx="75960" cy="76320"/>
            </a:xfrm>
            <a:prstGeom prst="rect">
              <a:avLst/>
            </a:prstGeom>
            <a:solidFill>
              <a:srgbClr val="8b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71920" y="1627200"/>
              <a:ext cx="76320" cy="763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Definitions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6200" y="636120"/>
            <a:ext cx="4257720" cy="23918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Outlink weight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Weight for each claimed attribu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Percentage of outgoing connections that can reach other peers claiming same attribu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At most one indirection is permitt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Inlink weight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Weight for each claimed attribu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Percentage of incoming connections from other peers claiming same attribu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Only direct connection permitt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Weight Calculation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539" name=""/>
          <p:cNvSpPr/>
          <p:nvPr/>
        </p:nvSpPr>
        <p:spPr>
          <a:xfrm>
            <a:off x="2514600" y="7621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838080" y="990720"/>
            <a:ext cx="1752840" cy="1830960"/>
            <a:chOff x="838080" y="990720"/>
            <a:chExt cx="1752840" cy="1830960"/>
          </a:xfrm>
        </p:grpSpPr>
        <p:grpSp>
          <p:nvGrpSpPr>
            <p:cNvPr id="541" name=""/>
            <p:cNvGrpSpPr/>
            <p:nvPr/>
          </p:nvGrpSpPr>
          <p:grpSpPr>
            <a:xfrm>
              <a:off x="838080" y="990720"/>
              <a:ext cx="1265760" cy="1135800"/>
              <a:chOff x="838080" y="990720"/>
              <a:chExt cx="1265760" cy="11358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896760" y="1032840"/>
                <a:ext cx="722880" cy="624600"/>
                <a:chOff x="896760" y="1032840"/>
                <a:chExt cx="722880" cy="624600"/>
              </a:xfrm>
            </p:grpSpPr>
            <p:sp>
              <p:nvSpPr>
                <p:cNvPr id="543" name=""/>
                <p:cNvSpPr/>
                <p:nvPr/>
              </p:nvSpPr>
              <p:spPr>
                <a:xfrm flipH="1">
                  <a:off x="1023120" y="1134720"/>
                  <a:ext cx="4233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1374480" y="1127520"/>
                  <a:ext cx="86760" cy="52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469160" y="1115640"/>
                  <a:ext cx="150480" cy="45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>
                  <a:off x="953640" y="1032840"/>
                  <a:ext cx="507240" cy="105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896760" y="1134720"/>
                  <a:ext cx="55728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1333080" y="1656720"/>
                <a:ext cx="72360" cy="698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38080" y="1271520"/>
                <a:ext cx="69840" cy="702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969120" y="1558080"/>
                <a:ext cx="69840" cy="702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85240" y="990720"/>
                <a:ext cx="69840" cy="702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434960" y="1073880"/>
                <a:ext cx="70200" cy="698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36560" y="1634400"/>
                <a:ext cx="215640" cy="36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31160" y="1618560"/>
                <a:ext cx="38520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1619280" y="1425600"/>
                <a:ext cx="375840" cy="18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1308600" y="1619640"/>
                <a:ext cx="33336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1560240" y="1625040"/>
                <a:ext cx="77760" cy="42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" name=""/>
              <p:cNvGrpSpPr/>
              <p:nvPr/>
            </p:nvGrpSpPr>
            <p:grpSpPr>
              <a:xfrm>
                <a:off x="1251360" y="1371960"/>
                <a:ext cx="852480" cy="754560"/>
                <a:chOff x="1251360" y="1371960"/>
                <a:chExt cx="852480" cy="754560"/>
              </a:xfrm>
            </p:grpSpPr>
            <p:sp>
              <p:nvSpPr>
                <p:cNvPr id="559" name=""/>
                <p:cNvSpPr/>
                <p:nvPr/>
              </p:nvSpPr>
              <p:spPr>
                <a:xfrm rot="9063000">
                  <a:off x="1992240" y="1384560"/>
                  <a:ext cx="70200" cy="70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rot="9037200">
                  <a:off x="2018880" y="1659240"/>
                  <a:ext cx="72360" cy="70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9063000">
                  <a:off x="1523520" y="2044080"/>
                  <a:ext cx="69840" cy="69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9063000">
                  <a:off x="1832760" y="1988640"/>
                  <a:ext cx="70200" cy="69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rot="9063000">
                  <a:off x="1263960" y="1927800"/>
                  <a:ext cx="69840" cy="69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1593360" y="1560600"/>
                <a:ext cx="70200" cy="702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914400" y="25146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utlink W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895480" y="838080"/>
            <a:ext cx="1932120" cy="1983600"/>
            <a:chOff x="2895480" y="838080"/>
            <a:chExt cx="1932120" cy="1983600"/>
          </a:xfrm>
        </p:grpSpPr>
        <p:sp>
          <p:nvSpPr>
            <p:cNvPr id="567" name=""/>
            <p:cNvSpPr/>
            <p:nvPr/>
          </p:nvSpPr>
          <p:spPr>
            <a:xfrm flipV="1">
              <a:off x="3827520" y="853560"/>
              <a:ext cx="2761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3585960" y="1374840"/>
              <a:ext cx="52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47960" y="1374840"/>
              <a:ext cx="8280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3287520" y="1062000"/>
              <a:ext cx="2682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953800" y="1311120"/>
              <a:ext cx="34452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43480" y="1706400"/>
              <a:ext cx="72720" cy="6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5480" y="1414440"/>
              <a:ext cx="69840" cy="6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49640" y="838080"/>
              <a:ext cx="69840" cy="6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18040" y="1019160"/>
              <a:ext cx="69840" cy="6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45000" y="1125360"/>
              <a:ext cx="69840" cy="70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32280" y="1841760"/>
              <a:ext cx="128520" cy="2012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22280" y="1703880"/>
              <a:ext cx="202680" cy="32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3770640" y="1843560"/>
              <a:ext cx="45360" cy="249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9037800">
              <a:off x="4229280" y="1709640"/>
              <a:ext cx="72720" cy="69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9063000">
              <a:off x="3733920" y="2092320"/>
              <a:ext cx="69840" cy="69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9063000">
              <a:off x="4043520" y="2036880"/>
              <a:ext cx="69840" cy="69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03760" y="1611360"/>
              <a:ext cx="69840" cy="6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3709800" y="914400"/>
              <a:ext cx="30924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68520" y="1074600"/>
              <a:ext cx="27972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3154320" y="1172880"/>
              <a:ext cx="49680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613320" y="1193400"/>
              <a:ext cx="6480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3688920" y="1196640"/>
              <a:ext cx="10332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801960" y="1682640"/>
              <a:ext cx="41400" cy="2397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3838680" y="1677960"/>
              <a:ext cx="141120" cy="241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>
              <a:off x="3831840" y="1682640"/>
              <a:ext cx="304920" cy="381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51080" y="25146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link W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Formation of Communities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66200" y="636120"/>
            <a:ext cx="4257720" cy="5947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The need to escalate attributes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5" name="BS00580_" descr=""/>
          <p:cNvPicPr/>
          <p:nvPr/>
        </p:nvPicPr>
        <p:blipFill>
          <a:blip r:embed="rId2"/>
          <a:stretch/>
        </p:blipFill>
        <p:spPr>
          <a:xfrm>
            <a:off x="3809880" y="1828800"/>
            <a:ext cx="711360" cy="60012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2362320" y="1219320"/>
            <a:ext cx="1825560" cy="1650600"/>
            <a:chOff x="2362320" y="1219320"/>
            <a:chExt cx="1825560" cy="1650600"/>
          </a:xfrm>
        </p:grpSpPr>
        <p:sp>
          <p:nvSpPr>
            <p:cNvPr id="597" name=""/>
            <p:cNvSpPr/>
            <p:nvPr/>
          </p:nvSpPr>
          <p:spPr>
            <a:xfrm>
              <a:off x="2362320" y="1433160"/>
              <a:ext cx="684000" cy="46836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laimed: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3300"/>
                  </a:solidFill>
                  <a:latin typeface="Arial"/>
                </a:rPr>
                <a:t>Fina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3300"/>
                  </a:solidFill>
                  <a:latin typeface="Arial"/>
                </a:rPr>
                <a:t>Cincinnat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62320" y="2039400"/>
              <a:ext cx="684000" cy="8305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rsonal: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3300"/>
                  </a:solidFill>
                  <a:latin typeface="Arial"/>
                </a:rPr>
                <a:t>Box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3300"/>
                  </a:solidFill>
                  <a:latin typeface="Arial"/>
                </a:rPr>
                <a:t>Cincinnat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3300"/>
                  </a:solidFill>
                  <a:latin typeface="Arial"/>
                </a:rPr>
                <a:t>Fina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3300"/>
                  </a:solidFill>
                  <a:latin typeface="Arial"/>
                </a:rPr>
                <a:t>Gol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3300"/>
                  </a:solidFill>
                  <a:latin typeface="Arial"/>
                </a:rPr>
                <a:t>Star Wa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48120" y="1219320"/>
              <a:ext cx="1122120" cy="1641240"/>
            </a:xfrm>
            <a:custGeom>
              <a:avLst/>
              <a:gdLst/>
              <a:ahLst/>
              <a:rect l="l" t="t" r="r" b="b"/>
              <a:pathLst>
                <a:path w="2393" h="2164">
                  <a:moveTo>
                    <a:pt x="0" y="248"/>
                  </a:moveTo>
                  <a:lnTo>
                    <a:pt x="335" y="111"/>
                  </a:lnTo>
                  <a:lnTo>
                    <a:pt x="613" y="44"/>
                  </a:lnTo>
                  <a:cubicBezTo>
                    <a:pt x="686" y="0"/>
                    <a:pt x="632" y="29"/>
                    <a:pt x="835" y="40"/>
                  </a:cubicBezTo>
                  <a:cubicBezTo>
                    <a:pt x="943" y="46"/>
                    <a:pt x="1042" y="100"/>
                    <a:pt x="1147" y="115"/>
                  </a:cubicBezTo>
                  <a:cubicBezTo>
                    <a:pt x="1195" y="139"/>
                    <a:pt x="1247" y="151"/>
                    <a:pt x="1298" y="167"/>
                  </a:cubicBezTo>
                  <a:cubicBezTo>
                    <a:pt x="1329" y="177"/>
                    <a:pt x="1357" y="197"/>
                    <a:pt x="1388" y="205"/>
                  </a:cubicBezTo>
                  <a:cubicBezTo>
                    <a:pt x="1415" y="222"/>
                    <a:pt x="1444" y="231"/>
                    <a:pt x="1473" y="243"/>
                  </a:cubicBezTo>
                  <a:cubicBezTo>
                    <a:pt x="1502" y="255"/>
                    <a:pt x="1529" y="276"/>
                    <a:pt x="1558" y="290"/>
                  </a:cubicBezTo>
                  <a:cubicBezTo>
                    <a:pt x="1585" y="304"/>
                    <a:pt x="1624" y="343"/>
                    <a:pt x="1652" y="351"/>
                  </a:cubicBezTo>
                  <a:cubicBezTo>
                    <a:pt x="1678" y="369"/>
                    <a:pt x="1702" y="389"/>
                    <a:pt x="1728" y="408"/>
                  </a:cubicBezTo>
                  <a:cubicBezTo>
                    <a:pt x="1741" y="417"/>
                    <a:pt x="1757" y="422"/>
                    <a:pt x="1770" y="432"/>
                  </a:cubicBezTo>
                  <a:cubicBezTo>
                    <a:pt x="1787" y="445"/>
                    <a:pt x="1796" y="463"/>
                    <a:pt x="1817" y="469"/>
                  </a:cubicBezTo>
                  <a:cubicBezTo>
                    <a:pt x="1835" y="487"/>
                    <a:pt x="1855" y="503"/>
                    <a:pt x="1879" y="512"/>
                  </a:cubicBezTo>
                  <a:cubicBezTo>
                    <a:pt x="1902" y="535"/>
                    <a:pt x="1935" y="554"/>
                    <a:pt x="1964" y="569"/>
                  </a:cubicBezTo>
                  <a:cubicBezTo>
                    <a:pt x="1973" y="583"/>
                    <a:pt x="2002" y="602"/>
                    <a:pt x="2002" y="602"/>
                  </a:cubicBezTo>
                  <a:cubicBezTo>
                    <a:pt x="2018" y="627"/>
                    <a:pt x="2047" y="651"/>
                    <a:pt x="2068" y="672"/>
                  </a:cubicBezTo>
                  <a:cubicBezTo>
                    <a:pt x="2131" y="733"/>
                    <a:pt x="2194" y="795"/>
                    <a:pt x="2256" y="857"/>
                  </a:cubicBezTo>
                  <a:cubicBezTo>
                    <a:pt x="2288" y="889"/>
                    <a:pt x="2319" y="919"/>
                    <a:pt x="2351" y="951"/>
                  </a:cubicBezTo>
                  <a:cubicBezTo>
                    <a:pt x="2363" y="963"/>
                    <a:pt x="2374" y="975"/>
                    <a:pt x="2384" y="989"/>
                  </a:cubicBezTo>
                  <a:cubicBezTo>
                    <a:pt x="2387" y="993"/>
                    <a:pt x="2393" y="1003"/>
                    <a:pt x="2393" y="1003"/>
                  </a:cubicBezTo>
                  <a:cubicBezTo>
                    <a:pt x="2374" y="1001"/>
                    <a:pt x="2350" y="1002"/>
                    <a:pt x="2332" y="993"/>
                  </a:cubicBezTo>
                  <a:cubicBezTo>
                    <a:pt x="2286" y="970"/>
                    <a:pt x="2252" y="927"/>
                    <a:pt x="2209" y="899"/>
                  </a:cubicBezTo>
                  <a:cubicBezTo>
                    <a:pt x="2198" y="881"/>
                    <a:pt x="2159" y="854"/>
                    <a:pt x="2138" y="847"/>
                  </a:cubicBezTo>
                  <a:cubicBezTo>
                    <a:pt x="2124" y="833"/>
                    <a:pt x="2114" y="826"/>
                    <a:pt x="2096" y="819"/>
                  </a:cubicBezTo>
                  <a:cubicBezTo>
                    <a:pt x="2080" y="801"/>
                    <a:pt x="2057" y="796"/>
                    <a:pt x="2039" y="781"/>
                  </a:cubicBezTo>
                  <a:cubicBezTo>
                    <a:pt x="1998" y="746"/>
                    <a:pt x="1949" y="728"/>
                    <a:pt x="1898" y="710"/>
                  </a:cubicBezTo>
                  <a:cubicBezTo>
                    <a:pt x="1880" y="703"/>
                    <a:pt x="1865" y="692"/>
                    <a:pt x="1846" y="687"/>
                  </a:cubicBezTo>
                  <a:cubicBezTo>
                    <a:pt x="1826" y="673"/>
                    <a:pt x="1809" y="670"/>
                    <a:pt x="1784" y="663"/>
                  </a:cubicBezTo>
                  <a:cubicBezTo>
                    <a:pt x="1773" y="660"/>
                    <a:pt x="1751" y="654"/>
                    <a:pt x="1751" y="654"/>
                  </a:cubicBezTo>
                  <a:cubicBezTo>
                    <a:pt x="1720" y="632"/>
                    <a:pt x="1670" y="626"/>
                    <a:pt x="1633" y="616"/>
                  </a:cubicBezTo>
                  <a:cubicBezTo>
                    <a:pt x="1607" y="609"/>
                    <a:pt x="1580" y="597"/>
                    <a:pt x="1553" y="592"/>
                  </a:cubicBezTo>
                  <a:cubicBezTo>
                    <a:pt x="1508" y="583"/>
                    <a:pt x="1461" y="583"/>
                    <a:pt x="1416" y="578"/>
                  </a:cubicBezTo>
                  <a:cubicBezTo>
                    <a:pt x="1326" y="580"/>
                    <a:pt x="1243" y="579"/>
                    <a:pt x="1156" y="592"/>
                  </a:cubicBezTo>
                  <a:cubicBezTo>
                    <a:pt x="1105" y="600"/>
                    <a:pt x="1056" y="617"/>
                    <a:pt x="1005" y="625"/>
                  </a:cubicBezTo>
                  <a:cubicBezTo>
                    <a:pt x="958" y="642"/>
                    <a:pt x="910" y="653"/>
                    <a:pt x="864" y="672"/>
                  </a:cubicBezTo>
                  <a:cubicBezTo>
                    <a:pt x="854" y="676"/>
                    <a:pt x="845" y="683"/>
                    <a:pt x="835" y="687"/>
                  </a:cubicBezTo>
                  <a:cubicBezTo>
                    <a:pt x="824" y="691"/>
                    <a:pt x="802" y="696"/>
                    <a:pt x="802" y="696"/>
                  </a:cubicBezTo>
                  <a:cubicBezTo>
                    <a:pt x="751" y="729"/>
                    <a:pt x="697" y="769"/>
                    <a:pt x="642" y="795"/>
                  </a:cubicBezTo>
                  <a:cubicBezTo>
                    <a:pt x="603" y="834"/>
                    <a:pt x="545" y="870"/>
                    <a:pt x="495" y="894"/>
                  </a:cubicBezTo>
                  <a:cubicBezTo>
                    <a:pt x="476" y="915"/>
                    <a:pt x="450" y="932"/>
                    <a:pt x="429" y="951"/>
                  </a:cubicBezTo>
                  <a:cubicBezTo>
                    <a:pt x="420" y="983"/>
                    <a:pt x="393" y="1007"/>
                    <a:pt x="377" y="1036"/>
                  </a:cubicBezTo>
                  <a:lnTo>
                    <a:pt x="14" y="2164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45040" y="1971720"/>
              <a:ext cx="42840" cy="42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57200" y="1371600"/>
            <a:ext cx="1438200" cy="1219320"/>
          </a:xfrm>
          <a:prstGeom prst="cloudCallout">
            <a:avLst>
              <a:gd name="adj1" fmla="val -12361"/>
              <a:gd name="adj2" fmla="val 1718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 for ‘Golf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Algorithm for Escalation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6200" y="636120"/>
            <a:ext cx="4257720" cy="20718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er P sends C</a:t>
            </a:r>
            <a:r>
              <a:rPr b="1" i="1" lang="en-US" sz="13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to 2 levels of neighbor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ceiving peer Q finds I = C</a:t>
            </a:r>
            <a:r>
              <a:rPr b="1" i="1" lang="en-US" sz="13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∩ P</a:t>
            </a:r>
            <a:r>
              <a:rPr b="1" i="1" lang="en-US" sz="13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ll elements of I are added to C</a:t>
            </a:r>
            <a:r>
              <a:rPr b="1" i="1" lang="en-US" sz="13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C</a:t>
            </a:r>
            <a:r>
              <a:rPr b="0" i="1" lang="en-US" sz="1000" spc="-1" strike="noStrike" baseline="-25000">
                <a:solidFill>
                  <a:srgbClr val="489024"/>
                </a:solidFill>
                <a:latin typeface="Verdana"/>
              </a:rPr>
              <a:t>p</a:t>
            </a: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 = claimed attribute set of Peer P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P</a:t>
            </a:r>
            <a:r>
              <a:rPr b="0" i="1" lang="en-US" sz="1000" spc="-1" strike="noStrike" baseline="-25000">
                <a:solidFill>
                  <a:srgbClr val="489024"/>
                </a:solidFill>
                <a:latin typeface="Verdana"/>
              </a:rPr>
              <a:t>q</a:t>
            </a: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 = personal attribute set of Peer Q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Remember a set has unique elements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Attribute Escalation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605" name=""/>
          <p:cNvSpPr/>
          <p:nvPr/>
        </p:nvSpPr>
        <p:spPr>
          <a:xfrm>
            <a:off x="960480" y="458640"/>
            <a:ext cx="482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249200" y="1509840"/>
            <a:ext cx="23353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10640" y="15573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895320" y="717480"/>
            <a:ext cx="3067200" cy="961920"/>
            <a:chOff x="895320" y="717480"/>
            <a:chExt cx="3067200" cy="961920"/>
          </a:xfrm>
        </p:grpSpPr>
        <p:sp>
          <p:nvSpPr>
            <p:cNvPr id="609" name=""/>
            <p:cNvSpPr/>
            <p:nvPr/>
          </p:nvSpPr>
          <p:spPr>
            <a:xfrm>
              <a:off x="1445040" y="1557360"/>
              <a:ext cx="203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a) Before any communication and adjus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895320" y="717480"/>
              <a:ext cx="3067200" cy="746280"/>
              <a:chOff x="895320" y="717480"/>
              <a:chExt cx="3067200" cy="746280"/>
            </a:xfrm>
          </p:grpSpPr>
          <p:sp>
            <p:nvSpPr>
              <p:cNvPr id="611" name=""/>
              <p:cNvSpPr/>
              <p:nvPr/>
            </p:nvSpPr>
            <p:spPr>
              <a:xfrm>
                <a:off x="2514600" y="762120"/>
                <a:ext cx="8380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275840" y="717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" name=""/>
              <p:cNvGrpSpPr/>
              <p:nvPr/>
            </p:nvGrpSpPr>
            <p:grpSpPr>
              <a:xfrm>
                <a:off x="1392120" y="735120"/>
                <a:ext cx="852480" cy="728640"/>
                <a:chOff x="1392120" y="735120"/>
                <a:chExt cx="852480" cy="7286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1392120" y="735120"/>
                  <a:ext cx="852480" cy="728640"/>
                </a:xfrm>
                <a:custGeom>
                  <a:avLst/>
                  <a:gdLst/>
                  <a:ahLst/>
                  <a:rect l="l" t="t" r="r" b="b"/>
                  <a:pathLst>
                    <a:path w="537" h="459">
                      <a:moveTo>
                        <a:pt x="76" y="0"/>
                      </a:moveTo>
                      <a:lnTo>
                        <a:pt x="61" y="1"/>
                      </a:lnTo>
                      <a:lnTo>
                        <a:pt x="47" y="6"/>
                      </a:lnTo>
                      <a:lnTo>
                        <a:pt x="34" y="12"/>
                      </a:lnTo>
                      <a:lnTo>
                        <a:pt x="22" y="23"/>
                      </a:lnTo>
                      <a:lnTo>
                        <a:pt x="13" y="34"/>
                      </a:lnTo>
                      <a:lnTo>
                        <a:pt x="6" y="46"/>
                      </a:lnTo>
                      <a:lnTo>
                        <a:pt x="2" y="62"/>
                      </a:lnTo>
                      <a:lnTo>
                        <a:pt x="0" y="77"/>
                      </a:lnTo>
                      <a:lnTo>
                        <a:pt x="0" y="383"/>
                      </a:lnTo>
                      <a:lnTo>
                        <a:pt x="2" y="398"/>
                      </a:lnTo>
                      <a:lnTo>
                        <a:pt x="6" y="412"/>
                      </a:lnTo>
                      <a:lnTo>
                        <a:pt x="13" y="425"/>
                      </a:lnTo>
                      <a:lnTo>
                        <a:pt x="22" y="437"/>
                      </a:lnTo>
                      <a:lnTo>
                        <a:pt x="34" y="446"/>
                      </a:lnTo>
                      <a:lnTo>
                        <a:pt x="47" y="452"/>
                      </a:lnTo>
                      <a:lnTo>
                        <a:pt x="61" y="457"/>
                      </a:lnTo>
                      <a:lnTo>
                        <a:pt x="76" y="459"/>
                      </a:lnTo>
                      <a:lnTo>
                        <a:pt x="460" y="459"/>
                      </a:lnTo>
                      <a:lnTo>
                        <a:pt x="476" y="457"/>
                      </a:lnTo>
                      <a:lnTo>
                        <a:pt x="490" y="452"/>
                      </a:lnTo>
                      <a:lnTo>
                        <a:pt x="502" y="446"/>
                      </a:lnTo>
                      <a:lnTo>
                        <a:pt x="515" y="437"/>
                      </a:lnTo>
                      <a:lnTo>
                        <a:pt x="524" y="425"/>
                      </a:lnTo>
                      <a:lnTo>
                        <a:pt x="530" y="412"/>
                      </a:lnTo>
                      <a:lnTo>
                        <a:pt x="535" y="398"/>
                      </a:lnTo>
                      <a:lnTo>
                        <a:pt x="537" y="383"/>
                      </a:lnTo>
                      <a:lnTo>
                        <a:pt x="537" y="77"/>
                      </a:lnTo>
                      <a:lnTo>
                        <a:pt x="535" y="62"/>
                      </a:lnTo>
                      <a:lnTo>
                        <a:pt x="530" y="46"/>
                      </a:lnTo>
                      <a:lnTo>
                        <a:pt x="524" y="34"/>
                      </a:lnTo>
                      <a:lnTo>
                        <a:pt x="515" y="23"/>
                      </a:lnTo>
                      <a:lnTo>
                        <a:pt x="502" y="12"/>
                      </a:lnTo>
                      <a:lnTo>
                        <a:pt x="490" y="6"/>
                      </a:lnTo>
                      <a:lnTo>
                        <a:pt x="476" y="1"/>
                      </a:lnTo>
                      <a:lnTo>
                        <a:pt x="460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417680" y="758880"/>
                  <a:ext cx="801720" cy="679320"/>
                </a:xfrm>
                <a:custGeom>
                  <a:avLst/>
                  <a:gdLst/>
                  <a:ahLst/>
                  <a:rect l="l" t="t" r="r" b="b"/>
                  <a:pathLst>
                    <a:path w="505" h="428">
                      <a:moveTo>
                        <a:pt x="60" y="0"/>
                      </a:moveTo>
                      <a:lnTo>
                        <a:pt x="444" y="0"/>
                      </a:lnTo>
                      <a:lnTo>
                        <a:pt x="458" y="2"/>
                      </a:lnTo>
                      <a:lnTo>
                        <a:pt x="468" y="5"/>
                      </a:lnTo>
                      <a:lnTo>
                        <a:pt x="479" y="11"/>
                      </a:lnTo>
                      <a:lnTo>
                        <a:pt x="488" y="19"/>
                      </a:lnTo>
                      <a:lnTo>
                        <a:pt x="493" y="25"/>
                      </a:lnTo>
                      <a:lnTo>
                        <a:pt x="500" y="39"/>
                      </a:lnTo>
                      <a:lnTo>
                        <a:pt x="505" y="53"/>
                      </a:lnTo>
                      <a:lnTo>
                        <a:pt x="505" y="62"/>
                      </a:lnTo>
                      <a:lnTo>
                        <a:pt x="505" y="368"/>
                      </a:lnTo>
                      <a:lnTo>
                        <a:pt x="505" y="379"/>
                      </a:lnTo>
                      <a:lnTo>
                        <a:pt x="500" y="391"/>
                      </a:lnTo>
                      <a:lnTo>
                        <a:pt x="493" y="405"/>
                      </a:lnTo>
                      <a:lnTo>
                        <a:pt x="488" y="411"/>
                      </a:lnTo>
                      <a:lnTo>
                        <a:pt x="479" y="419"/>
                      </a:lnTo>
                      <a:lnTo>
                        <a:pt x="468" y="423"/>
                      </a:lnTo>
                      <a:lnTo>
                        <a:pt x="458" y="427"/>
                      </a:lnTo>
                      <a:lnTo>
                        <a:pt x="444" y="428"/>
                      </a:lnTo>
                      <a:lnTo>
                        <a:pt x="60" y="428"/>
                      </a:lnTo>
                      <a:lnTo>
                        <a:pt x="48" y="427"/>
                      </a:lnTo>
                      <a:lnTo>
                        <a:pt x="37" y="423"/>
                      </a:lnTo>
                      <a:lnTo>
                        <a:pt x="28" y="419"/>
                      </a:lnTo>
                      <a:lnTo>
                        <a:pt x="18" y="411"/>
                      </a:lnTo>
                      <a:lnTo>
                        <a:pt x="12" y="405"/>
                      </a:lnTo>
                      <a:lnTo>
                        <a:pt x="6" y="391"/>
                      </a:lnTo>
                      <a:lnTo>
                        <a:pt x="1" y="379"/>
                      </a:lnTo>
                      <a:lnTo>
                        <a:pt x="0" y="368"/>
                      </a:lnTo>
                      <a:lnTo>
                        <a:pt x="0" y="62"/>
                      </a:lnTo>
                      <a:lnTo>
                        <a:pt x="1" y="53"/>
                      </a:lnTo>
                      <a:lnTo>
                        <a:pt x="6" y="39"/>
                      </a:lnTo>
                      <a:lnTo>
                        <a:pt x="12" y="25"/>
                      </a:lnTo>
                      <a:lnTo>
                        <a:pt x="18" y="19"/>
                      </a:lnTo>
                      <a:lnTo>
                        <a:pt x="28" y="11"/>
                      </a:lnTo>
                      <a:lnTo>
                        <a:pt x="37" y="5"/>
                      </a:lnTo>
                      <a:lnTo>
                        <a:pt x="48" y="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>
                <a:off x="1591200" y="824040"/>
                <a:ext cx="46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LAIME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48760" y="8240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082240" y="824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740240" y="938160"/>
                <a:ext cx="200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, 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933920" y="93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38520" y="1052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544040" y="1163520"/>
                <a:ext cx="630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ERSONAL: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612440" y="1278000"/>
                <a:ext cx="45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, X, C, 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057760" y="127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2503440" y="735120"/>
                <a:ext cx="851040" cy="728640"/>
                <a:chOff x="2503440" y="735120"/>
                <a:chExt cx="851040" cy="7286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503440" y="735120"/>
                  <a:ext cx="851040" cy="728640"/>
                </a:xfrm>
                <a:custGeom>
                  <a:avLst/>
                  <a:gdLst/>
                  <a:ahLst/>
                  <a:rect l="l" t="t" r="r" b="b"/>
                  <a:pathLst>
                    <a:path w="536" h="459">
                      <a:moveTo>
                        <a:pt x="76" y="0"/>
                      </a:moveTo>
                      <a:lnTo>
                        <a:pt x="60" y="1"/>
                      </a:lnTo>
                      <a:lnTo>
                        <a:pt x="46" y="6"/>
                      </a:lnTo>
                      <a:lnTo>
                        <a:pt x="34" y="12"/>
                      </a:lnTo>
                      <a:lnTo>
                        <a:pt x="21" y="23"/>
                      </a:lnTo>
                      <a:lnTo>
                        <a:pt x="12" y="34"/>
                      </a:lnTo>
                      <a:lnTo>
                        <a:pt x="6" y="46"/>
                      </a:lnTo>
                      <a:lnTo>
                        <a:pt x="1" y="62"/>
                      </a:lnTo>
                      <a:lnTo>
                        <a:pt x="0" y="77"/>
                      </a:lnTo>
                      <a:lnTo>
                        <a:pt x="0" y="383"/>
                      </a:lnTo>
                      <a:lnTo>
                        <a:pt x="1" y="398"/>
                      </a:lnTo>
                      <a:lnTo>
                        <a:pt x="6" y="412"/>
                      </a:lnTo>
                      <a:lnTo>
                        <a:pt x="12" y="425"/>
                      </a:lnTo>
                      <a:lnTo>
                        <a:pt x="21" y="437"/>
                      </a:lnTo>
                      <a:lnTo>
                        <a:pt x="34" y="446"/>
                      </a:lnTo>
                      <a:lnTo>
                        <a:pt x="46" y="452"/>
                      </a:lnTo>
                      <a:lnTo>
                        <a:pt x="60" y="457"/>
                      </a:lnTo>
                      <a:lnTo>
                        <a:pt x="76" y="459"/>
                      </a:lnTo>
                      <a:lnTo>
                        <a:pt x="460" y="459"/>
                      </a:lnTo>
                      <a:lnTo>
                        <a:pt x="475" y="457"/>
                      </a:lnTo>
                      <a:lnTo>
                        <a:pt x="489" y="452"/>
                      </a:lnTo>
                      <a:lnTo>
                        <a:pt x="502" y="446"/>
                      </a:lnTo>
                      <a:lnTo>
                        <a:pt x="514" y="437"/>
                      </a:lnTo>
                      <a:lnTo>
                        <a:pt x="524" y="425"/>
                      </a:lnTo>
                      <a:lnTo>
                        <a:pt x="530" y="412"/>
                      </a:lnTo>
                      <a:lnTo>
                        <a:pt x="534" y="398"/>
                      </a:lnTo>
                      <a:lnTo>
                        <a:pt x="536" y="383"/>
                      </a:lnTo>
                      <a:lnTo>
                        <a:pt x="536" y="77"/>
                      </a:lnTo>
                      <a:lnTo>
                        <a:pt x="534" y="62"/>
                      </a:lnTo>
                      <a:lnTo>
                        <a:pt x="530" y="46"/>
                      </a:lnTo>
                      <a:lnTo>
                        <a:pt x="524" y="34"/>
                      </a:lnTo>
                      <a:lnTo>
                        <a:pt x="514" y="23"/>
                      </a:lnTo>
                      <a:lnTo>
                        <a:pt x="502" y="12"/>
                      </a:lnTo>
                      <a:lnTo>
                        <a:pt x="489" y="6"/>
                      </a:lnTo>
                      <a:lnTo>
                        <a:pt x="475" y="1"/>
                      </a:lnTo>
                      <a:lnTo>
                        <a:pt x="460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527200" y="758880"/>
                  <a:ext cx="801720" cy="679320"/>
                </a:xfrm>
                <a:custGeom>
                  <a:avLst/>
                  <a:gdLst/>
                  <a:ahLst/>
                  <a:rect l="l" t="t" r="r" b="b"/>
                  <a:pathLst>
                    <a:path w="505" h="428">
                      <a:moveTo>
                        <a:pt x="61" y="0"/>
                      </a:moveTo>
                      <a:lnTo>
                        <a:pt x="445" y="0"/>
                      </a:lnTo>
                      <a:lnTo>
                        <a:pt x="459" y="2"/>
                      </a:lnTo>
                      <a:lnTo>
                        <a:pt x="468" y="5"/>
                      </a:lnTo>
                      <a:lnTo>
                        <a:pt x="479" y="11"/>
                      </a:lnTo>
                      <a:lnTo>
                        <a:pt x="488" y="19"/>
                      </a:lnTo>
                      <a:lnTo>
                        <a:pt x="493" y="25"/>
                      </a:lnTo>
                      <a:lnTo>
                        <a:pt x="501" y="39"/>
                      </a:lnTo>
                      <a:lnTo>
                        <a:pt x="505" y="53"/>
                      </a:lnTo>
                      <a:lnTo>
                        <a:pt x="505" y="62"/>
                      </a:lnTo>
                      <a:lnTo>
                        <a:pt x="505" y="368"/>
                      </a:lnTo>
                      <a:lnTo>
                        <a:pt x="505" y="379"/>
                      </a:lnTo>
                      <a:lnTo>
                        <a:pt x="501" y="391"/>
                      </a:lnTo>
                      <a:lnTo>
                        <a:pt x="493" y="405"/>
                      </a:lnTo>
                      <a:lnTo>
                        <a:pt x="488" y="411"/>
                      </a:lnTo>
                      <a:lnTo>
                        <a:pt x="479" y="419"/>
                      </a:lnTo>
                      <a:lnTo>
                        <a:pt x="468" y="423"/>
                      </a:lnTo>
                      <a:lnTo>
                        <a:pt x="459" y="427"/>
                      </a:lnTo>
                      <a:lnTo>
                        <a:pt x="445" y="428"/>
                      </a:lnTo>
                      <a:lnTo>
                        <a:pt x="61" y="428"/>
                      </a:lnTo>
                      <a:lnTo>
                        <a:pt x="48" y="427"/>
                      </a:lnTo>
                      <a:lnTo>
                        <a:pt x="38" y="423"/>
                      </a:lnTo>
                      <a:lnTo>
                        <a:pt x="28" y="419"/>
                      </a:lnTo>
                      <a:lnTo>
                        <a:pt x="19" y="411"/>
                      </a:lnTo>
                      <a:lnTo>
                        <a:pt x="13" y="405"/>
                      </a:lnTo>
                      <a:lnTo>
                        <a:pt x="6" y="391"/>
                      </a:lnTo>
                      <a:lnTo>
                        <a:pt x="2" y="379"/>
                      </a:lnTo>
                      <a:lnTo>
                        <a:pt x="0" y="368"/>
                      </a:lnTo>
                      <a:lnTo>
                        <a:pt x="0" y="62"/>
                      </a:lnTo>
                      <a:lnTo>
                        <a:pt x="2" y="53"/>
                      </a:lnTo>
                      <a:lnTo>
                        <a:pt x="6" y="39"/>
                      </a:lnTo>
                      <a:lnTo>
                        <a:pt x="13" y="25"/>
                      </a:lnTo>
                      <a:lnTo>
                        <a:pt x="19" y="19"/>
                      </a:lnTo>
                      <a:lnTo>
                        <a:pt x="28" y="11"/>
                      </a:lnTo>
                      <a:lnTo>
                        <a:pt x="38" y="5"/>
                      </a:lnTo>
                      <a:lnTo>
                        <a:pt x="48" y="2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2703240" y="824040"/>
                <a:ext cx="498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LAIMED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191760" y="824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909520" y="93816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984760" y="93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948400" y="1052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655360" y="1163520"/>
                <a:ext cx="630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ERSONAL: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19800" y="1278000"/>
                <a:ext cx="46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, G, R, 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173760" y="127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" name=""/>
              <p:cNvGrpSpPr/>
              <p:nvPr/>
            </p:nvGrpSpPr>
            <p:grpSpPr>
              <a:xfrm>
                <a:off x="2263680" y="1020600"/>
                <a:ext cx="241560" cy="95400"/>
                <a:chOff x="2263680" y="1020600"/>
                <a:chExt cx="241560" cy="954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263680" y="1066680"/>
                  <a:ext cx="1476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06600" y="1020600"/>
                  <a:ext cx="98640" cy="95400"/>
                </a:xfrm>
                <a:custGeom>
                  <a:avLst/>
                  <a:gdLst/>
                  <a:ahLst/>
                  <a:rect l="l" t="t" r="r" b="b"/>
                  <a:pathLst>
                    <a:path w="62" h="60">
                      <a:moveTo>
                        <a:pt x="0" y="60"/>
                      </a:moveTo>
                      <a:lnTo>
                        <a:pt x="62" y="29"/>
                      </a:lnTo>
                      <a:lnTo>
                        <a:pt x="0" y="0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>
                <a:off x="895320" y="914400"/>
                <a:ext cx="457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418220"/>
                    </a:solidFill>
                    <a:latin typeface="Lucida Sans Unicode"/>
                  </a:rPr>
                  <a:t>Peer 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451320" y="914400"/>
                <a:ext cx="511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418220"/>
                    </a:solidFill>
                    <a:latin typeface="Lucida Sans Unicode"/>
                  </a:rPr>
                  <a:t>Peer Q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873000" y="1841400"/>
            <a:ext cx="3054600" cy="1000080"/>
            <a:chOff x="873000" y="1841400"/>
            <a:chExt cx="3054600" cy="1000080"/>
          </a:xfrm>
        </p:grpSpPr>
        <p:sp>
          <p:nvSpPr>
            <p:cNvPr id="642" name=""/>
            <p:cNvSpPr/>
            <p:nvPr/>
          </p:nvSpPr>
          <p:spPr>
            <a:xfrm>
              <a:off x="2502000" y="1859040"/>
              <a:ext cx="838080" cy="68580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392120" y="1841400"/>
              <a:ext cx="852480" cy="728640"/>
              <a:chOff x="1392120" y="1841400"/>
              <a:chExt cx="852480" cy="728640"/>
            </a:xfrm>
          </p:grpSpPr>
          <p:sp>
            <p:nvSpPr>
              <p:cNvPr id="644" name=""/>
              <p:cNvSpPr/>
              <p:nvPr/>
            </p:nvSpPr>
            <p:spPr>
              <a:xfrm>
                <a:off x="1392120" y="1841400"/>
                <a:ext cx="852480" cy="728640"/>
              </a:xfrm>
              <a:custGeom>
                <a:avLst/>
                <a:gdLst/>
                <a:ahLst/>
                <a:rect l="l" t="t" r="r" b="b"/>
                <a:pathLst>
                  <a:path w="537" h="459">
                    <a:moveTo>
                      <a:pt x="76" y="0"/>
                    </a:moveTo>
                    <a:lnTo>
                      <a:pt x="61" y="2"/>
                    </a:lnTo>
                    <a:lnTo>
                      <a:pt x="47" y="6"/>
                    </a:lnTo>
                    <a:lnTo>
                      <a:pt x="34" y="13"/>
                    </a:lnTo>
                    <a:lnTo>
                      <a:pt x="22" y="24"/>
                    </a:lnTo>
                    <a:lnTo>
                      <a:pt x="13" y="34"/>
                    </a:lnTo>
                    <a:lnTo>
                      <a:pt x="6" y="47"/>
                    </a:lnTo>
                    <a:lnTo>
                      <a:pt x="2" y="62"/>
                    </a:lnTo>
                    <a:lnTo>
                      <a:pt x="0" y="78"/>
                    </a:lnTo>
                    <a:lnTo>
                      <a:pt x="0" y="383"/>
                    </a:lnTo>
                    <a:lnTo>
                      <a:pt x="2" y="399"/>
                    </a:lnTo>
                    <a:lnTo>
                      <a:pt x="6" y="413"/>
                    </a:lnTo>
                    <a:lnTo>
                      <a:pt x="13" y="425"/>
                    </a:lnTo>
                    <a:lnTo>
                      <a:pt x="22" y="437"/>
                    </a:lnTo>
                    <a:lnTo>
                      <a:pt x="34" y="447"/>
                    </a:lnTo>
                    <a:lnTo>
                      <a:pt x="47" y="453"/>
                    </a:lnTo>
                    <a:lnTo>
                      <a:pt x="61" y="458"/>
                    </a:lnTo>
                    <a:lnTo>
                      <a:pt x="76" y="459"/>
                    </a:lnTo>
                    <a:lnTo>
                      <a:pt x="460" y="459"/>
                    </a:lnTo>
                    <a:lnTo>
                      <a:pt x="476" y="458"/>
                    </a:lnTo>
                    <a:lnTo>
                      <a:pt x="490" y="453"/>
                    </a:lnTo>
                    <a:lnTo>
                      <a:pt x="502" y="447"/>
                    </a:lnTo>
                    <a:lnTo>
                      <a:pt x="515" y="437"/>
                    </a:lnTo>
                    <a:lnTo>
                      <a:pt x="524" y="425"/>
                    </a:lnTo>
                    <a:lnTo>
                      <a:pt x="530" y="413"/>
                    </a:lnTo>
                    <a:lnTo>
                      <a:pt x="535" y="399"/>
                    </a:lnTo>
                    <a:lnTo>
                      <a:pt x="537" y="383"/>
                    </a:lnTo>
                    <a:lnTo>
                      <a:pt x="537" y="78"/>
                    </a:lnTo>
                    <a:lnTo>
                      <a:pt x="535" y="62"/>
                    </a:lnTo>
                    <a:lnTo>
                      <a:pt x="530" y="47"/>
                    </a:lnTo>
                    <a:lnTo>
                      <a:pt x="524" y="34"/>
                    </a:lnTo>
                    <a:lnTo>
                      <a:pt x="515" y="24"/>
                    </a:lnTo>
                    <a:lnTo>
                      <a:pt x="502" y="13"/>
                    </a:lnTo>
                    <a:lnTo>
                      <a:pt x="490" y="6"/>
                    </a:lnTo>
                    <a:lnTo>
                      <a:pt x="476" y="2"/>
                    </a:lnTo>
                    <a:lnTo>
                      <a:pt x="460" y="0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417680" y="1866960"/>
                <a:ext cx="801720" cy="679320"/>
              </a:xfrm>
              <a:custGeom>
                <a:avLst/>
                <a:gdLst/>
                <a:ahLst/>
                <a:rect l="l" t="t" r="r" b="b"/>
                <a:pathLst>
                  <a:path w="505" h="428">
                    <a:moveTo>
                      <a:pt x="60" y="0"/>
                    </a:moveTo>
                    <a:lnTo>
                      <a:pt x="444" y="0"/>
                    </a:lnTo>
                    <a:lnTo>
                      <a:pt x="458" y="1"/>
                    </a:lnTo>
                    <a:lnTo>
                      <a:pt x="468" y="4"/>
                    </a:lnTo>
                    <a:lnTo>
                      <a:pt x="479" y="11"/>
                    </a:lnTo>
                    <a:lnTo>
                      <a:pt x="488" y="18"/>
                    </a:lnTo>
                    <a:lnTo>
                      <a:pt x="493" y="25"/>
                    </a:lnTo>
                    <a:lnTo>
                      <a:pt x="500" y="39"/>
                    </a:lnTo>
                    <a:lnTo>
                      <a:pt x="505" y="52"/>
                    </a:lnTo>
                    <a:lnTo>
                      <a:pt x="505" y="62"/>
                    </a:lnTo>
                    <a:lnTo>
                      <a:pt x="505" y="367"/>
                    </a:lnTo>
                    <a:lnTo>
                      <a:pt x="505" y="378"/>
                    </a:lnTo>
                    <a:lnTo>
                      <a:pt x="500" y="390"/>
                    </a:lnTo>
                    <a:lnTo>
                      <a:pt x="493" y="404"/>
                    </a:lnTo>
                    <a:lnTo>
                      <a:pt x="488" y="411"/>
                    </a:lnTo>
                    <a:lnTo>
                      <a:pt x="479" y="418"/>
                    </a:lnTo>
                    <a:lnTo>
                      <a:pt x="468" y="423"/>
                    </a:lnTo>
                    <a:lnTo>
                      <a:pt x="458" y="426"/>
                    </a:lnTo>
                    <a:lnTo>
                      <a:pt x="444" y="428"/>
                    </a:lnTo>
                    <a:lnTo>
                      <a:pt x="60" y="428"/>
                    </a:lnTo>
                    <a:lnTo>
                      <a:pt x="48" y="426"/>
                    </a:lnTo>
                    <a:lnTo>
                      <a:pt x="37" y="423"/>
                    </a:lnTo>
                    <a:lnTo>
                      <a:pt x="28" y="418"/>
                    </a:lnTo>
                    <a:lnTo>
                      <a:pt x="18" y="411"/>
                    </a:lnTo>
                    <a:lnTo>
                      <a:pt x="12" y="404"/>
                    </a:lnTo>
                    <a:lnTo>
                      <a:pt x="6" y="390"/>
                    </a:lnTo>
                    <a:lnTo>
                      <a:pt x="1" y="378"/>
                    </a:lnTo>
                    <a:lnTo>
                      <a:pt x="0" y="367"/>
                    </a:lnTo>
                    <a:lnTo>
                      <a:pt x="0" y="62"/>
                    </a:lnTo>
                    <a:lnTo>
                      <a:pt x="1" y="52"/>
                    </a:lnTo>
                    <a:lnTo>
                      <a:pt x="6" y="39"/>
                    </a:lnTo>
                    <a:lnTo>
                      <a:pt x="12" y="25"/>
                    </a:lnTo>
                    <a:lnTo>
                      <a:pt x="18" y="18"/>
                    </a:lnTo>
                    <a:lnTo>
                      <a:pt x="28" y="11"/>
                    </a:lnTo>
                    <a:lnTo>
                      <a:pt x="37" y="4"/>
                    </a:lnTo>
                    <a:lnTo>
                      <a:pt x="48" y="1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591920" y="193032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LAIMED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82240" y="1930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40240" y="2046240"/>
              <a:ext cx="200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, 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33920" y="204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38520" y="2158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544040" y="2270160"/>
              <a:ext cx="63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ERSONAL: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12440" y="238608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, X, C, 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057760" y="2386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2503440" y="1841400"/>
              <a:ext cx="851040" cy="728640"/>
              <a:chOff x="2503440" y="1841400"/>
              <a:chExt cx="851040" cy="728640"/>
            </a:xfrm>
          </p:grpSpPr>
          <p:sp>
            <p:nvSpPr>
              <p:cNvPr id="655" name=""/>
              <p:cNvSpPr/>
              <p:nvPr/>
            </p:nvSpPr>
            <p:spPr>
              <a:xfrm>
                <a:off x="2503440" y="1841400"/>
                <a:ext cx="851040" cy="728640"/>
              </a:xfrm>
              <a:custGeom>
                <a:avLst/>
                <a:gdLst/>
                <a:ahLst/>
                <a:rect l="l" t="t" r="r" b="b"/>
                <a:pathLst>
                  <a:path w="536" h="459">
                    <a:moveTo>
                      <a:pt x="76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4" y="13"/>
                    </a:lnTo>
                    <a:lnTo>
                      <a:pt x="21" y="24"/>
                    </a:lnTo>
                    <a:lnTo>
                      <a:pt x="12" y="34"/>
                    </a:lnTo>
                    <a:lnTo>
                      <a:pt x="6" y="47"/>
                    </a:lnTo>
                    <a:lnTo>
                      <a:pt x="1" y="62"/>
                    </a:lnTo>
                    <a:lnTo>
                      <a:pt x="0" y="78"/>
                    </a:lnTo>
                    <a:lnTo>
                      <a:pt x="0" y="383"/>
                    </a:lnTo>
                    <a:lnTo>
                      <a:pt x="1" y="399"/>
                    </a:lnTo>
                    <a:lnTo>
                      <a:pt x="6" y="413"/>
                    </a:lnTo>
                    <a:lnTo>
                      <a:pt x="12" y="425"/>
                    </a:lnTo>
                    <a:lnTo>
                      <a:pt x="21" y="437"/>
                    </a:lnTo>
                    <a:lnTo>
                      <a:pt x="34" y="447"/>
                    </a:lnTo>
                    <a:lnTo>
                      <a:pt x="46" y="453"/>
                    </a:lnTo>
                    <a:lnTo>
                      <a:pt x="60" y="458"/>
                    </a:lnTo>
                    <a:lnTo>
                      <a:pt x="76" y="459"/>
                    </a:lnTo>
                    <a:lnTo>
                      <a:pt x="460" y="459"/>
                    </a:lnTo>
                    <a:lnTo>
                      <a:pt x="475" y="458"/>
                    </a:lnTo>
                    <a:lnTo>
                      <a:pt x="489" y="453"/>
                    </a:lnTo>
                    <a:lnTo>
                      <a:pt x="502" y="447"/>
                    </a:lnTo>
                    <a:lnTo>
                      <a:pt x="514" y="437"/>
                    </a:lnTo>
                    <a:lnTo>
                      <a:pt x="524" y="425"/>
                    </a:lnTo>
                    <a:lnTo>
                      <a:pt x="530" y="413"/>
                    </a:lnTo>
                    <a:lnTo>
                      <a:pt x="534" y="399"/>
                    </a:lnTo>
                    <a:lnTo>
                      <a:pt x="536" y="383"/>
                    </a:lnTo>
                    <a:lnTo>
                      <a:pt x="536" y="78"/>
                    </a:lnTo>
                    <a:lnTo>
                      <a:pt x="534" y="62"/>
                    </a:lnTo>
                    <a:lnTo>
                      <a:pt x="530" y="47"/>
                    </a:lnTo>
                    <a:lnTo>
                      <a:pt x="524" y="34"/>
                    </a:lnTo>
                    <a:lnTo>
                      <a:pt x="514" y="24"/>
                    </a:lnTo>
                    <a:lnTo>
                      <a:pt x="502" y="13"/>
                    </a:lnTo>
                    <a:lnTo>
                      <a:pt x="489" y="6"/>
                    </a:lnTo>
                    <a:lnTo>
                      <a:pt x="475" y="2"/>
                    </a:lnTo>
                    <a:lnTo>
                      <a:pt x="460" y="0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527200" y="1866960"/>
                <a:ext cx="801720" cy="679320"/>
              </a:xfrm>
              <a:custGeom>
                <a:avLst/>
                <a:gdLst/>
                <a:ahLst/>
                <a:rect l="l" t="t" r="r" b="b"/>
                <a:pathLst>
                  <a:path w="505" h="428">
                    <a:moveTo>
                      <a:pt x="61" y="0"/>
                    </a:moveTo>
                    <a:lnTo>
                      <a:pt x="445" y="0"/>
                    </a:lnTo>
                    <a:lnTo>
                      <a:pt x="459" y="1"/>
                    </a:lnTo>
                    <a:lnTo>
                      <a:pt x="468" y="4"/>
                    </a:lnTo>
                    <a:lnTo>
                      <a:pt x="479" y="11"/>
                    </a:lnTo>
                    <a:lnTo>
                      <a:pt x="488" y="18"/>
                    </a:lnTo>
                    <a:lnTo>
                      <a:pt x="493" y="25"/>
                    </a:lnTo>
                    <a:lnTo>
                      <a:pt x="501" y="39"/>
                    </a:lnTo>
                    <a:lnTo>
                      <a:pt x="505" y="52"/>
                    </a:lnTo>
                    <a:lnTo>
                      <a:pt x="505" y="62"/>
                    </a:lnTo>
                    <a:lnTo>
                      <a:pt x="505" y="367"/>
                    </a:lnTo>
                    <a:lnTo>
                      <a:pt x="505" y="378"/>
                    </a:lnTo>
                    <a:lnTo>
                      <a:pt x="501" y="390"/>
                    </a:lnTo>
                    <a:lnTo>
                      <a:pt x="493" y="404"/>
                    </a:lnTo>
                    <a:lnTo>
                      <a:pt x="488" y="411"/>
                    </a:lnTo>
                    <a:lnTo>
                      <a:pt x="479" y="418"/>
                    </a:lnTo>
                    <a:lnTo>
                      <a:pt x="468" y="423"/>
                    </a:lnTo>
                    <a:lnTo>
                      <a:pt x="459" y="426"/>
                    </a:lnTo>
                    <a:lnTo>
                      <a:pt x="445" y="428"/>
                    </a:lnTo>
                    <a:lnTo>
                      <a:pt x="61" y="428"/>
                    </a:lnTo>
                    <a:lnTo>
                      <a:pt x="48" y="426"/>
                    </a:lnTo>
                    <a:lnTo>
                      <a:pt x="38" y="423"/>
                    </a:lnTo>
                    <a:lnTo>
                      <a:pt x="28" y="418"/>
                    </a:lnTo>
                    <a:lnTo>
                      <a:pt x="19" y="411"/>
                    </a:lnTo>
                    <a:lnTo>
                      <a:pt x="13" y="404"/>
                    </a:lnTo>
                    <a:lnTo>
                      <a:pt x="6" y="390"/>
                    </a:lnTo>
                    <a:lnTo>
                      <a:pt x="2" y="378"/>
                    </a:lnTo>
                    <a:lnTo>
                      <a:pt x="0" y="367"/>
                    </a:lnTo>
                    <a:lnTo>
                      <a:pt x="0" y="62"/>
                    </a:lnTo>
                    <a:lnTo>
                      <a:pt x="2" y="52"/>
                    </a:lnTo>
                    <a:lnTo>
                      <a:pt x="6" y="39"/>
                    </a:lnTo>
                    <a:lnTo>
                      <a:pt x="13" y="25"/>
                    </a:lnTo>
                    <a:lnTo>
                      <a:pt x="19" y="18"/>
                    </a:lnTo>
                    <a:lnTo>
                      <a:pt x="28" y="11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6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2703240" y="193032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LAIMED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191760" y="1930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24920" y="2046240"/>
              <a:ext cx="21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, 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49920" y="204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48400" y="2158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55360" y="2270160"/>
              <a:ext cx="63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ERSONAL: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9800" y="2386080"/>
              <a:ext cx="46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, G, R, 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73760" y="2386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2263680" y="2127240"/>
              <a:ext cx="241560" cy="96840"/>
              <a:chOff x="2263680" y="2127240"/>
              <a:chExt cx="241560" cy="96840"/>
            </a:xfrm>
          </p:grpSpPr>
          <p:sp>
            <p:nvSpPr>
              <p:cNvPr id="666" name=""/>
              <p:cNvSpPr/>
              <p:nvPr/>
            </p:nvSpPr>
            <p:spPr>
              <a:xfrm>
                <a:off x="2263680" y="2174760"/>
                <a:ext cx="147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406600" y="2127240"/>
                <a:ext cx="98640" cy="9684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0" y="61"/>
                    </a:moveTo>
                    <a:lnTo>
                      <a:pt x="62" y="30"/>
                    </a:lnTo>
                    <a:lnTo>
                      <a:pt x="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1244520" y="2617920"/>
              <a:ext cx="233388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48200" y="2664000"/>
              <a:ext cx="221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b) After communication messages and adjus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98120" y="26640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2852640" y="2146320"/>
              <a:ext cx="652320" cy="90000"/>
              <a:chOff x="2852640" y="2146320"/>
              <a:chExt cx="652320" cy="90000"/>
            </a:xfrm>
          </p:grpSpPr>
          <p:sp>
            <p:nvSpPr>
              <p:cNvPr id="672" name=""/>
              <p:cNvSpPr/>
              <p:nvPr/>
            </p:nvSpPr>
            <p:spPr>
              <a:xfrm>
                <a:off x="2852640" y="2146320"/>
                <a:ext cx="54000" cy="90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906640" y="2236320"/>
                <a:ext cx="5983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873000" y="1981080"/>
              <a:ext cx="498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418220"/>
                  </a:solidFill>
                  <a:latin typeface="Lucida Sans Unicode"/>
                </a:rPr>
                <a:t>Peer 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9000" y="1981080"/>
              <a:ext cx="498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418220"/>
                  </a:solidFill>
                  <a:latin typeface="Lucida Sans Unicode"/>
                </a:rPr>
                <a:t>Peer Q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Discovery of Communities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6200" y="636120"/>
            <a:ext cx="4257720" cy="2306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80000"/>
              </a:lnSpc>
              <a:spcBef>
                <a:spcPts val="374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MBERSHIP-DISCOVERY (at each peer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80000"/>
              </a:lnSpc>
              <a:spcBef>
                <a:spcPts val="337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for all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 claimed attributes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80000"/>
              </a:lnSpc>
              <a:spcBef>
                <a:spcPts val="337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compute outlink weigh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80000"/>
              </a:lnSpc>
              <a:spcBef>
                <a:spcPts val="337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compute inlink weigh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80000"/>
              </a:lnSpc>
              <a:spcBef>
                <a:spcPts val="337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end-for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80000"/>
              </a:lnSpc>
              <a:spcBef>
                <a:spcPts val="337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for all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 subsets S of claimed attributes set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80000"/>
              </a:lnSpc>
              <a:spcBef>
                <a:spcPts val="337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for all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 attributes in 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80000"/>
              </a:lnSpc>
              <a:spcBef>
                <a:spcPts val="337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If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 outlink weight &gt; T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then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 check next attribute</a:t>
            </a: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-183960">
              <a:lnSpc>
                <a:spcPct val="80000"/>
              </a:lnSpc>
              <a:spcBef>
                <a:spcPts val="337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Else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 break-for</a:t>
            </a: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  <a:p>
            <a:pPr lvl="1" marL="439560" indent="-207720">
              <a:lnSpc>
                <a:spcPct val="80000"/>
              </a:lnSpc>
              <a:spcBef>
                <a:spcPts val="337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end-fo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80000"/>
              </a:lnSpc>
              <a:spcBef>
                <a:spcPts val="337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if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 no break-for was execute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80000"/>
              </a:lnSpc>
              <a:spcBef>
                <a:spcPts val="337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peer is member of community with signature S</a:t>
            </a: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  <a:p>
            <a:pPr marL="230040" indent="-230040">
              <a:lnSpc>
                <a:spcPct val="80000"/>
              </a:lnSpc>
              <a:spcBef>
                <a:spcPts val="337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end-for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My Community Discovery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28600" y="609480"/>
            <a:ext cx="2746440" cy="2336760"/>
            <a:chOff x="228600" y="609480"/>
            <a:chExt cx="2746440" cy="2336760"/>
          </a:xfrm>
        </p:grpSpPr>
        <p:sp>
          <p:nvSpPr>
            <p:cNvPr id="680" name=""/>
            <p:cNvSpPr/>
            <p:nvPr/>
          </p:nvSpPr>
          <p:spPr>
            <a:xfrm>
              <a:off x="609480" y="609480"/>
              <a:ext cx="2365560" cy="2225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14400" y="671400"/>
              <a:ext cx="18032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66ac"/>
                  </a:solidFill>
                  <a:latin typeface="Arial Narrow"/>
                </a:rPr>
                <a:t>Attributes, Contacts, Authentic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2590920"/>
              <a:ext cx="930240" cy="355320"/>
            </a:xfrm>
            <a:prstGeom prst="cloudCallout">
              <a:avLst>
                <a:gd name="adj1" fmla="val 22694"/>
                <a:gd name="adj2" fmla="val -2008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Environ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9160" y="2252520"/>
              <a:ext cx="104760" cy="387360"/>
            </a:xfrm>
            <a:custGeom>
              <a:avLst/>
              <a:gdLst/>
              <a:ahLst/>
              <a:rect l="l" t="t" r="r" b="b"/>
              <a:pathLst>
                <a:path w="390" h="1080">
                  <a:moveTo>
                    <a:pt x="390" y="0"/>
                  </a:moveTo>
                  <a:cubicBezTo>
                    <a:pt x="225" y="90"/>
                    <a:pt x="60" y="180"/>
                    <a:pt x="30" y="360"/>
                  </a:cubicBezTo>
                  <a:cubicBezTo>
                    <a:pt x="0" y="540"/>
                    <a:pt x="105" y="810"/>
                    <a:pt x="210" y="108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8600" y="2362320"/>
              <a:ext cx="65736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66ac"/>
                  </a:solidFill>
                  <a:latin typeface="Arial Narrow"/>
                </a:rPr>
                <a:t>Attribute Escal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43000" y="21337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81080" y="1295280"/>
              <a:ext cx="533520" cy="36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948960" y="1308240"/>
              <a:ext cx="498600" cy="38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1180800" y="1879560"/>
              <a:ext cx="102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8080" y="1295280"/>
              <a:ext cx="5428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On Inpu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33720" y="1295280"/>
              <a:ext cx="72396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On new Inpu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295280" y="1905120"/>
              <a:ext cx="723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Periodical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19320" y="2133720"/>
              <a:ext cx="8604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After Intera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4280" y="1676520"/>
              <a:ext cx="590400" cy="56808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7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0000"/>
                  </a:solidFill>
                  <a:latin typeface="Arial"/>
                </a:rPr>
                <a:t>Intera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09680" y="1676520"/>
              <a:ext cx="546120" cy="54900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0000"/>
                  </a:solidFill>
                  <a:latin typeface="Arial"/>
                </a:rPr>
                <a:t>Aw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914400"/>
              <a:ext cx="552240" cy="55548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0000"/>
                  </a:solidFill>
                  <a:latin typeface="Arial"/>
                </a:rPr>
                <a:t>Inpu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1219320" y="838080"/>
              <a:ext cx="1047240" cy="117720"/>
              <a:chOff x="1219320" y="838080"/>
              <a:chExt cx="1047240" cy="117720"/>
            </a:xfrm>
          </p:grpSpPr>
          <p:sp>
            <p:nvSpPr>
              <p:cNvPr id="697" name=""/>
              <p:cNvSpPr/>
              <p:nvPr/>
            </p:nvSpPr>
            <p:spPr>
              <a:xfrm>
                <a:off x="1219320" y="841320"/>
                <a:ext cx="383040" cy="11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1882440" y="842760"/>
                <a:ext cx="384120" cy="1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746720" y="838080"/>
                <a:ext cx="0" cy="8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2362320" y="1971360"/>
            <a:ext cx="2016000" cy="1011600"/>
            <a:chOff x="2362320" y="1971360"/>
            <a:chExt cx="2016000" cy="1011600"/>
          </a:xfrm>
        </p:grpSpPr>
        <p:sp>
          <p:nvSpPr>
            <p:cNvPr id="701" name=""/>
            <p:cNvSpPr/>
            <p:nvPr/>
          </p:nvSpPr>
          <p:spPr>
            <a:xfrm>
              <a:off x="2367000" y="1971360"/>
              <a:ext cx="2009880" cy="10116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            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ai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Attr.               Outlink      In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lf</a:t>
              </a: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                </a:t>
              </a:r>
              <a:r>
                <a:rPr b="1" lang="en-US" sz="1000" spc="-1" strike="noStrike">
                  <a:solidFill>
                    <a:srgbClr val="0066ac"/>
                  </a:solidFill>
                  <a:latin typeface="Arial"/>
                </a:rPr>
                <a:t>75</a:t>
              </a: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                </a:t>
              </a:r>
              <a:r>
                <a:rPr b="1" lang="en-US" sz="1000" spc="-1" strike="noStrike">
                  <a:solidFill>
                    <a:srgbClr val="0066ac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incinnati</a:t>
              </a: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66ac"/>
                  </a:solidFill>
                  <a:latin typeface="Arial"/>
                </a:rPr>
                <a:t>20               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          </a:t>
              </a:r>
              <a:r>
                <a:rPr b="1" lang="en-US" sz="1000" spc="-1" strike="noStrike">
                  <a:solidFill>
                    <a:srgbClr val="0066ac"/>
                  </a:solidFill>
                  <a:latin typeface="Arial"/>
                </a:rPr>
                <a:t>90              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8440" y="2201400"/>
              <a:ext cx="200988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62320" y="2338200"/>
              <a:ext cx="201600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3189240" y="2196720"/>
              <a:ext cx="4680" cy="747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3797280" y="2206440"/>
              <a:ext cx="3240" cy="747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Some more definitions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66200" y="636120"/>
            <a:ext cx="4257720" cy="20970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Membership in community N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For node 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If S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= subset of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laim(n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{for all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Є S | outlink weight of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χ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&gt; T}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2752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Involvement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Average of outlink weights of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Є S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Responsibility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 Є S has inlink weight &gt; B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Simulation Setup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6200" y="636120"/>
            <a:ext cx="4257720" cy="23468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tability of Escalation Algorithm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10,000 pe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roups of 100 pe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dependent and random selection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Attributes and number of attributes </a:t>
            </a: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(max=20)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Links and number of links </a:t>
            </a: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(max = 100)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n averag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13 personal attributes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6 claimed attributes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66 regular connections within group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0.1 random connections to remote peers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Simulation Result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482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509760" y="520560"/>
          <a:ext cx="3962160" cy="242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9760" y="520560"/>
                    <a:ext cx="3962160" cy="24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Peer-to-Peer (P2P) Systems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6200" y="636120"/>
            <a:ext cx="4257720" cy="23472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efinition: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tributed sy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ically distinct computing elements </a:t>
            </a:r>
            <a:r>
              <a:rPr b="0" lang="en-US" sz="1200" spc="-1" strike="noStrike">
                <a:solidFill>
                  <a:srgbClr val="489024"/>
                </a:solidFill>
                <a:latin typeface="Verdana"/>
              </a:rPr>
              <a:t>(</a:t>
            </a:r>
            <a:r>
              <a:rPr b="0" i="1" lang="en-US" sz="1200" spc="-1" strike="noStrike">
                <a:solidFill>
                  <a:srgbClr val="489024"/>
                </a:solidFill>
                <a:latin typeface="Verdana"/>
              </a:rPr>
              <a:t>pe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able roles &amp;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in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 / consume services &amp; resour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48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otential: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sive sto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cellent Scala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central administr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Simulation Setup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4257720" cy="18496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iscovering my communities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2 network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1,000 peers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000" spc="-1" strike="noStrike">
                <a:solidFill>
                  <a:srgbClr val="489024"/>
                </a:solidFill>
                <a:latin typeface="Verdana"/>
              </a:rPr>
              <a:t>10,000 peers</a:t>
            </a:r>
            <a:endParaRPr b="0" lang="en-US" sz="1000" spc="-1" strike="noStrike">
              <a:solidFill>
                <a:srgbClr val="489024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imilar setup as befor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utlink threshold = 40%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Simulation Result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66200" y="636120"/>
            <a:ext cx="4257720" cy="281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% of Communities discovered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920880"/>
            <a:ext cx="482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585720" y="950760"/>
          <a:ext cx="3810240" cy="207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5720" y="950760"/>
                    <a:ext cx="381024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Simulation Result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66200" y="636120"/>
            <a:ext cx="4257720" cy="2811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# of communities discovered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662040" y="941400"/>
            <a:ext cx="3733920" cy="1695600"/>
            <a:chOff x="662040" y="941400"/>
            <a:chExt cx="3733920" cy="1695600"/>
          </a:xfrm>
        </p:grpSpPr>
        <p:pic>
          <p:nvPicPr>
            <p:cNvPr id="724" name="" descr=""/>
            <p:cNvPicPr/>
            <p:nvPr/>
          </p:nvPicPr>
          <p:blipFill>
            <a:blip r:embed="rId2"/>
            <a:stretch/>
          </p:blipFill>
          <p:spPr>
            <a:xfrm>
              <a:off x="738360" y="1017720"/>
              <a:ext cx="160020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3"/>
            <a:stretch/>
          </p:blipFill>
          <p:spPr>
            <a:xfrm>
              <a:off x="2795760" y="1087560"/>
              <a:ext cx="1371600" cy="132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6" name=""/>
            <p:cNvGrpSpPr/>
            <p:nvPr/>
          </p:nvGrpSpPr>
          <p:grpSpPr>
            <a:xfrm>
              <a:off x="1782720" y="1081080"/>
              <a:ext cx="480960" cy="106560"/>
              <a:chOff x="1782720" y="1081080"/>
              <a:chExt cx="480960" cy="10656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1782720" y="1081080"/>
                <a:ext cx="146160" cy="1065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932120" y="1086120"/>
                <a:ext cx="331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1741320" y="1239840"/>
              <a:ext cx="533160" cy="106560"/>
              <a:chOff x="1741320" y="1239840"/>
              <a:chExt cx="533160" cy="106560"/>
            </a:xfrm>
          </p:grpSpPr>
          <p:sp>
            <p:nvSpPr>
              <p:cNvPr id="730" name=""/>
              <p:cNvSpPr/>
              <p:nvPr/>
            </p:nvSpPr>
            <p:spPr>
              <a:xfrm flipH="1">
                <a:off x="1741320" y="1239840"/>
                <a:ext cx="162000" cy="1065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906920" y="1244880"/>
                <a:ext cx="367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1674720" y="1384560"/>
              <a:ext cx="623520" cy="109080"/>
              <a:chOff x="1674720" y="1384560"/>
              <a:chExt cx="623520" cy="10908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1674720" y="1384560"/>
                <a:ext cx="189360" cy="1090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868400" y="1389600"/>
                <a:ext cx="42984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2799000" y="1071720"/>
              <a:ext cx="595080" cy="412200"/>
              <a:chOff x="2799000" y="1071720"/>
              <a:chExt cx="595080" cy="4122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32480" y="1071720"/>
                <a:ext cx="459360" cy="106200"/>
                <a:chOff x="2832480" y="1071720"/>
                <a:chExt cx="459360" cy="10620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3152520" y="1071720"/>
                  <a:ext cx="139320" cy="1062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>
                  <a:off x="2832480" y="1076400"/>
                  <a:ext cx="31644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822400" y="1230480"/>
                <a:ext cx="508680" cy="106200"/>
                <a:chOff x="2822400" y="1230480"/>
                <a:chExt cx="508680" cy="1062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176640" y="1230480"/>
                  <a:ext cx="154440" cy="1062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>
                  <a:off x="2822400" y="1235160"/>
                  <a:ext cx="35064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2799000" y="1374840"/>
                <a:ext cx="595080" cy="109080"/>
                <a:chOff x="2799000" y="1374840"/>
                <a:chExt cx="595080" cy="10908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3213360" y="1374840"/>
                  <a:ext cx="180720" cy="1090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>
                  <a:off x="2799000" y="1379880"/>
                  <a:ext cx="41040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5" name=""/>
            <p:cNvSpPr/>
            <p:nvPr/>
          </p:nvSpPr>
          <p:spPr>
            <a:xfrm>
              <a:off x="2338560" y="941400"/>
              <a:ext cx="4572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Verdana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2040" y="2408400"/>
              <a:ext cx="373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00 nodes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   10000 nod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585720" y="2617920"/>
            <a:ext cx="38102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ff"/>
                </a:solidFill>
                <a:latin typeface="Verdana"/>
              </a:rPr>
              <a:t>Before algorithm:</a:t>
            </a:r>
            <a:r>
              <a:rPr b="1" lang="en-US" sz="900" spc="-1" strike="noStrike">
                <a:solidFill>
                  <a:srgbClr val="418220"/>
                </a:solidFill>
                <a:latin typeface="Verdana"/>
              </a:rPr>
              <a:t> Avg. of 0.5 communities discove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ff"/>
                </a:solidFill>
                <a:latin typeface="Verdana"/>
              </a:rPr>
              <a:t>After algorithm:</a:t>
            </a:r>
            <a:r>
              <a:rPr b="1" lang="en-US" sz="900" spc="-1" strike="noStrike">
                <a:solidFill>
                  <a:srgbClr val="418220"/>
                </a:solidFill>
                <a:latin typeface="Verdana"/>
              </a:rPr>
              <a:t> Avg. of 8.5 communities discove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Peer Communities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4257720" cy="2332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≈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Interest groups of peers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ahoo Group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Usenet Newsgroup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lf-organizing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ossibly overlapping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971800" y="990720"/>
            <a:ext cx="1343160" cy="1168200"/>
            <a:chOff x="2971800" y="990720"/>
            <a:chExt cx="1343160" cy="1168200"/>
          </a:xfrm>
        </p:grpSpPr>
        <p:sp>
          <p:nvSpPr>
            <p:cNvPr id="180" name=""/>
            <p:cNvSpPr/>
            <p:nvPr/>
          </p:nvSpPr>
          <p:spPr>
            <a:xfrm>
              <a:off x="2971800" y="990720"/>
              <a:ext cx="1343160" cy="11682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59280" y="1077840"/>
              <a:ext cx="1137960" cy="9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yg" descr="Yahoo!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173400" y="1109520"/>
              <a:ext cx="846000" cy="1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ch4" descr="Yahoo!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282840" y="1231920"/>
              <a:ext cx="8096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0,,1787,00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519360" y="1839960"/>
              <a:ext cx="51768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176640" y="1400040"/>
              <a:ext cx="2840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60680" y="1400040"/>
              <a:ext cx="1238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84520" y="1400040"/>
              <a:ext cx="15732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6640" y="1521000"/>
              <a:ext cx="56520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ddaa11"/>
                  </a:solidFill>
                  <a:latin typeface="Arial"/>
                  <a:ea typeface="Arial"/>
                </a:rPr>
                <a:t>            </a:t>
              </a:r>
              <a:r>
                <a:rPr b="1" lang="en-US" sz="500" spc="-1" strike="noStrike">
                  <a:solidFill>
                    <a:srgbClr val="ddaa11"/>
                  </a:solidFill>
                  <a:latin typeface="Arial"/>
                  <a:ea typeface="Arial"/>
                </a:rPr>
                <a:t>Groups</a:t>
              </a:r>
              <a:r>
                <a:rPr b="1" lang="en-US" sz="1500" spc="-1" strike="noStrike">
                  <a:solidFill>
                    <a:srgbClr val="ddaa11"/>
                  </a:solidFill>
                  <a:latin typeface="Arial"/>
                  <a:ea typeface="Arial"/>
                </a:rPr>
                <a:t>	</a:t>
              </a:r>
              <a:r>
                <a:rPr b="1" lang="en-US" sz="1500" spc="-1" strike="noStrike">
                  <a:solidFill>
                    <a:srgbClr val="ddaa11"/>
                  </a:solidFill>
                  <a:latin typeface="Arial"/>
                  <a:ea typeface="Arial"/>
                </a:rPr>
                <a:t>	</a:t>
              </a:r>
              <a:r>
                <a:rPr b="1" lang="en-US" sz="1500" spc="-1" strike="noStrike">
                  <a:solidFill>
                    <a:srgbClr val="ddaa11"/>
                  </a:solidFill>
                  <a:latin typeface="Arial"/>
                  <a:ea typeface="Arial"/>
                </a:rPr>
                <a:t>	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60680" y="1521000"/>
              <a:ext cx="12384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hp0" descr="Google Groups"/>
            <p:cNvPicPr/>
            <p:nvPr/>
          </p:nvPicPr>
          <p:blipFill>
            <a:blip r:embed="rId8"/>
            <a:stretch/>
          </p:blipFill>
          <p:spPr>
            <a:xfrm>
              <a:off x="3224160" y="1406520"/>
              <a:ext cx="23040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hp1" descr=""/>
            <p:cNvPicPr/>
            <p:nvPr/>
          </p:nvPicPr>
          <p:blipFill>
            <a:blip r:embed="rId9"/>
            <a:stretch/>
          </p:blipFill>
          <p:spPr>
            <a:xfrm>
              <a:off x="3454560" y="1406520"/>
              <a:ext cx="7272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hp2" descr=""/>
            <p:cNvPicPr/>
            <p:nvPr/>
          </p:nvPicPr>
          <p:blipFill>
            <a:blip r:embed="rId10"/>
            <a:stretch/>
          </p:blipFill>
          <p:spPr>
            <a:xfrm>
              <a:off x="3527280" y="1406520"/>
              <a:ext cx="10008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hp3" descr=""/>
            <p:cNvPicPr/>
            <p:nvPr/>
          </p:nvPicPr>
          <p:blipFill>
            <a:blip r:embed="rId11"/>
            <a:stretch/>
          </p:blipFill>
          <p:spPr>
            <a:xfrm>
              <a:off x="3456000" y="1521000"/>
              <a:ext cx="71280" cy="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newmsgr_y_65x60" descr="Get MSN Messenger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3357720" y="1623960"/>
              <a:ext cx="1965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logo3" descr="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3672000" y="1630440"/>
              <a:ext cx="328680" cy="16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Content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6200" y="837720"/>
            <a:ext cx="4257720" cy="216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i="1" lang="en-US" sz="1700" spc="-1" strike="noStrike">
                <a:solidFill>
                  <a:srgbClr val="489024"/>
                </a:solidFill>
                <a:latin typeface="Verdana"/>
              </a:rPr>
              <a:t>Motivation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2P Network Modeling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efinitions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Formation &amp; Discovery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imulation Results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Motivation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4257720" cy="2144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A better search technique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200" spc="-1" strike="noStrike">
                <a:solidFill>
                  <a:srgbClr val="489024"/>
                </a:solidFill>
                <a:latin typeface="Verdana"/>
              </a:rPr>
              <a:t>Communities with little overlap</a:t>
            </a:r>
            <a:endParaRPr b="0" lang="en-US" sz="12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endParaRPr b="0" lang="en-US" sz="12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endParaRPr b="0" lang="en-US" sz="12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endParaRPr b="0" lang="en-US" sz="12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200" spc="-1" strike="noStrike">
                <a:solidFill>
                  <a:srgbClr val="489024"/>
                </a:solidFill>
                <a:latin typeface="Verdana"/>
              </a:rPr>
              <a:t>Community-based query propagation</a:t>
            </a:r>
            <a:endParaRPr b="0" lang="en-US" sz="1200" spc="-1" strike="noStrike">
              <a:solidFill>
                <a:srgbClr val="489024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issemination of information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200" spc="-1" strike="noStrike">
                <a:solidFill>
                  <a:srgbClr val="489024"/>
                </a:solidFill>
                <a:latin typeface="Verdana"/>
              </a:rPr>
              <a:t>Interest-based membership</a:t>
            </a:r>
            <a:endParaRPr b="0" lang="en-US" sz="12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1200" spc="-1" strike="noStrike">
                <a:solidFill>
                  <a:srgbClr val="489024"/>
                </a:solidFill>
                <a:latin typeface="Verdana"/>
              </a:rPr>
              <a:t>Sharing information</a:t>
            </a:r>
            <a:endParaRPr b="0" lang="en-US" sz="1200" spc="-1" strike="noStrike">
              <a:solidFill>
                <a:srgbClr val="489024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3880" y="1143000"/>
            <a:ext cx="1530360" cy="561600"/>
            <a:chOff x="1523880" y="1143000"/>
            <a:chExt cx="1530360" cy="561600"/>
          </a:xfrm>
        </p:grpSpPr>
        <p:sp>
          <p:nvSpPr>
            <p:cNvPr id="201" name=""/>
            <p:cNvSpPr/>
            <p:nvPr/>
          </p:nvSpPr>
          <p:spPr>
            <a:xfrm flipV="1">
              <a:off x="1727640" y="160272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829880" y="1500480"/>
              <a:ext cx="50760" cy="51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31760" y="139824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931760" y="160272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778760" y="139824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829880" y="165348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727640" y="1500480"/>
              <a:ext cx="50760" cy="51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085120" y="155160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881000" y="129600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982880" y="1500480"/>
              <a:ext cx="50760" cy="51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135880" y="1500480"/>
              <a:ext cx="50760" cy="51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727640" y="129600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340000" y="129600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340000" y="160272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187000" y="129600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187000" y="165348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135880" y="139824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931760" y="114264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085120" y="1193760"/>
              <a:ext cx="50760" cy="51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289240" y="144936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850480" y="1500480"/>
              <a:ext cx="50760" cy="51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748240" y="144936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574640" y="124488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238120" y="114264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625760" y="144936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697120" y="155160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799360" y="139824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523880" y="160272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034000" y="134712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850480" y="160272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544120" y="144936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850480" y="129600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97120" y="134712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952360" y="124488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901240" y="139824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748240" y="124488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952360" y="1500480"/>
              <a:ext cx="50760" cy="51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003480" y="160272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034000" y="165348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003480" y="1347120"/>
              <a:ext cx="50760" cy="5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568520" y="1496160"/>
              <a:ext cx="74160" cy="1105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1602360" y="1296360"/>
              <a:ext cx="44640" cy="1530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1961640" y="1449360"/>
              <a:ext cx="33840" cy="529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878480" y="1515960"/>
              <a:ext cx="108360" cy="126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963800" y="1551960"/>
              <a:ext cx="36000" cy="5724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019240" y="1396080"/>
              <a:ext cx="31680" cy="1062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1829880" y="1432080"/>
              <a:ext cx="159120" cy="745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27520" y="1545480"/>
              <a:ext cx="61560" cy="169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5360" y="1549800"/>
              <a:ext cx="29520" cy="1083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868040" y="1541160"/>
              <a:ext cx="120960" cy="11484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1771920" y="1647360"/>
              <a:ext cx="59400" cy="1908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766160" y="1543320"/>
              <a:ext cx="69840" cy="6804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1774080" y="1530360"/>
              <a:ext cx="55080" cy="18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70400" y="1487880"/>
              <a:ext cx="63720" cy="234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672560" y="1432440"/>
              <a:ext cx="106200" cy="3168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1768320" y="1340640"/>
              <a:ext cx="172080" cy="637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48880" y="1347480"/>
              <a:ext cx="8280" cy="1551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19160" y="1343520"/>
              <a:ext cx="31680" cy="5508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078640" y="1656360"/>
              <a:ext cx="114480" cy="828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2031480" y="1524240"/>
              <a:ext cx="106200" cy="18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078280" y="1392120"/>
              <a:ext cx="55080" cy="360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220840" y="1500840"/>
              <a:ext cx="84960" cy="1551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084760" y="1338840"/>
              <a:ext cx="112680" cy="295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027520" y="1443240"/>
              <a:ext cx="118800" cy="637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63880" y="1241280"/>
              <a:ext cx="44640" cy="1083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914840" y="1193760"/>
              <a:ext cx="38160" cy="1044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129400" y="1183320"/>
              <a:ext cx="110520" cy="255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2237760" y="1321920"/>
              <a:ext cx="101880" cy="18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233440" y="1619640"/>
              <a:ext cx="106200" cy="489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2129760" y="1598760"/>
              <a:ext cx="72000" cy="5508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1946520" y="1449720"/>
              <a:ext cx="8280" cy="1551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0720" y="1419480"/>
              <a:ext cx="161280" cy="936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072160" y="1598400"/>
              <a:ext cx="29520" cy="594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1931400" y="1325880"/>
              <a:ext cx="108360" cy="3168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3080" y="1623960"/>
              <a:ext cx="146520" cy="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61440" y="1477080"/>
              <a:ext cx="127440" cy="277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174400" y="1349280"/>
              <a:ext cx="36000" cy="468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129760" y="1547280"/>
              <a:ext cx="23400" cy="169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982520" y="1379160"/>
              <a:ext cx="50760" cy="3168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855440" y="1438920"/>
              <a:ext cx="80640" cy="615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7720" y="1420200"/>
              <a:ext cx="104040" cy="18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65880" y="1549800"/>
              <a:ext cx="76320" cy="5724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873520" y="1442880"/>
              <a:ext cx="40320" cy="594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794680" y="1485360"/>
              <a:ext cx="63720" cy="234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2835360" y="1453680"/>
              <a:ext cx="31680" cy="468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900880" y="1524600"/>
              <a:ext cx="50760" cy="18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943720" y="1447560"/>
              <a:ext cx="27360" cy="507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50480" y="1443240"/>
              <a:ext cx="108360" cy="6804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877840" y="1549800"/>
              <a:ext cx="6120" cy="5508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2988360" y="1549440"/>
              <a:ext cx="27360" cy="594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800800" y="1274760"/>
              <a:ext cx="59400" cy="234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898720" y="1281240"/>
              <a:ext cx="57240" cy="3168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949840" y="1374840"/>
              <a:ext cx="55080" cy="3384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2886480" y="1344960"/>
              <a:ext cx="25200" cy="594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2850120" y="1424160"/>
              <a:ext cx="50760" cy="18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2747880" y="1387440"/>
              <a:ext cx="55080" cy="1908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595240" y="1477080"/>
              <a:ext cx="156960" cy="18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735640" y="1500480"/>
              <a:ext cx="25200" cy="5544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746080" y="1536840"/>
              <a:ext cx="110520" cy="295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786400" y="1440720"/>
              <a:ext cx="16920" cy="147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748240" y="1332360"/>
              <a:ext cx="104040" cy="381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841480" y="1347480"/>
              <a:ext cx="23400" cy="5724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84240" y="1502280"/>
              <a:ext cx="69840" cy="10440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382480" y="1485720"/>
              <a:ext cx="161280" cy="1191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P2P Network Modeling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4257720" cy="23367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Attribute-based Communities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mplicitly / Explicitly obtaine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3 classes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618840" indent="-181800">
              <a:lnSpc>
                <a:spcPct val="90000"/>
              </a:lnSpc>
              <a:spcBef>
                <a:spcPts val="337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900" spc="-1" strike="noStrike">
                <a:solidFill>
                  <a:srgbClr val="489024"/>
                </a:solidFill>
                <a:latin typeface="Verdana"/>
              </a:rPr>
              <a:t>PERSONAL</a:t>
            </a: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  <a:p>
            <a:pPr lvl="2" marL="618840" indent="-181800">
              <a:lnSpc>
                <a:spcPct val="90000"/>
              </a:lnSpc>
              <a:spcBef>
                <a:spcPts val="337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900" spc="-1" strike="noStrike">
                <a:solidFill>
                  <a:srgbClr val="489024"/>
                </a:solidFill>
                <a:latin typeface="Verdana"/>
              </a:rPr>
              <a:t>CLAIMED</a:t>
            </a: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  <a:p>
            <a:pPr lvl="2" marL="618840" indent="-181800">
              <a:lnSpc>
                <a:spcPct val="90000"/>
              </a:lnSpc>
              <a:spcBef>
                <a:spcPts val="337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900" spc="-1" strike="noStrike">
                <a:solidFill>
                  <a:srgbClr val="489024"/>
                </a:solidFill>
                <a:latin typeface="Verdana"/>
              </a:rPr>
              <a:t>GROUP</a:t>
            </a: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  <a:p>
            <a:pPr marL="227520" indent="-22752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Link-based Network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elationship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34880" indent="-20556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User selecte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618840" indent="-181800">
              <a:lnSpc>
                <a:spcPct val="90000"/>
              </a:lnSpc>
              <a:spcBef>
                <a:spcPts val="337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900" spc="-1" strike="noStrike">
                <a:solidFill>
                  <a:srgbClr val="489024"/>
                </a:solidFill>
                <a:latin typeface="Verdana"/>
              </a:rPr>
              <a:t>SERVER</a:t>
            </a: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  <a:p>
            <a:pPr lvl="2" marL="618840" indent="-181800">
              <a:lnSpc>
                <a:spcPct val="90000"/>
              </a:lnSpc>
              <a:spcBef>
                <a:spcPts val="337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900" spc="-1" strike="noStrike">
                <a:solidFill>
                  <a:srgbClr val="489024"/>
                </a:solidFill>
                <a:latin typeface="Verdana"/>
              </a:rPr>
              <a:t>TRUSTWORTHY FRIEND</a:t>
            </a: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  <a:p>
            <a:pPr lvl="2" marL="618840" indent="-181800">
              <a:lnSpc>
                <a:spcPct val="90000"/>
              </a:lnSpc>
              <a:spcBef>
                <a:spcPts val="337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900" spc="-1" strike="noStrike">
                <a:solidFill>
                  <a:srgbClr val="489024"/>
                </a:solidFill>
                <a:latin typeface="Verdana"/>
              </a:rPr>
              <a:t>POPULAR PEER</a:t>
            </a: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Nature of Links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4257720" cy="2541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egular Connections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ue to inclination to form group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Friends, colleagues, etc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andom Connections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ue to human factor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enerally long-distanc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37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900" spc="-1" strike="noStrike">
                <a:solidFill>
                  <a:srgbClr val="489024"/>
                </a:solidFill>
                <a:latin typeface="Verdana"/>
              </a:rPr>
              <a:t>Outside current network</a:t>
            </a: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  <a:p>
            <a:pPr lvl="2" marL="625320" indent="-183960">
              <a:lnSpc>
                <a:spcPct val="90000"/>
              </a:lnSpc>
              <a:spcBef>
                <a:spcPts val="337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900" spc="-1" strike="noStrike">
                <a:solidFill>
                  <a:srgbClr val="489024"/>
                </a:solidFill>
                <a:latin typeface="Verdana"/>
              </a:rPr>
              <a:t>Might not share common interest</a:t>
            </a: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14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Usually fewer in numbe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56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his forms a small-world network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62532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endParaRPr b="0" lang="en-US" sz="900" spc="-1" strike="noStrike">
              <a:solidFill>
                <a:srgbClr val="489024"/>
              </a:solidFill>
              <a:latin typeface="Verdana"/>
            </a:endParaRPr>
          </a:p>
          <a:p>
            <a:pPr lvl="1" marL="4395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Network Modeling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85800" y="990720"/>
            <a:ext cx="1676520" cy="1724040"/>
            <a:chOff x="685800" y="990720"/>
            <a:chExt cx="1676520" cy="1724040"/>
          </a:xfrm>
        </p:grpSpPr>
        <p:grpSp>
          <p:nvGrpSpPr>
            <p:cNvPr id="312" name=""/>
            <p:cNvGrpSpPr/>
            <p:nvPr/>
          </p:nvGrpSpPr>
          <p:grpSpPr>
            <a:xfrm>
              <a:off x="685800" y="990720"/>
              <a:ext cx="1641600" cy="1126800"/>
              <a:chOff x="685800" y="990720"/>
              <a:chExt cx="1641600" cy="112680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1616040" y="1858320"/>
                <a:ext cx="154080" cy="1436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1097280" y="1658880"/>
                <a:ext cx="0" cy="1260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1101240" y="1648800"/>
                <a:ext cx="19908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1107000" y="1784880"/>
                <a:ext cx="198360" cy="21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1091160" y="1654560"/>
                <a:ext cx="204120" cy="1216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306440" y="1666080"/>
                <a:ext cx="1440" cy="1342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1099080" y="1641240"/>
                <a:ext cx="212040" cy="1353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856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1023480" y="1130040"/>
                <a:ext cx="139320" cy="676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flipV="1">
                <a:off x="1156680" y="1146960"/>
                <a:ext cx="3240" cy="1069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12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1152000" y="1190160"/>
                <a:ext cx="155880" cy="752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1160280" y="1116360"/>
                <a:ext cx="137520" cy="788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028520" y="1189800"/>
                <a:ext cx="262080" cy="32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88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957960" y="2094840"/>
                <a:ext cx="151560" cy="21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977760" y="1968120"/>
                <a:ext cx="123480" cy="1170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977760" y="1954440"/>
                <a:ext cx="249480" cy="21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255680" y="1973520"/>
                <a:ext cx="2160" cy="1134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81000" y="1958760"/>
                <a:ext cx="132840" cy="1267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1114560" y="1960920"/>
                <a:ext cx="141120" cy="1317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1238400" y="2027520"/>
                <a:ext cx="77760" cy="795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1128240" y="1963800"/>
                <a:ext cx="199800" cy="579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77760" y="1946880"/>
                <a:ext cx="0" cy="1659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983520" y="1963440"/>
                <a:ext cx="251280" cy="1216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488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53160" y="1949400"/>
                <a:ext cx="88560" cy="892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1839960" y="1003680"/>
                <a:ext cx="141840" cy="921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1835280" y="1026000"/>
                <a:ext cx="720" cy="2556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1711440" y="1088280"/>
                <a:ext cx="257040" cy="1915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1711080" y="1022400"/>
                <a:ext cx="123480" cy="2595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1557000" y="1010520"/>
                <a:ext cx="148320" cy="2163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1847520" y="1024920"/>
                <a:ext cx="120960" cy="1890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1830600" y="1221480"/>
                <a:ext cx="145800" cy="788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57000" y="1095840"/>
                <a:ext cx="2160" cy="1252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99200" y="1294560"/>
                <a:ext cx="13176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572120" y="1025640"/>
                <a:ext cx="252360" cy="1998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1577880" y="1095480"/>
                <a:ext cx="115920" cy="1882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567800" y="1090800"/>
                <a:ext cx="416520" cy="1209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416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57000" y="1076040"/>
                <a:ext cx="414720" cy="1425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567800" y="1010160"/>
                <a:ext cx="291960" cy="651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84360" y="1227240"/>
                <a:ext cx="39168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9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537200" y="1197360"/>
                <a:ext cx="47160" cy="471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75800" y="990720"/>
                <a:ext cx="4572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14400" y="1266840"/>
                <a:ext cx="4536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75800" y="1266840"/>
                <a:ext cx="4572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51200" y="1060200"/>
                <a:ext cx="4572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814400" y="990720"/>
                <a:ext cx="4536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51200" y="1197360"/>
                <a:ext cx="45720" cy="471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37200" y="1060200"/>
                <a:ext cx="4716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663200" y="1912680"/>
                <a:ext cx="4572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32320" y="1843200"/>
                <a:ext cx="4572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93720" y="1981080"/>
                <a:ext cx="45360" cy="46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281600" y="1626480"/>
                <a:ext cx="4644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81600" y="1764360"/>
                <a:ext cx="46440" cy="46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73880" y="1626480"/>
                <a:ext cx="4572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073880" y="1764360"/>
                <a:ext cx="45720" cy="46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918720" y="1496880"/>
                <a:ext cx="77760" cy="1382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706320" y="1504800"/>
                <a:ext cx="77040" cy="1400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776520" y="1518480"/>
                <a:ext cx="189720" cy="1126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0440" y="1505880"/>
                <a:ext cx="25200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849960" y="1374480"/>
                <a:ext cx="137520" cy="1299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783720" y="1365120"/>
                <a:ext cx="64440" cy="2804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22880" y="1508760"/>
                <a:ext cx="191520" cy="1267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>
                <a:off x="855000" y="1364760"/>
                <a:ext cx="37440" cy="2530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18560" y="1350000"/>
                <a:ext cx="122760" cy="1425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61920" y="1480320"/>
                <a:ext cx="4536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92440" y="1618200"/>
                <a:ext cx="4716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85800" y="1480320"/>
                <a:ext cx="4536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55280" y="1618200"/>
                <a:ext cx="4536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4040" y="1341720"/>
                <a:ext cx="4536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3720" y="1104120"/>
                <a:ext cx="45360" cy="471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280520" y="1173960"/>
                <a:ext cx="4716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005120" y="1173960"/>
                <a:ext cx="4572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43720" y="1242720"/>
                <a:ext cx="4536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96200" y="2072160"/>
                <a:ext cx="4572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57960" y="1933560"/>
                <a:ext cx="4716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96200" y="1933560"/>
                <a:ext cx="4572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221120" y="2072160"/>
                <a:ext cx="4644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235160" y="1933560"/>
                <a:ext cx="4536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57960" y="2072160"/>
                <a:ext cx="4716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03200" y="2002320"/>
                <a:ext cx="46440" cy="46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2150280" y="1609560"/>
                <a:ext cx="155880" cy="1220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1813680" y="1600200"/>
                <a:ext cx="155160" cy="1436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flipV="1">
                <a:off x="1964160" y="1605240"/>
                <a:ext cx="330120" cy="1220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1825920" y="1745280"/>
                <a:ext cx="47304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969560" y="1596960"/>
                <a:ext cx="186840" cy="25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1832400" y="1600560"/>
                <a:ext cx="335880" cy="1443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97840" y="1716840"/>
                <a:ext cx="4536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143080" y="1580040"/>
                <a:ext cx="4572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81680" y="1716840"/>
                <a:ext cx="4572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36440" y="1580040"/>
                <a:ext cx="4536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2520" y="1558440"/>
                <a:ext cx="27540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9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46640" y="1498680"/>
                <a:ext cx="0" cy="1382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509120" y="1491120"/>
                <a:ext cx="0" cy="1393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450080" y="1489680"/>
                <a:ext cx="180000" cy="680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1523880" y="1549800"/>
                <a:ext cx="181800" cy="680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440720" y="1555920"/>
                <a:ext cx="70560" cy="745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509120" y="1483560"/>
                <a:ext cx="133560" cy="21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89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513800" y="1629360"/>
                <a:ext cx="133560" cy="25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88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03720" y="1486080"/>
                <a:ext cx="205920" cy="720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1522800" y="1493280"/>
                <a:ext cx="124200" cy="1335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76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415160" y="1535040"/>
                <a:ext cx="4716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22520" y="1465200"/>
                <a:ext cx="4644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84280" y="1465200"/>
                <a:ext cx="4716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84280" y="1604880"/>
                <a:ext cx="4716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92360" y="1535040"/>
                <a:ext cx="45360" cy="45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622520" y="1604880"/>
                <a:ext cx="46440" cy="45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85800" y="24382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ular Conn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666880" y="901800"/>
            <a:ext cx="1752840" cy="1812960"/>
            <a:chOff x="2666880" y="901800"/>
            <a:chExt cx="1752840" cy="1812960"/>
          </a:xfrm>
        </p:grpSpPr>
        <p:grpSp>
          <p:nvGrpSpPr>
            <p:cNvPr id="419" name=""/>
            <p:cNvGrpSpPr/>
            <p:nvPr/>
          </p:nvGrpSpPr>
          <p:grpSpPr>
            <a:xfrm>
              <a:off x="2666880" y="901800"/>
              <a:ext cx="1698840" cy="1396800"/>
              <a:chOff x="2666880" y="901800"/>
              <a:chExt cx="1698840" cy="1396800"/>
            </a:xfrm>
          </p:grpSpPr>
          <p:sp>
            <p:nvSpPr>
              <p:cNvPr id="420" name=""/>
              <p:cNvSpPr/>
              <p:nvPr/>
            </p:nvSpPr>
            <p:spPr>
              <a:xfrm flipV="1">
                <a:off x="3630600" y="1871640"/>
                <a:ext cx="158760" cy="1476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092400" y="1663560"/>
                <a:ext cx="0" cy="1317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097080" y="1654200"/>
                <a:ext cx="20664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103200" y="1795320"/>
                <a:ext cx="204840" cy="18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3087720" y="1658520"/>
                <a:ext cx="210960" cy="1270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09840" y="1671480"/>
                <a:ext cx="1800" cy="1396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094200" y="1646280"/>
                <a:ext cx="220680" cy="1396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016080" y="1116000"/>
                <a:ext cx="144720" cy="712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3153960" y="1135080"/>
                <a:ext cx="3240" cy="1094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264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149640" y="1179000"/>
                <a:ext cx="162000" cy="781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3157200" y="1103040"/>
                <a:ext cx="142920" cy="810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3021120" y="1179360"/>
                <a:ext cx="271440" cy="32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88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2948040" y="2114640"/>
                <a:ext cx="156960" cy="14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2968560" y="1983960"/>
                <a:ext cx="128520" cy="1206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2968560" y="1969560"/>
                <a:ext cx="258840" cy="18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55840" y="1989000"/>
                <a:ext cx="5040" cy="1177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73240" y="1974960"/>
                <a:ext cx="136800" cy="1299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111480" y="1976040"/>
                <a:ext cx="144360" cy="1364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3238200" y="2044800"/>
                <a:ext cx="81000" cy="824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3125520" y="1979280"/>
                <a:ext cx="207720" cy="601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968560" y="1962000"/>
                <a:ext cx="0" cy="1717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flipV="1">
                <a:off x="2976120" y="1979640"/>
                <a:ext cx="258840" cy="1252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848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54400" y="1965240"/>
                <a:ext cx="92160" cy="921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3860280" y="987480"/>
                <a:ext cx="147960" cy="936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3855600" y="1009800"/>
                <a:ext cx="1800" cy="2635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3728880" y="1072800"/>
                <a:ext cx="265320" cy="1983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3728520" y="1004760"/>
                <a:ext cx="127080" cy="2700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3568320" y="992160"/>
                <a:ext cx="152280" cy="2253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3868200" y="1007640"/>
                <a:ext cx="125640" cy="1969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3852360" y="1209600"/>
                <a:ext cx="150840" cy="828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68680" y="1081080"/>
                <a:ext cx="1440" cy="1285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16280" y="1285920"/>
                <a:ext cx="13644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3583080" y="1009440"/>
                <a:ext cx="261720" cy="2062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3589200" y="1081080"/>
                <a:ext cx="120960" cy="1951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3579840" y="1076400"/>
                <a:ext cx="431640" cy="1252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848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68680" y="1060560"/>
                <a:ext cx="430200" cy="1476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579840" y="992160"/>
                <a:ext cx="301680" cy="684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595680" y="1217520"/>
                <a:ext cx="40644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9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48160" y="1185840"/>
                <a:ext cx="47520" cy="493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91080" y="97164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833640" y="1257480"/>
                <a:ext cx="478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91080" y="125748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976560" y="1042920"/>
                <a:ext cx="478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33640" y="971640"/>
                <a:ext cx="478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976560" y="1185840"/>
                <a:ext cx="47880" cy="493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548160" y="104292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678120" y="1927080"/>
                <a:ext cx="47880" cy="47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749760" y="185436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606840" y="1996920"/>
                <a:ext cx="47520" cy="47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84640" y="1630440"/>
                <a:ext cx="460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84640" y="1773360"/>
                <a:ext cx="460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8640" y="163044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068640" y="177336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2906280" y="1495440"/>
                <a:ext cx="81000" cy="1443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flipV="1">
                <a:off x="2688840" y="1504800"/>
                <a:ext cx="79560" cy="1447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2762280" y="1519200"/>
                <a:ext cx="195120" cy="1159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712960" y="1506600"/>
                <a:ext cx="26028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2836440" y="1370160"/>
                <a:ext cx="142920" cy="1346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2769840" y="1360440"/>
                <a:ext cx="65160" cy="2890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705040" y="1509840"/>
                <a:ext cx="198360" cy="12996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2843280" y="1360080"/>
                <a:ext cx="38160" cy="2602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2701440" y="1344600"/>
                <a:ext cx="127080" cy="1476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952720" y="147960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81440" y="1620720"/>
                <a:ext cx="47520" cy="47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66880" y="1479600"/>
                <a:ext cx="478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738520" y="1620720"/>
                <a:ext cx="47520" cy="47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09800" y="1336680"/>
                <a:ext cx="478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39920" y="1090440"/>
                <a:ext cx="47880" cy="47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282840" y="1162080"/>
                <a:ext cx="478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997360" y="116208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39920" y="1233360"/>
                <a:ext cx="47880" cy="47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92400" y="209088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948040" y="1947960"/>
                <a:ext cx="493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092400" y="194796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220920" y="2090880"/>
                <a:ext cx="478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235320" y="194796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948040" y="2090880"/>
                <a:ext cx="493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05160" y="2019240"/>
                <a:ext cx="493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4182840" y="1611000"/>
                <a:ext cx="160200" cy="1270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3833640" y="1603440"/>
                <a:ext cx="160560" cy="1476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3990960" y="1607760"/>
                <a:ext cx="341280" cy="1270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3846600" y="1752480"/>
                <a:ext cx="48888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3995640" y="1598760"/>
                <a:ext cx="193680" cy="288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852360" y="1603440"/>
                <a:ext cx="349560" cy="1490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817800" y="1724040"/>
                <a:ext cx="478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175280" y="158112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317840" y="1724040"/>
                <a:ext cx="478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960720" y="1581120"/>
                <a:ext cx="478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49520" y="1560600"/>
                <a:ext cx="285840" cy="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9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60840" y="1498680"/>
                <a:ext cx="0" cy="1411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519360" y="1490760"/>
                <a:ext cx="0" cy="1429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3457440" y="1488600"/>
                <a:ext cx="187560" cy="716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3535200" y="1550880"/>
                <a:ext cx="187560" cy="698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49520" y="1557360"/>
                <a:ext cx="73080" cy="763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3519360" y="1483920"/>
                <a:ext cx="138240" cy="180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89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3524400" y="1631520"/>
                <a:ext cx="137880" cy="32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88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514680" y="1486080"/>
                <a:ext cx="212760" cy="7452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3533400" y="1493640"/>
                <a:ext cx="128520" cy="136440"/>
              </a:xfrm>
              <a:prstGeom prst="line">
                <a:avLst/>
              </a:prstGeom>
              <a:ln w="1260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964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422520" y="1535040"/>
                <a:ext cx="4788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637080" y="146376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494160" y="1463760"/>
                <a:ext cx="493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94160" y="1606680"/>
                <a:ext cx="493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708360" y="153504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637080" y="1606680"/>
                <a:ext cx="47520" cy="475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890800" y="911160"/>
                <a:ext cx="665280" cy="581040"/>
              </a:xfrm>
              <a:custGeom>
                <a:avLst/>
                <a:gdLst/>
                <a:ahLst/>
                <a:rect l="l" t="t" r="r" b="b"/>
                <a:pathLst>
                  <a:path w="519" h="454">
                    <a:moveTo>
                      <a:pt x="83" y="454"/>
                    </a:moveTo>
                    <a:cubicBezTo>
                      <a:pt x="41" y="386"/>
                      <a:pt x="0" y="318"/>
                      <a:pt x="1" y="254"/>
                    </a:cubicBezTo>
                    <a:cubicBezTo>
                      <a:pt x="2" y="190"/>
                      <a:pt x="31" y="106"/>
                      <a:pt x="91" y="68"/>
                    </a:cubicBezTo>
                    <a:cubicBezTo>
                      <a:pt x="151" y="30"/>
                      <a:pt x="288" y="0"/>
                      <a:pt x="359" y="26"/>
                    </a:cubicBezTo>
                    <a:cubicBezTo>
                      <a:pt x="430" y="52"/>
                      <a:pt x="474" y="137"/>
                      <a:pt x="519" y="222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333600" y="1579680"/>
                <a:ext cx="416160" cy="274680"/>
              </a:xfrm>
              <a:custGeom>
                <a:avLst/>
                <a:gdLst/>
                <a:ahLst/>
                <a:rect l="l" t="t" r="r" b="b"/>
                <a:pathLst>
                  <a:path w="326" h="215">
                    <a:moveTo>
                      <a:pt x="0" y="174"/>
                    </a:moveTo>
                    <a:cubicBezTo>
                      <a:pt x="104" y="194"/>
                      <a:pt x="208" y="215"/>
                      <a:pt x="262" y="186"/>
                    </a:cubicBezTo>
                    <a:cubicBezTo>
                      <a:pt x="316" y="157"/>
                      <a:pt x="321" y="78"/>
                      <a:pt x="32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371760" y="1233360"/>
                <a:ext cx="639720" cy="333360"/>
              </a:xfrm>
              <a:custGeom>
                <a:avLst/>
                <a:gdLst/>
                <a:ahLst/>
                <a:rect l="l" t="t" r="r" b="b"/>
                <a:pathLst>
                  <a:path w="499" h="260">
                    <a:moveTo>
                      <a:pt x="499" y="0"/>
                    </a:moveTo>
                    <a:cubicBezTo>
                      <a:pt x="494" y="54"/>
                      <a:pt x="490" y="109"/>
                      <a:pt x="435" y="126"/>
                    </a:cubicBezTo>
                    <a:cubicBezTo>
                      <a:pt x="380" y="143"/>
                      <a:pt x="239" y="101"/>
                      <a:pt x="171" y="104"/>
                    </a:cubicBezTo>
                    <a:cubicBezTo>
                      <a:pt x="103" y="107"/>
                      <a:pt x="54" y="127"/>
                      <a:pt x="27" y="146"/>
                    </a:cubicBezTo>
                    <a:cubicBezTo>
                      <a:pt x="0" y="165"/>
                      <a:pt x="5" y="197"/>
                      <a:pt x="7" y="216"/>
                    </a:cubicBezTo>
                    <a:cubicBezTo>
                      <a:pt x="9" y="235"/>
                      <a:pt x="23" y="247"/>
                      <a:pt x="37" y="26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84560" y="1266840"/>
                <a:ext cx="509400" cy="41400"/>
              </a:xfrm>
              <a:custGeom>
                <a:avLst/>
                <a:gdLst/>
                <a:ahLst/>
                <a:rect l="l" t="t" r="r" b="b"/>
                <a:pathLst>
                  <a:path w="398" h="33">
                    <a:moveTo>
                      <a:pt x="398" y="16"/>
                    </a:moveTo>
                    <a:cubicBezTo>
                      <a:pt x="346" y="24"/>
                      <a:pt x="294" y="33"/>
                      <a:pt x="228" y="30"/>
                    </a:cubicBezTo>
                    <a:cubicBezTo>
                      <a:pt x="162" y="27"/>
                      <a:pt x="81" y="13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320" bIns="-4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951280" y="1638360"/>
                <a:ext cx="120600" cy="306360"/>
              </a:xfrm>
              <a:custGeom>
                <a:avLst/>
                <a:gdLst/>
                <a:ahLst/>
                <a:rect l="l" t="t" r="r" b="b"/>
                <a:pathLst>
                  <a:path w="94" h="240">
                    <a:moveTo>
                      <a:pt x="22" y="240"/>
                    </a:moveTo>
                    <a:cubicBezTo>
                      <a:pt x="11" y="182"/>
                      <a:pt x="0" y="124"/>
                      <a:pt x="12" y="84"/>
                    </a:cubicBezTo>
                    <a:cubicBezTo>
                      <a:pt x="24" y="44"/>
                      <a:pt x="59" y="22"/>
                      <a:pt x="94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278160" y="1927080"/>
                <a:ext cx="405000" cy="41400"/>
              </a:xfrm>
              <a:custGeom>
                <a:avLst/>
                <a:gdLst/>
                <a:ahLst/>
                <a:rect l="l" t="t" r="r" b="b"/>
                <a:pathLst>
                  <a:path w="316" h="32">
                    <a:moveTo>
                      <a:pt x="0" y="32"/>
                    </a:moveTo>
                    <a:cubicBezTo>
                      <a:pt x="63" y="20"/>
                      <a:pt x="127" y="8"/>
                      <a:pt x="180" y="4"/>
                    </a:cubicBezTo>
                    <a:cubicBezTo>
                      <a:pt x="233" y="0"/>
                      <a:pt x="274" y="4"/>
                      <a:pt x="316" y="8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320" bIns="-4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878280" y="901800"/>
                <a:ext cx="366840" cy="690480"/>
              </a:xfrm>
              <a:custGeom>
                <a:avLst/>
                <a:gdLst/>
                <a:ahLst/>
                <a:rect l="l" t="t" r="r" b="b"/>
                <a:pathLst>
                  <a:path w="286" h="539">
                    <a:moveTo>
                      <a:pt x="0" y="65"/>
                    </a:moveTo>
                    <a:cubicBezTo>
                      <a:pt x="99" y="32"/>
                      <a:pt x="198" y="0"/>
                      <a:pt x="242" y="79"/>
                    </a:cubicBezTo>
                    <a:cubicBezTo>
                      <a:pt x="286" y="158"/>
                      <a:pt x="276" y="348"/>
                      <a:pt x="266" y="53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351240" y="1768320"/>
                <a:ext cx="976320" cy="327240"/>
              </a:xfrm>
              <a:custGeom>
                <a:avLst/>
                <a:gdLst/>
                <a:ahLst/>
                <a:rect l="l" t="t" r="r" b="b"/>
                <a:pathLst>
                  <a:path w="764" h="255">
                    <a:moveTo>
                      <a:pt x="764" y="0"/>
                    </a:moveTo>
                    <a:cubicBezTo>
                      <a:pt x="663" y="92"/>
                      <a:pt x="563" y="185"/>
                      <a:pt x="436" y="220"/>
                    </a:cubicBezTo>
                    <a:cubicBezTo>
                      <a:pt x="309" y="255"/>
                      <a:pt x="154" y="233"/>
                      <a:pt x="0" y="212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708280" y="1666800"/>
                <a:ext cx="444600" cy="631800"/>
              </a:xfrm>
              <a:custGeom>
                <a:avLst/>
                <a:gdLst/>
                <a:ahLst/>
                <a:rect l="l" t="t" r="r" b="b"/>
                <a:pathLst>
                  <a:path w="347" h="494">
                    <a:moveTo>
                      <a:pt x="36" y="0"/>
                    </a:moveTo>
                    <a:cubicBezTo>
                      <a:pt x="18" y="87"/>
                      <a:pt x="0" y="174"/>
                      <a:pt x="14" y="250"/>
                    </a:cubicBezTo>
                    <a:cubicBezTo>
                      <a:pt x="28" y="326"/>
                      <a:pt x="70" y="418"/>
                      <a:pt x="120" y="456"/>
                    </a:cubicBezTo>
                    <a:cubicBezTo>
                      <a:pt x="170" y="494"/>
                      <a:pt x="277" y="492"/>
                      <a:pt x="312" y="478"/>
                    </a:cubicBezTo>
                    <a:cubicBezTo>
                      <a:pt x="347" y="464"/>
                      <a:pt x="339" y="417"/>
                      <a:pt x="332" y="37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2743200" y="24382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andom Conn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6200" y="222120"/>
            <a:ext cx="4257720" cy="3636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300" spc="-1" strike="noStrike">
                <a:solidFill>
                  <a:srgbClr val="0099ff"/>
                </a:solidFill>
                <a:latin typeface="Trebuchet MS"/>
              </a:rPr>
              <a:t>Definitions</a:t>
            </a:r>
            <a:endParaRPr b="1" lang="en-US" sz="2300" spc="-1" strike="noStrike">
              <a:solidFill>
                <a:srgbClr val="0099ff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6200" y="636480"/>
            <a:ext cx="4257720" cy="236880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23400" bIns="234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600" spc="-1" strike="noStrike">
                <a:solidFill>
                  <a:srgbClr val="489024"/>
                </a:solidFill>
                <a:latin typeface="Verdana"/>
              </a:rPr>
              <a:t>claim(n) is a set containing attributes claimed by node ‘n’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ignature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Set resulting from the intersection of claim(k), for all k Є non-empty set of nod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30040" indent="-230040">
              <a:lnSpc>
                <a:spcPct val="90000"/>
              </a:lnSpc>
              <a:spcBef>
                <a:spcPts val="638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2P Community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39560" indent="-207720">
              <a:lnSpc>
                <a:spcPct val="90000"/>
              </a:lnSpc>
              <a:spcBef>
                <a:spcPts val="488"/>
              </a:spcBef>
              <a:buClr>
                <a:srgbClr val="ff3300"/>
              </a:buClr>
              <a:buSzPct val="75000"/>
              <a:buFont typeface="Verdana"/>
              <a:buChar char="o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The non-empty set N of nodes is a peer-to-peer community iff N has a non-null signatur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21:37:57Z</dcterms:created>
  <dc:creator>Michael J. Gelb</dc:creator>
  <dc:description>Formatted:  Dionne Miller, Silver Fox </dc:description>
  <dc:language>en-US</dc:language>
  <cp:lastModifiedBy>Mujtaba Khambatti</cp:lastModifiedBy>
  <dcterms:modified xsi:type="dcterms:W3CDTF">2002-11-02T00:45:03Z</dcterms:modified>
  <cp:revision>110</cp:revision>
  <dc:subject>Seminar Online</dc:subject>
  <dc:title>How To Think Like Leonardo da Vinci</dc:title>
</cp:coreProperties>
</file>