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971800" y="6134040"/>
            <a:ext cx="32004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85800" y="1447920"/>
            <a:ext cx="77724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rebuchet MS"/>
              </a:rPr>
              <a:t>Process Migration through Virtualization in a Computing Community</a:t>
            </a:r>
            <a:endParaRPr b="1" lang="en-US" sz="28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7a"/>
                </a:solidFill>
                <a:latin typeface="Tahoma"/>
              </a:rPr>
              <a:t>Shu Zhang, Mujtaba Khambatti,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7a"/>
                </a:solidFill>
                <a:latin typeface="Tahoma"/>
              </a:rPr>
              <a:t>Partha Dasgupta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Arizona State University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90920"/>
            <a:ext cx="830592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145760" y="2210760"/>
            <a:ext cx="941760" cy="852120"/>
            <a:chOff x="4145760" y="2210760"/>
            <a:chExt cx="941760" cy="852120"/>
          </a:xfrm>
        </p:grpSpPr>
        <p:sp>
          <p:nvSpPr>
            <p:cNvPr id="45" name=""/>
            <p:cNvSpPr/>
            <p:nvPr/>
          </p:nvSpPr>
          <p:spPr>
            <a:xfrm rot="2650200">
              <a:off x="4183560" y="2396520"/>
              <a:ext cx="324000" cy="213120"/>
            </a:xfrm>
            <a:custGeom>
              <a:avLst/>
              <a:gdLst/>
              <a:ahLst/>
              <a:rect l="l" t="t" r="r" b="b"/>
              <a:pathLst>
                <a:path w="1943" h="1507">
                  <a:moveTo>
                    <a:pt x="1918" y="793"/>
                  </a:moveTo>
                  <a:lnTo>
                    <a:pt x="1616" y="1264"/>
                  </a:lnTo>
                  <a:lnTo>
                    <a:pt x="1412" y="1391"/>
                  </a:lnTo>
                  <a:lnTo>
                    <a:pt x="1321" y="1272"/>
                  </a:lnTo>
                  <a:lnTo>
                    <a:pt x="1302" y="1055"/>
                  </a:lnTo>
                  <a:lnTo>
                    <a:pt x="1026" y="1384"/>
                  </a:lnTo>
                  <a:lnTo>
                    <a:pt x="867" y="1399"/>
                  </a:lnTo>
                  <a:lnTo>
                    <a:pt x="764" y="1156"/>
                  </a:lnTo>
                  <a:lnTo>
                    <a:pt x="395" y="1507"/>
                  </a:lnTo>
                  <a:lnTo>
                    <a:pt x="321" y="1407"/>
                  </a:lnTo>
                  <a:lnTo>
                    <a:pt x="388" y="1230"/>
                  </a:lnTo>
                  <a:lnTo>
                    <a:pt x="103" y="1264"/>
                  </a:lnTo>
                  <a:lnTo>
                    <a:pt x="0" y="1114"/>
                  </a:lnTo>
                  <a:lnTo>
                    <a:pt x="59" y="971"/>
                  </a:lnTo>
                  <a:lnTo>
                    <a:pt x="186" y="851"/>
                  </a:lnTo>
                  <a:lnTo>
                    <a:pt x="133" y="718"/>
                  </a:lnTo>
                  <a:lnTo>
                    <a:pt x="243" y="625"/>
                  </a:lnTo>
                  <a:lnTo>
                    <a:pt x="673" y="515"/>
                  </a:lnTo>
                  <a:lnTo>
                    <a:pt x="614" y="363"/>
                  </a:lnTo>
                  <a:lnTo>
                    <a:pt x="764" y="237"/>
                  </a:lnTo>
                  <a:lnTo>
                    <a:pt x="1262" y="270"/>
                  </a:lnTo>
                  <a:lnTo>
                    <a:pt x="1260" y="53"/>
                  </a:lnTo>
                  <a:lnTo>
                    <a:pt x="1431" y="0"/>
                  </a:lnTo>
                  <a:lnTo>
                    <a:pt x="1834" y="253"/>
                  </a:lnTo>
                  <a:lnTo>
                    <a:pt x="1943" y="523"/>
                  </a:lnTo>
                  <a:lnTo>
                    <a:pt x="1918" y="793"/>
                  </a:lnTo>
                  <a:lnTo>
                    <a:pt x="1918" y="793"/>
                  </a:lnTo>
                  <a:lnTo>
                    <a:pt x="1918" y="793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650200">
              <a:off x="4250160" y="2445480"/>
              <a:ext cx="92160" cy="57600"/>
            </a:xfrm>
            <a:custGeom>
              <a:avLst/>
              <a:gdLst/>
              <a:ahLst/>
              <a:rect l="l" t="t" r="r" b="b"/>
              <a:pathLst>
                <a:path w="553" h="409">
                  <a:moveTo>
                    <a:pt x="386" y="107"/>
                  </a:moveTo>
                  <a:lnTo>
                    <a:pt x="276" y="129"/>
                  </a:lnTo>
                  <a:lnTo>
                    <a:pt x="163" y="154"/>
                  </a:lnTo>
                  <a:lnTo>
                    <a:pt x="99" y="175"/>
                  </a:lnTo>
                  <a:lnTo>
                    <a:pt x="34" y="194"/>
                  </a:lnTo>
                  <a:lnTo>
                    <a:pt x="0" y="181"/>
                  </a:lnTo>
                  <a:lnTo>
                    <a:pt x="0" y="164"/>
                  </a:lnTo>
                  <a:lnTo>
                    <a:pt x="15" y="148"/>
                  </a:lnTo>
                  <a:lnTo>
                    <a:pt x="48" y="133"/>
                  </a:lnTo>
                  <a:lnTo>
                    <a:pt x="105" y="114"/>
                  </a:lnTo>
                  <a:lnTo>
                    <a:pt x="175" y="91"/>
                  </a:lnTo>
                  <a:lnTo>
                    <a:pt x="255" y="69"/>
                  </a:lnTo>
                  <a:lnTo>
                    <a:pt x="335" y="46"/>
                  </a:lnTo>
                  <a:lnTo>
                    <a:pt x="407" y="25"/>
                  </a:lnTo>
                  <a:lnTo>
                    <a:pt x="502" y="0"/>
                  </a:lnTo>
                  <a:lnTo>
                    <a:pt x="551" y="6"/>
                  </a:lnTo>
                  <a:lnTo>
                    <a:pt x="553" y="44"/>
                  </a:lnTo>
                  <a:lnTo>
                    <a:pt x="540" y="71"/>
                  </a:lnTo>
                  <a:lnTo>
                    <a:pt x="521" y="103"/>
                  </a:lnTo>
                  <a:lnTo>
                    <a:pt x="494" y="137"/>
                  </a:lnTo>
                  <a:lnTo>
                    <a:pt x="464" y="175"/>
                  </a:lnTo>
                  <a:lnTo>
                    <a:pt x="430" y="213"/>
                  </a:lnTo>
                  <a:lnTo>
                    <a:pt x="412" y="232"/>
                  </a:lnTo>
                  <a:lnTo>
                    <a:pt x="395" y="251"/>
                  </a:lnTo>
                  <a:lnTo>
                    <a:pt x="376" y="268"/>
                  </a:lnTo>
                  <a:lnTo>
                    <a:pt x="361" y="285"/>
                  </a:lnTo>
                  <a:lnTo>
                    <a:pt x="327" y="320"/>
                  </a:lnTo>
                  <a:lnTo>
                    <a:pt x="298" y="346"/>
                  </a:lnTo>
                  <a:lnTo>
                    <a:pt x="274" y="371"/>
                  </a:lnTo>
                  <a:lnTo>
                    <a:pt x="245" y="396"/>
                  </a:lnTo>
                  <a:lnTo>
                    <a:pt x="196" y="409"/>
                  </a:lnTo>
                  <a:lnTo>
                    <a:pt x="160" y="388"/>
                  </a:lnTo>
                  <a:lnTo>
                    <a:pt x="154" y="339"/>
                  </a:lnTo>
                  <a:lnTo>
                    <a:pt x="173" y="302"/>
                  </a:lnTo>
                  <a:lnTo>
                    <a:pt x="205" y="262"/>
                  </a:lnTo>
                  <a:lnTo>
                    <a:pt x="228" y="242"/>
                  </a:lnTo>
                  <a:lnTo>
                    <a:pt x="249" y="223"/>
                  </a:lnTo>
                  <a:lnTo>
                    <a:pt x="272" y="204"/>
                  </a:lnTo>
                  <a:lnTo>
                    <a:pt x="297" y="185"/>
                  </a:lnTo>
                  <a:lnTo>
                    <a:pt x="319" y="166"/>
                  </a:lnTo>
                  <a:lnTo>
                    <a:pt x="342" y="147"/>
                  </a:lnTo>
                  <a:lnTo>
                    <a:pt x="365" y="128"/>
                  </a:lnTo>
                  <a:lnTo>
                    <a:pt x="386" y="107"/>
                  </a:lnTo>
                  <a:lnTo>
                    <a:pt x="386" y="1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650200">
              <a:off x="4363920" y="2460600"/>
              <a:ext cx="9360" cy="936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0" y="52"/>
                  </a:moveTo>
                  <a:lnTo>
                    <a:pt x="7" y="31"/>
                  </a:lnTo>
                  <a:lnTo>
                    <a:pt x="28" y="10"/>
                  </a:lnTo>
                  <a:lnTo>
                    <a:pt x="49" y="0"/>
                  </a:lnTo>
                  <a:lnTo>
                    <a:pt x="59" y="14"/>
                  </a:lnTo>
                  <a:lnTo>
                    <a:pt x="47" y="6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650200">
              <a:off x="4330800" y="2469960"/>
              <a:ext cx="72720" cy="76320"/>
            </a:xfrm>
            <a:custGeom>
              <a:avLst/>
              <a:gdLst/>
              <a:ahLst/>
              <a:rect l="l" t="t" r="r" b="b"/>
              <a:pathLst>
                <a:path w="435" h="540">
                  <a:moveTo>
                    <a:pt x="325" y="184"/>
                  </a:moveTo>
                  <a:lnTo>
                    <a:pt x="258" y="165"/>
                  </a:lnTo>
                  <a:lnTo>
                    <a:pt x="169" y="135"/>
                  </a:lnTo>
                  <a:lnTo>
                    <a:pt x="83" y="103"/>
                  </a:lnTo>
                  <a:lnTo>
                    <a:pt x="24" y="72"/>
                  </a:lnTo>
                  <a:lnTo>
                    <a:pt x="0" y="42"/>
                  </a:lnTo>
                  <a:lnTo>
                    <a:pt x="0" y="15"/>
                  </a:lnTo>
                  <a:lnTo>
                    <a:pt x="19" y="0"/>
                  </a:lnTo>
                  <a:lnTo>
                    <a:pt x="57" y="6"/>
                  </a:lnTo>
                  <a:lnTo>
                    <a:pt x="142" y="34"/>
                  </a:lnTo>
                  <a:lnTo>
                    <a:pt x="226" y="57"/>
                  </a:lnTo>
                  <a:lnTo>
                    <a:pt x="397" y="99"/>
                  </a:lnTo>
                  <a:lnTo>
                    <a:pt x="429" y="118"/>
                  </a:lnTo>
                  <a:lnTo>
                    <a:pt x="435" y="156"/>
                  </a:lnTo>
                  <a:lnTo>
                    <a:pt x="418" y="245"/>
                  </a:lnTo>
                  <a:lnTo>
                    <a:pt x="391" y="334"/>
                  </a:lnTo>
                  <a:lnTo>
                    <a:pt x="376" y="380"/>
                  </a:lnTo>
                  <a:lnTo>
                    <a:pt x="359" y="424"/>
                  </a:lnTo>
                  <a:lnTo>
                    <a:pt x="340" y="466"/>
                  </a:lnTo>
                  <a:lnTo>
                    <a:pt x="321" y="505"/>
                  </a:lnTo>
                  <a:lnTo>
                    <a:pt x="304" y="528"/>
                  </a:lnTo>
                  <a:lnTo>
                    <a:pt x="285" y="540"/>
                  </a:lnTo>
                  <a:lnTo>
                    <a:pt x="243" y="538"/>
                  </a:lnTo>
                  <a:lnTo>
                    <a:pt x="213" y="507"/>
                  </a:lnTo>
                  <a:lnTo>
                    <a:pt x="207" y="485"/>
                  </a:lnTo>
                  <a:lnTo>
                    <a:pt x="211" y="458"/>
                  </a:lnTo>
                  <a:lnTo>
                    <a:pt x="243" y="361"/>
                  </a:lnTo>
                  <a:lnTo>
                    <a:pt x="262" y="315"/>
                  </a:lnTo>
                  <a:lnTo>
                    <a:pt x="285" y="274"/>
                  </a:lnTo>
                  <a:lnTo>
                    <a:pt x="308" y="230"/>
                  </a:lnTo>
                  <a:lnTo>
                    <a:pt x="325" y="184"/>
                  </a:lnTo>
                  <a:lnTo>
                    <a:pt x="325" y="18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2650200">
              <a:off x="4406040" y="2518920"/>
              <a:ext cx="60840" cy="80640"/>
            </a:xfrm>
            <a:custGeom>
              <a:avLst/>
              <a:gdLst/>
              <a:ahLst/>
              <a:rect l="l" t="t" r="r" b="b"/>
              <a:pathLst>
                <a:path w="365" h="570">
                  <a:moveTo>
                    <a:pt x="31" y="0"/>
                  </a:moveTo>
                  <a:lnTo>
                    <a:pt x="171" y="25"/>
                  </a:lnTo>
                  <a:lnTo>
                    <a:pt x="302" y="80"/>
                  </a:lnTo>
                  <a:lnTo>
                    <a:pt x="342" y="120"/>
                  </a:lnTo>
                  <a:lnTo>
                    <a:pt x="361" y="165"/>
                  </a:lnTo>
                  <a:lnTo>
                    <a:pt x="365" y="217"/>
                  </a:lnTo>
                  <a:lnTo>
                    <a:pt x="354" y="268"/>
                  </a:lnTo>
                  <a:lnTo>
                    <a:pt x="335" y="321"/>
                  </a:lnTo>
                  <a:lnTo>
                    <a:pt x="310" y="374"/>
                  </a:lnTo>
                  <a:lnTo>
                    <a:pt x="285" y="422"/>
                  </a:lnTo>
                  <a:lnTo>
                    <a:pt x="262" y="466"/>
                  </a:lnTo>
                  <a:lnTo>
                    <a:pt x="238" y="525"/>
                  </a:lnTo>
                  <a:lnTo>
                    <a:pt x="223" y="551"/>
                  </a:lnTo>
                  <a:lnTo>
                    <a:pt x="202" y="566"/>
                  </a:lnTo>
                  <a:lnTo>
                    <a:pt x="154" y="570"/>
                  </a:lnTo>
                  <a:lnTo>
                    <a:pt x="118" y="542"/>
                  </a:lnTo>
                  <a:lnTo>
                    <a:pt x="110" y="489"/>
                  </a:lnTo>
                  <a:lnTo>
                    <a:pt x="129" y="437"/>
                  </a:lnTo>
                  <a:lnTo>
                    <a:pt x="145" y="413"/>
                  </a:lnTo>
                  <a:lnTo>
                    <a:pt x="160" y="388"/>
                  </a:lnTo>
                  <a:lnTo>
                    <a:pt x="177" y="363"/>
                  </a:lnTo>
                  <a:lnTo>
                    <a:pt x="194" y="340"/>
                  </a:lnTo>
                  <a:lnTo>
                    <a:pt x="226" y="295"/>
                  </a:lnTo>
                  <a:lnTo>
                    <a:pt x="270" y="217"/>
                  </a:lnTo>
                  <a:lnTo>
                    <a:pt x="274" y="200"/>
                  </a:lnTo>
                  <a:lnTo>
                    <a:pt x="270" y="184"/>
                  </a:lnTo>
                  <a:lnTo>
                    <a:pt x="249" y="158"/>
                  </a:lnTo>
                  <a:lnTo>
                    <a:pt x="221" y="139"/>
                  </a:lnTo>
                  <a:lnTo>
                    <a:pt x="192" y="122"/>
                  </a:lnTo>
                  <a:lnTo>
                    <a:pt x="137" y="95"/>
                  </a:lnTo>
                  <a:lnTo>
                    <a:pt x="80" y="72"/>
                  </a:lnTo>
                  <a:lnTo>
                    <a:pt x="19" y="49"/>
                  </a:lnTo>
                  <a:lnTo>
                    <a:pt x="2" y="3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650200">
              <a:off x="4526640" y="2256480"/>
              <a:ext cx="221400" cy="285480"/>
            </a:xfrm>
            <a:custGeom>
              <a:avLst/>
              <a:gdLst/>
              <a:ahLst/>
              <a:rect l="l" t="t" r="r" b="b"/>
              <a:pathLst>
                <a:path w="1329" h="2018">
                  <a:moveTo>
                    <a:pt x="907" y="1961"/>
                  </a:moveTo>
                  <a:lnTo>
                    <a:pt x="1093" y="1777"/>
                  </a:lnTo>
                  <a:lnTo>
                    <a:pt x="1329" y="1311"/>
                  </a:lnTo>
                  <a:lnTo>
                    <a:pt x="1278" y="1119"/>
                  </a:lnTo>
                  <a:lnTo>
                    <a:pt x="1120" y="1100"/>
                  </a:lnTo>
                  <a:lnTo>
                    <a:pt x="1034" y="1127"/>
                  </a:lnTo>
                  <a:lnTo>
                    <a:pt x="1101" y="790"/>
                  </a:lnTo>
                  <a:lnTo>
                    <a:pt x="1051" y="612"/>
                  </a:lnTo>
                  <a:lnTo>
                    <a:pt x="764" y="707"/>
                  </a:lnTo>
                  <a:lnTo>
                    <a:pt x="909" y="359"/>
                  </a:lnTo>
                  <a:lnTo>
                    <a:pt x="907" y="135"/>
                  </a:lnTo>
                  <a:lnTo>
                    <a:pt x="665" y="268"/>
                  </a:lnTo>
                  <a:lnTo>
                    <a:pt x="538" y="7"/>
                  </a:lnTo>
                  <a:lnTo>
                    <a:pt x="396" y="0"/>
                  </a:lnTo>
                  <a:lnTo>
                    <a:pt x="278" y="184"/>
                  </a:lnTo>
                  <a:lnTo>
                    <a:pt x="278" y="285"/>
                  </a:lnTo>
                  <a:lnTo>
                    <a:pt x="150" y="311"/>
                  </a:lnTo>
                  <a:lnTo>
                    <a:pt x="101" y="403"/>
                  </a:lnTo>
                  <a:lnTo>
                    <a:pt x="186" y="730"/>
                  </a:lnTo>
                  <a:lnTo>
                    <a:pt x="211" y="933"/>
                  </a:lnTo>
                  <a:lnTo>
                    <a:pt x="50" y="918"/>
                  </a:lnTo>
                  <a:lnTo>
                    <a:pt x="0" y="1036"/>
                  </a:lnTo>
                  <a:lnTo>
                    <a:pt x="84" y="1237"/>
                  </a:lnTo>
                  <a:lnTo>
                    <a:pt x="278" y="1530"/>
                  </a:lnTo>
                  <a:lnTo>
                    <a:pt x="93" y="1648"/>
                  </a:lnTo>
                  <a:lnTo>
                    <a:pt x="152" y="1792"/>
                  </a:lnTo>
                  <a:lnTo>
                    <a:pt x="580" y="2018"/>
                  </a:lnTo>
                  <a:lnTo>
                    <a:pt x="907" y="1961"/>
                  </a:lnTo>
                  <a:lnTo>
                    <a:pt x="907" y="1961"/>
                  </a:lnTo>
                  <a:lnTo>
                    <a:pt x="907" y="1961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650200">
              <a:off x="4608720" y="2306520"/>
              <a:ext cx="79920" cy="64440"/>
            </a:xfrm>
            <a:custGeom>
              <a:avLst/>
              <a:gdLst/>
              <a:ahLst/>
              <a:rect l="l" t="t" r="r" b="b"/>
              <a:pathLst>
                <a:path w="481" h="458">
                  <a:moveTo>
                    <a:pt x="220" y="357"/>
                  </a:moveTo>
                  <a:lnTo>
                    <a:pt x="232" y="354"/>
                  </a:lnTo>
                  <a:lnTo>
                    <a:pt x="252" y="316"/>
                  </a:lnTo>
                  <a:lnTo>
                    <a:pt x="277" y="272"/>
                  </a:lnTo>
                  <a:lnTo>
                    <a:pt x="304" y="226"/>
                  </a:lnTo>
                  <a:lnTo>
                    <a:pt x="330" y="179"/>
                  </a:lnTo>
                  <a:lnTo>
                    <a:pt x="359" y="133"/>
                  </a:lnTo>
                  <a:lnTo>
                    <a:pt x="387" y="87"/>
                  </a:lnTo>
                  <a:lnTo>
                    <a:pt x="412" y="48"/>
                  </a:lnTo>
                  <a:lnTo>
                    <a:pt x="437" y="13"/>
                  </a:lnTo>
                  <a:lnTo>
                    <a:pt x="454" y="0"/>
                  </a:lnTo>
                  <a:lnTo>
                    <a:pt x="471" y="2"/>
                  </a:lnTo>
                  <a:lnTo>
                    <a:pt x="481" y="36"/>
                  </a:lnTo>
                  <a:lnTo>
                    <a:pt x="469" y="70"/>
                  </a:lnTo>
                  <a:lnTo>
                    <a:pt x="450" y="118"/>
                  </a:lnTo>
                  <a:lnTo>
                    <a:pt x="427" y="175"/>
                  </a:lnTo>
                  <a:lnTo>
                    <a:pt x="405" y="236"/>
                  </a:lnTo>
                  <a:lnTo>
                    <a:pt x="380" y="297"/>
                  </a:lnTo>
                  <a:lnTo>
                    <a:pt x="357" y="352"/>
                  </a:lnTo>
                  <a:lnTo>
                    <a:pt x="338" y="393"/>
                  </a:lnTo>
                  <a:lnTo>
                    <a:pt x="325" y="420"/>
                  </a:lnTo>
                  <a:lnTo>
                    <a:pt x="311" y="435"/>
                  </a:lnTo>
                  <a:lnTo>
                    <a:pt x="294" y="447"/>
                  </a:lnTo>
                  <a:lnTo>
                    <a:pt x="233" y="458"/>
                  </a:lnTo>
                  <a:lnTo>
                    <a:pt x="175" y="445"/>
                  </a:lnTo>
                  <a:lnTo>
                    <a:pt x="129" y="384"/>
                  </a:lnTo>
                  <a:lnTo>
                    <a:pt x="102" y="329"/>
                  </a:lnTo>
                  <a:lnTo>
                    <a:pt x="74" y="264"/>
                  </a:lnTo>
                  <a:lnTo>
                    <a:pt x="47" y="200"/>
                  </a:lnTo>
                  <a:lnTo>
                    <a:pt x="24" y="137"/>
                  </a:lnTo>
                  <a:lnTo>
                    <a:pt x="0" y="53"/>
                  </a:lnTo>
                  <a:lnTo>
                    <a:pt x="2" y="32"/>
                  </a:lnTo>
                  <a:lnTo>
                    <a:pt x="17" y="21"/>
                  </a:lnTo>
                  <a:lnTo>
                    <a:pt x="47" y="40"/>
                  </a:lnTo>
                  <a:lnTo>
                    <a:pt x="72" y="97"/>
                  </a:lnTo>
                  <a:lnTo>
                    <a:pt x="83" y="127"/>
                  </a:lnTo>
                  <a:lnTo>
                    <a:pt x="97" y="156"/>
                  </a:lnTo>
                  <a:lnTo>
                    <a:pt x="112" y="182"/>
                  </a:lnTo>
                  <a:lnTo>
                    <a:pt x="127" y="207"/>
                  </a:lnTo>
                  <a:lnTo>
                    <a:pt x="142" y="232"/>
                  </a:lnTo>
                  <a:lnTo>
                    <a:pt x="157" y="257"/>
                  </a:lnTo>
                  <a:lnTo>
                    <a:pt x="190" y="306"/>
                  </a:lnTo>
                  <a:lnTo>
                    <a:pt x="220" y="357"/>
                  </a:lnTo>
                  <a:lnTo>
                    <a:pt x="220" y="357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650200">
              <a:off x="4570920" y="2358720"/>
              <a:ext cx="90720" cy="64800"/>
            </a:xfrm>
            <a:custGeom>
              <a:avLst/>
              <a:gdLst/>
              <a:ahLst/>
              <a:rect l="l" t="t" r="r" b="b"/>
              <a:pathLst>
                <a:path w="546" h="458">
                  <a:moveTo>
                    <a:pt x="312" y="353"/>
                  </a:moveTo>
                  <a:lnTo>
                    <a:pt x="323" y="306"/>
                  </a:lnTo>
                  <a:lnTo>
                    <a:pt x="337" y="260"/>
                  </a:lnTo>
                  <a:lnTo>
                    <a:pt x="356" y="214"/>
                  </a:lnTo>
                  <a:lnTo>
                    <a:pt x="375" y="171"/>
                  </a:lnTo>
                  <a:lnTo>
                    <a:pt x="399" y="129"/>
                  </a:lnTo>
                  <a:lnTo>
                    <a:pt x="426" y="87"/>
                  </a:lnTo>
                  <a:lnTo>
                    <a:pt x="454" y="49"/>
                  </a:lnTo>
                  <a:lnTo>
                    <a:pt x="485" y="13"/>
                  </a:lnTo>
                  <a:lnTo>
                    <a:pt x="510" y="0"/>
                  </a:lnTo>
                  <a:lnTo>
                    <a:pt x="532" y="7"/>
                  </a:lnTo>
                  <a:lnTo>
                    <a:pt x="546" y="26"/>
                  </a:lnTo>
                  <a:lnTo>
                    <a:pt x="538" y="55"/>
                  </a:lnTo>
                  <a:lnTo>
                    <a:pt x="506" y="108"/>
                  </a:lnTo>
                  <a:lnTo>
                    <a:pt x="481" y="152"/>
                  </a:lnTo>
                  <a:lnTo>
                    <a:pt x="453" y="228"/>
                  </a:lnTo>
                  <a:lnTo>
                    <a:pt x="416" y="410"/>
                  </a:lnTo>
                  <a:lnTo>
                    <a:pt x="401" y="444"/>
                  </a:lnTo>
                  <a:lnTo>
                    <a:pt x="367" y="458"/>
                  </a:lnTo>
                  <a:lnTo>
                    <a:pt x="337" y="454"/>
                  </a:lnTo>
                  <a:lnTo>
                    <a:pt x="308" y="435"/>
                  </a:lnTo>
                  <a:lnTo>
                    <a:pt x="283" y="412"/>
                  </a:lnTo>
                  <a:lnTo>
                    <a:pt x="257" y="391"/>
                  </a:lnTo>
                  <a:lnTo>
                    <a:pt x="196" y="367"/>
                  </a:lnTo>
                  <a:lnTo>
                    <a:pt x="133" y="348"/>
                  </a:lnTo>
                  <a:lnTo>
                    <a:pt x="15" y="298"/>
                  </a:lnTo>
                  <a:lnTo>
                    <a:pt x="0" y="283"/>
                  </a:lnTo>
                  <a:lnTo>
                    <a:pt x="2" y="264"/>
                  </a:lnTo>
                  <a:lnTo>
                    <a:pt x="15" y="253"/>
                  </a:lnTo>
                  <a:lnTo>
                    <a:pt x="36" y="253"/>
                  </a:lnTo>
                  <a:lnTo>
                    <a:pt x="93" y="273"/>
                  </a:lnTo>
                  <a:lnTo>
                    <a:pt x="135" y="291"/>
                  </a:lnTo>
                  <a:lnTo>
                    <a:pt x="181" y="308"/>
                  </a:lnTo>
                  <a:lnTo>
                    <a:pt x="264" y="340"/>
                  </a:lnTo>
                  <a:lnTo>
                    <a:pt x="312" y="353"/>
                  </a:lnTo>
                  <a:lnTo>
                    <a:pt x="312" y="353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650200">
              <a:off x="4547880" y="2436840"/>
              <a:ext cx="99000" cy="64440"/>
            </a:xfrm>
            <a:custGeom>
              <a:avLst/>
              <a:gdLst/>
              <a:ahLst/>
              <a:rect l="l" t="t" r="r" b="b"/>
              <a:pathLst>
                <a:path w="595" h="457">
                  <a:moveTo>
                    <a:pt x="220" y="333"/>
                  </a:moveTo>
                  <a:lnTo>
                    <a:pt x="249" y="295"/>
                  </a:lnTo>
                  <a:lnTo>
                    <a:pt x="277" y="257"/>
                  </a:lnTo>
                  <a:lnTo>
                    <a:pt x="306" y="221"/>
                  </a:lnTo>
                  <a:lnTo>
                    <a:pt x="336" y="185"/>
                  </a:lnTo>
                  <a:lnTo>
                    <a:pt x="359" y="158"/>
                  </a:lnTo>
                  <a:lnTo>
                    <a:pt x="386" y="133"/>
                  </a:lnTo>
                  <a:lnTo>
                    <a:pt x="412" y="109"/>
                  </a:lnTo>
                  <a:lnTo>
                    <a:pt x="443" y="86"/>
                  </a:lnTo>
                  <a:lnTo>
                    <a:pt x="471" y="63"/>
                  </a:lnTo>
                  <a:lnTo>
                    <a:pt x="501" y="42"/>
                  </a:lnTo>
                  <a:lnTo>
                    <a:pt x="530" y="21"/>
                  </a:lnTo>
                  <a:lnTo>
                    <a:pt x="559" y="0"/>
                  </a:lnTo>
                  <a:lnTo>
                    <a:pt x="595" y="2"/>
                  </a:lnTo>
                  <a:lnTo>
                    <a:pt x="593" y="38"/>
                  </a:lnTo>
                  <a:lnTo>
                    <a:pt x="553" y="86"/>
                  </a:lnTo>
                  <a:lnTo>
                    <a:pt x="515" y="133"/>
                  </a:lnTo>
                  <a:lnTo>
                    <a:pt x="479" y="183"/>
                  </a:lnTo>
                  <a:lnTo>
                    <a:pt x="443" y="232"/>
                  </a:lnTo>
                  <a:lnTo>
                    <a:pt x="425" y="257"/>
                  </a:lnTo>
                  <a:lnTo>
                    <a:pt x="406" y="282"/>
                  </a:lnTo>
                  <a:lnTo>
                    <a:pt x="389" y="308"/>
                  </a:lnTo>
                  <a:lnTo>
                    <a:pt x="370" y="333"/>
                  </a:lnTo>
                  <a:lnTo>
                    <a:pt x="353" y="358"/>
                  </a:lnTo>
                  <a:lnTo>
                    <a:pt x="334" y="382"/>
                  </a:lnTo>
                  <a:lnTo>
                    <a:pt x="298" y="432"/>
                  </a:lnTo>
                  <a:lnTo>
                    <a:pt x="273" y="451"/>
                  </a:lnTo>
                  <a:lnTo>
                    <a:pt x="241" y="457"/>
                  </a:lnTo>
                  <a:lnTo>
                    <a:pt x="125" y="415"/>
                  </a:lnTo>
                  <a:lnTo>
                    <a:pt x="68" y="382"/>
                  </a:lnTo>
                  <a:lnTo>
                    <a:pt x="15" y="352"/>
                  </a:lnTo>
                  <a:lnTo>
                    <a:pt x="0" y="337"/>
                  </a:lnTo>
                  <a:lnTo>
                    <a:pt x="0" y="320"/>
                  </a:lnTo>
                  <a:lnTo>
                    <a:pt x="11" y="306"/>
                  </a:lnTo>
                  <a:lnTo>
                    <a:pt x="32" y="304"/>
                  </a:lnTo>
                  <a:lnTo>
                    <a:pt x="125" y="323"/>
                  </a:lnTo>
                  <a:lnTo>
                    <a:pt x="220" y="333"/>
                  </a:lnTo>
                  <a:lnTo>
                    <a:pt x="220" y="333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650200">
              <a:off x="4559760" y="2498400"/>
              <a:ext cx="402120" cy="470520"/>
            </a:xfrm>
            <a:custGeom>
              <a:avLst/>
              <a:gdLst/>
              <a:ahLst/>
              <a:rect l="l" t="t" r="r" b="b"/>
              <a:pathLst>
                <a:path w="2412" h="3328">
                  <a:moveTo>
                    <a:pt x="386" y="2555"/>
                  </a:moveTo>
                  <a:lnTo>
                    <a:pt x="277" y="2325"/>
                  </a:lnTo>
                  <a:lnTo>
                    <a:pt x="24" y="2108"/>
                  </a:lnTo>
                  <a:lnTo>
                    <a:pt x="0" y="1804"/>
                  </a:lnTo>
                  <a:lnTo>
                    <a:pt x="74" y="1678"/>
                  </a:lnTo>
                  <a:lnTo>
                    <a:pt x="201" y="1644"/>
                  </a:lnTo>
                  <a:lnTo>
                    <a:pt x="521" y="1802"/>
                  </a:lnTo>
                  <a:lnTo>
                    <a:pt x="580" y="1694"/>
                  </a:lnTo>
                  <a:lnTo>
                    <a:pt x="547" y="935"/>
                  </a:lnTo>
                  <a:lnTo>
                    <a:pt x="688" y="802"/>
                  </a:lnTo>
                  <a:lnTo>
                    <a:pt x="825" y="901"/>
                  </a:lnTo>
                  <a:lnTo>
                    <a:pt x="984" y="1112"/>
                  </a:lnTo>
                  <a:lnTo>
                    <a:pt x="1060" y="1036"/>
                  </a:lnTo>
                  <a:lnTo>
                    <a:pt x="1117" y="584"/>
                  </a:lnTo>
                  <a:lnTo>
                    <a:pt x="1277" y="365"/>
                  </a:lnTo>
                  <a:lnTo>
                    <a:pt x="1513" y="466"/>
                  </a:lnTo>
                  <a:lnTo>
                    <a:pt x="1817" y="0"/>
                  </a:lnTo>
                  <a:lnTo>
                    <a:pt x="1986" y="2"/>
                  </a:lnTo>
                  <a:lnTo>
                    <a:pt x="2060" y="152"/>
                  </a:lnTo>
                  <a:lnTo>
                    <a:pt x="1899" y="466"/>
                  </a:lnTo>
                  <a:lnTo>
                    <a:pt x="2193" y="466"/>
                  </a:lnTo>
                  <a:lnTo>
                    <a:pt x="2412" y="525"/>
                  </a:lnTo>
                  <a:lnTo>
                    <a:pt x="2387" y="726"/>
                  </a:lnTo>
                  <a:lnTo>
                    <a:pt x="1958" y="962"/>
                  </a:lnTo>
                  <a:lnTo>
                    <a:pt x="2304" y="1104"/>
                  </a:lnTo>
                  <a:lnTo>
                    <a:pt x="2370" y="1342"/>
                  </a:lnTo>
                  <a:lnTo>
                    <a:pt x="2176" y="1534"/>
                  </a:lnTo>
                  <a:lnTo>
                    <a:pt x="1899" y="1678"/>
                  </a:lnTo>
                  <a:lnTo>
                    <a:pt x="2161" y="1844"/>
                  </a:lnTo>
                  <a:lnTo>
                    <a:pt x="2127" y="2114"/>
                  </a:lnTo>
                  <a:lnTo>
                    <a:pt x="1986" y="2420"/>
                  </a:lnTo>
                  <a:lnTo>
                    <a:pt x="1690" y="2560"/>
                  </a:lnTo>
                  <a:lnTo>
                    <a:pt x="1287" y="2619"/>
                  </a:lnTo>
                  <a:lnTo>
                    <a:pt x="933" y="2923"/>
                  </a:lnTo>
                  <a:lnTo>
                    <a:pt x="623" y="2813"/>
                  </a:lnTo>
                  <a:lnTo>
                    <a:pt x="437" y="2998"/>
                  </a:lnTo>
                  <a:lnTo>
                    <a:pt x="226" y="3328"/>
                  </a:lnTo>
                  <a:lnTo>
                    <a:pt x="110" y="3125"/>
                  </a:lnTo>
                  <a:lnTo>
                    <a:pt x="386" y="2555"/>
                  </a:lnTo>
                  <a:lnTo>
                    <a:pt x="386" y="2555"/>
                  </a:lnTo>
                  <a:lnTo>
                    <a:pt x="386" y="255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650200">
              <a:off x="4825440" y="2672640"/>
              <a:ext cx="147960" cy="76320"/>
            </a:xfrm>
            <a:custGeom>
              <a:avLst/>
              <a:gdLst/>
              <a:ahLst/>
              <a:rect l="l" t="t" r="r" b="b"/>
              <a:pathLst>
                <a:path w="890" h="544">
                  <a:moveTo>
                    <a:pt x="209" y="346"/>
                  </a:moveTo>
                  <a:lnTo>
                    <a:pt x="236" y="327"/>
                  </a:lnTo>
                  <a:lnTo>
                    <a:pt x="268" y="308"/>
                  </a:lnTo>
                  <a:lnTo>
                    <a:pt x="304" y="289"/>
                  </a:lnTo>
                  <a:lnTo>
                    <a:pt x="344" y="272"/>
                  </a:lnTo>
                  <a:lnTo>
                    <a:pt x="386" y="253"/>
                  </a:lnTo>
                  <a:lnTo>
                    <a:pt x="430" y="236"/>
                  </a:lnTo>
                  <a:lnTo>
                    <a:pt x="475" y="217"/>
                  </a:lnTo>
                  <a:lnTo>
                    <a:pt x="521" y="202"/>
                  </a:lnTo>
                  <a:lnTo>
                    <a:pt x="614" y="171"/>
                  </a:lnTo>
                  <a:lnTo>
                    <a:pt x="705" y="146"/>
                  </a:lnTo>
                  <a:lnTo>
                    <a:pt x="787" y="129"/>
                  </a:lnTo>
                  <a:lnTo>
                    <a:pt x="857" y="120"/>
                  </a:lnTo>
                  <a:lnTo>
                    <a:pt x="890" y="139"/>
                  </a:lnTo>
                  <a:lnTo>
                    <a:pt x="888" y="156"/>
                  </a:lnTo>
                  <a:lnTo>
                    <a:pt x="871" y="169"/>
                  </a:lnTo>
                  <a:lnTo>
                    <a:pt x="793" y="198"/>
                  </a:lnTo>
                  <a:lnTo>
                    <a:pt x="713" y="226"/>
                  </a:lnTo>
                  <a:lnTo>
                    <a:pt x="669" y="247"/>
                  </a:lnTo>
                  <a:lnTo>
                    <a:pt x="625" y="268"/>
                  </a:lnTo>
                  <a:lnTo>
                    <a:pt x="582" y="291"/>
                  </a:lnTo>
                  <a:lnTo>
                    <a:pt x="540" y="314"/>
                  </a:lnTo>
                  <a:lnTo>
                    <a:pt x="496" y="338"/>
                  </a:lnTo>
                  <a:lnTo>
                    <a:pt x="454" y="363"/>
                  </a:lnTo>
                  <a:lnTo>
                    <a:pt x="413" y="386"/>
                  </a:lnTo>
                  <a:lnTo>
                    <a:pt x="371" y="411"/>
                  </a:lnTo>
                  <a:lnTo>
                    <a:pt x="329" y="435"/>
                  </a:lnTo>
                  <a:lnTo>
                    <a:pt x="289" y="464"/>
                  </a:lnTo>
                  <a:lnTo>
                    <a:pt x="249" y="494"/>
                  </a:lnTo>
                  <a:lnTo>
                    <a:pt x="211" y="523"/>
                  </a:lnTo>
                  <a:lnTo>
                    <a:pt x="165" y="544"/>
                  </a:lnTo>
                  <a:lnTo>
                    <a:pt x="129" y="540"/>
                  </a:lnTo>
                  <a:lnTo>
                    <a:pt x="105" y="513"/>
                  </a:lnTo>
                  <a:lnTo>
                    <a:pt x="95" y="464"/>
                  </a:lnTo>
                  <a:lnTo>
                    <a:pt x="89" y="411"/>
                  </a:lnTo>
                  <a:lnTo>
                    <a:pt x="76" y="354"/>
                  </a:lnTo>
                  <a:lnTo>
                    <a:pt x="57" y="295"/>
                  </a:lnTo>
                  <a:lnTo>
                    <a:pt x="36" y="234"/>
                  </a:lnTo>
                  <a:lnTo>
                    <a:pt x="4" y="120"/>
                  </a:lnTo>
                  <a:lnTo>
                    <a:pt x="0" y="23"/>
                  </a:lnTo>
                  <a:lnTo>
                    <a:pt x="11" y="6"/>
                  </a:lnTo>
                  <a:lnTo>
                    <a:pt x="27" y="0"/>
                  </a:lnTo>
                  <a:lnTo>
                    <a:pt x="51" y="29"/>
                  </a:lnTo>
                  <a:lnTo>
                    <a:pt x="63" y="89"/>
                  </a:lnTo>
                  <a:lnTo>
                    <a:pt x="76" y="135"/>
                  </a:lnTo>
                  <a:lnTo>
                    <a:pt x="91" y="171"/>
                  </a:lnTo>
                  <a:lnTo>
                    <a:pt x="110" y="202"/>
                  </a:lnTo>
                  <a:lnTo>
                    <a:pt x="131" y="230"/>
                  </a:lnTo>
                  <a:lnTo>
                    <a:pt x="154" y="260"/>
                  </a:lnTo>
                  <a:lnTo>
                    <a:pt x="181" y="299"/>
                  </a:lnTo>
                  <a:lnTo>
                    <a:pt x="209" y="346"/>
                  </a:lnTo>
                  <a:lnTo>
                    <a:pt x="209" y="346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650200">
              <a:off x="4687920" y="2683080"/>
              <a:ext cx="211320" cy="101880"/>
            </a:xfrm>
            <a:custGeom>
              <a:avLst/>
              <a:gdLst/>
              <a:ahLst/>
              <a:rect l="l" t="t" r="r" b="b"/>
              <a:pathLst>
                <a:path w="1267" h="721">
                  <a:moveTo>
                    <a:pt x="346" y="555"/>
                  </a:moveTo>
                  <a:lnTo>
                    <a:pt x="397" y="517"/>
                  </a:lnTo>
                  <a:lnTo>
                    <a:pt x="444" y="483"/>
                  </a:lnTo>
                  <a:lnTo>
                    <a:pt x="488" y="449"/>
                  </a:lnTo>
                  <a:lnTo>
                    <a:pt x="534" y="417"/>
                  </a:lnTo>
                  <a:lnTo>
                    <a:pt x="579" y="384"/>
                  </a:lnTo>
                  <a:lnTo>
                    <a:pt x="627" y="354"/>
                  </a:lnTo>
                  <a:lnTo>
                    <a:pt x="678" y="324"/>
                  </a:lnTo>
                  <a:lnTo>
                    <a:pt x="733" y="293"/>
                  </a:lnTo>
                  <a:lnTo>
                    <a:pt x="783" y="278"/>
                  </a:lnTo>
                  <a:lnTo>
                    <a:pt x="861" y="263"/>
                  </a:lnTo>
                  <a:lnTo>
                    <a:pt x="1056" y="238"/>
                  </a:lnTo>
                  <a:lnTo>
                    <a:pt x="1224" y="229"/>
                  </a:lnTo>
                  <a:lnTo>
                    <a:pt x="1267" y="234"/>
                  </a:lnTo>
                  <a:lnTo>
                    <a:pt x="1266" y="248"/>
                  </a:lnTo>
                  <a:lnTo>
                    <a:pt x="650" y="493"/>
                  </a:lnTo>
                  <a:lnTo>
                    <a:pt x="612" y="519"/>
                  </a:lnTo>
                  <a:lnTo>
                    <a:pt x="574" y="546"/>
                  </a:lnTo>
                  <a:lnTo>
                    <a:pt x="536" y="576"/>
                  </a:lnTo>
                  <a:lnTo>
                    <a:pt x="500" y="607"/>
                  </a:lnTo>
                  <a:lnTo>
                    <a:pt x="463" y="637"/>
                  </a:lnTo>
                  <a:lnTo>
                    <a:pt x="427" y="668"/>
                  </a:lnTo>
                  <a:lnTo>
                    <a:pt x="389" y="696"/>
                  </a:lnTo>
                  <a:lnTo>
                    <a:pt x="349" y="721"/>
                  </a:lnTo>
                  <a:lnTo>
                    <a:pt x="296" y="715"/>
                  </a:lnTo>
                  <a:lnTo>
                    <a:pt x="266" y="692"/>
                  </a:lnTo>
                  <a:lnTo>
                    <a:pt x="233" y="656"/>
                  </a:lnTo>
                  <a:lnTo>
                    <a:pt x="201" y="612"/>
                  </a:lnTo>
                  <a:lnTo>
                    <a:pt x="169" y="559"/>
                  </a:lnTo>
                  <a:lnTo>
                    <a:pt x="138" y="500"/>
                  </a:lnTo>
                  <a:lnTo>
                    <a:pt x="108" y="438"/>
                  </a:lnTo>
                  <a:lnTo>
                    <a:pt x="79" y="373"/>
                  </a:lnTo>
                  <a:lnTo>
                    <a:pt x="55" y="306"/>
                  </a:lnTo>
                  <a:lnTo>
                    <a:pt x="34" y="242"/>
                  </a:lnTo>
                  <a:lnTo>
                    <a:pt x="17" y="179"/>
                  </a:lnTo>
                  <a:lnTo>
                    <a:pt x="0" y="73"/>
                  </a:lnTo>
                  <a:lnTo>
                    <a:pt x="9" y="0"/>
                  </a:lnTo>
                  <a:lnTo>
                    <a:pt x="24" y="16"/>
                  </a:lnTo>
                  <a:lnTo>
                    <a:pt x="43" y="82"/>
                  </a:lnTo>
                  <a:lnTo>
                    <a:pt x="62" y="160"/>
                  </a:lnTo>
                  <a:lnTo>
                    <a:pt x="76" y="211"/>
                  </a:lnTo>
                  <a:lnTo>
                    <a:pt x="91" y="242"/>
                  </a:lnTo>
                  <a:lnTo>
                    <a:pt x="104" y="272"/>
                  </a:lnTo>
                  <a:lnTo>
                    <a:pt x="119" y="297"/>
                  </a:lnTo>
                  <a:lnTo>
                    <a:pt x="135" y="322"/>
                  </a:lnTo>
                  <a:lnTo>
                    <a:pt x="163" y="363"/>
                  </a:lnTo>
                  <a:lnTo>
                    <a:pt x="195" y="400"/>
                  </a:lnTo>
                  <a:lnTo>
                    <a:pt x="211" y="417"/>
                  </a:lnTo>
                  <a:lnTo>
                    <a:pt x="228" y="436"/>
                  </a:lnTo>
                  <a:lnTo>
                    <a:pt x="264" y="470"/>
                  </a:lnTo>
                  <a:lnTo>
                    <a:pt x="283" y="489"/>
                  </a:lnTo>
                  <a:lnTo>
                    <a:pt x="304" y="510"/>
                  </a:lnTo>
                  <a:lnTo>
                    <a:pt x="325" y="531"/>
                  </a:lnTo>
                  <a:lnTo>
                    <a:pt x="346" y="555"/>
                  </a:lnTo>
                  <a:lnTo>
                    <a:pt x="346" y="555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650200">
              <a:off x="4573440" y="2732760"/>
              <a:ext cx="262800" cy="63360"/>
            </a:xfrm>
            <a:custGeom>
              <a:avLst/>
              <a:gdLst/>
              <a:ahLst/>
              <a:rect l="l" t="t" r="r" b="b"/>
              <a:pathLst>
                <a:path w="1576" h="449">
                  <a:moveTo>
                    <a:pt x="93" y="0"/>
                  </a:moveTo>
                  <a:lnTo>
                    <a:pt x="158" y="31"/>
                  </a:lnTo>
                  <a:lnTo>
                    <a:pt x="220" y="71"/>
                  </a:lnTo>
                  <a:lnTo>
                    <a:pt x="251" y="94"/>
                  </a:lnTo>
                  <a:lnTo>
                    <a:pt x="281" y="114"/>
                  </a:lnTo>
                  <a:lnTo>
                    <a:pt x="310" y="137"/>
                  </a:lnTo>
                  <a:lnTo>
                    <a:pt x="340" y="162"/>
                  </a:lnTo>
                  <a:lnTo>
                    <a:pt x="370" y="185"/>
                  </a:lnTo>
                  <a:lnTo>
                    <a:pt x="401" y="206"/>
                  </a:lnTo>
                  <a:lnTo>
                    <a:pt x="431" y="227"/>
                  </a:lnTo>
                  <a:lnTo>
                    <a:pt x="462" y="248"/>
                  </a:lnTo>
                  <a:lnTo>
                    <a:pt x="494" y="265"/>
                  </a:lnTo>
                  <a:lnTo>
                    <a:pt x="528" y="280"/>
                  </a:lnTo>
                  <a:lnTo>
                    <a:pt x="599" y="301"/>
                  </a:lnTo>
                  <a:lnTo>
                    <a:pt x="637" y="297"/>
                  </a:lnTo>
                  <a:lnTo>
                    <a:pt x="671" y="274"/>
                  </a:lnTo>
                  <a:lnTo>
                    <a:pt x="701" y="246"/>
                  </a:lnTo>
                  <a:lnTo>
                    <a:pt x="734" y="223"/>
                  </a:lnTo>
                  <a:lnTo>
                    <a:pt x="810" y="198"/>
                  </a:lnTo>
                  <a:lnTo>
                    <a:pt x="910" y="177"/>
                  </a:lnTo>
                  <a:lnTo>
                    <a:pt x="1022" y="160"/>
                  </a:lnTo>
                  <a:lnTo>
                    <a:pt x="1144" y="149"/>
                  </a:lnTo>
                  <a:lnTo>
                    <a:pt x="1380" y="147"/>
                  </a:lnTo>
                  <a:lnTo>
                    <a:pt x="1555" y="181"/>
                  </a:lnTo>
                  <a:lnTo>
                    <a:pt x="1576" y="210"/>
                  </a:lnTo>
                  <a:lnTo>
                    <a:pt x="1568" y="223"/>
                  </a:lnTo>
                  <a:lnTo>
                    <a:pt x="1547" y="230"/>
                  </a:lnTo>
                  <a:lnTo>
                    <a:pt x="1368" y="217"/>
                  </a:lnTo>
                  <a:lnTo>
                    <a:pt x="1222" y="234"/>
                  </a:lnTo>
                  <a:lnTo>
                    <a:pt x="1072" y="270"/>
                  </a:lnTo>
                  <a:lnTo>
                    <a:pt x="998" y="295"/>
                  </a:lnTo>
                  <a:lnTo>
                    <a:pt x="926" y="320"/>
                  </a:lnTo>
                  <a:lnTo>
                    <a:pt x="853" y="346"/>
                  </a:lnTo>
                  <a:lnTo>
                    <a:pt x="785" y="371"/>
                  </a:lnTo>
                  <a:lnTo>
                    <a:pt x="728" y="400"/>
                  </a:lnTo>
                  <a:lnTo>
                    <a:pt x="675" y="430"/>
                  </a:lnTo>
                  <a:lnTo>
                    <a:pt x="618" y="449"/>
                  </a:lnTo>
                  <a:lnTo>
                    <a:pt x="553" y="445"/>
                  </a:lnTo>
                  <a:lnTo>
                    <a:pt x="485" y="422"/>
                  </a:lnTo>
                  <a:lnTo>
                    <a:pt x="418" y="388"/>
                  </a:lnTo>
                  <a:lnTo>
                    <a:pt x="386" y="369"/>
                  </a:lnTo>
                  <a:lnTo>
                    <a:pt x="351" y="346"/>
                  </a:lnTo>
                  <a:lnTo>
                    <a:pt x="319" y="325"/>
                  </a:lnTo>
                  <a:lnTo>
                    <a:pt x="287" y="301"/>
                  </a:lnTo>
                  <a:lnTo>
                    <a:pt x="255" y="278"/>
                  </a:lnTo>
                  <a:lnTo>
                    <a:pt x="222" y="253"/>
                  </a:lnTo>
                  <a:lnTo>
                    <a:pt x="192" y="230"/>
                  </a:lnTo>
                  <a:lnTo>
                    <a:pt x="159" y="206"/>
                  </a:lnTo>
                  <a:lnTo>
                    <a:pt x="129" y="183"/>
                  </a:lnTo>
                  <a:lnTo>
                    <a:pt x="97" y="160"/>
                  </a:lnTo>
                  <a:lnTo>
                    <a:pt x="66" y="139"/>
                  </a:lnTo>
                  <a:lnTo>
                    <a:pt x="36" y="120"/>
                  </a:lnTo>
                  <a:lnTo>
                    <a:pt x="0" y="76"/>
                  </a:lnTo>
                  <a:lnTo>
                    <a:pt x="4" y="31"/>
                  </a:lnTo>
                  <a:lnTo>
                    <a:pt x="19" y="12"/>
                  </a:lnTo>
                  <a:lnTo>
                    <a:pt x="38" y="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650200">
              <a:off x="4519440" y="2251440"/>
              <a:ext cx="237240" cy="296280"/>
            </a:xfrm>
            <a:custGeom>
              <a:avLst/>
              <a:gdLst/>
              <a:ahLst/>
              <a:rect l="l" t="t" r="r" b="b"/>
              <a:pathLst>
                <a:path w="1422" h="2095">
                  <a:moveTo>
                    <a:pt x="103" y="1640"/>
                  </a:moveTo>
                  <a:lnTo>
                    <a:pt x="137" y="1616"/>
                  </a:lnTo>
                  <a:lnTo>
                    <a:pt x="175" y="1595"/>
                  </a:lnTo>
                  <a:lnTo>
                    <a:pt x="213" y="1574"/>
                  </a:lnTo>
                  <a:lnTo>
                    <a:pt x="253" y="1555"/>
                  </a:lnTo>
                  <a:lnTo>
                    <a:pt x="219" y="1522"/>
                  </a:lnTo>
                  <a:lnTo>
                    <a:pt x="183" y="1479"/>
                  </a:lnTo>
                  <a:lnTo>
                    <a:pt x="149" y="1427"/>
                  </a:lnTo>
                  <a:lnTo>
                    <a:pt x="132" y="1399"/>
                  </a:lnTo>
                  <a:lnTo>
                    <a:pt x="114" y="1370"/>
                  </a:lnTo>
                  <a:lnTo>
                    <a:pt x="82" y="1308"/>
                  </a:lnTo>
                  <a:lnTo>
                    <a:pt x="56" y="1245"/>
                  </a:lnTo>
                  <a:lnTo>
                    <a:pt x="33" y="1180"/>
                  </a:lnTo>
                  <a:lnTo>
                    <a:pt x="14" y="1117"/>
                  </a:lnTo>
                  <a:lnTo>
                    <a:pt x="0" y="1002"/>
                  </a:lnTo>
                  <a:lnTo>
                    <a:pt x="8" y="954"/>
                  </a:lnTo>
                  <a:lnTo>
                    <a:pt x="23" y="916"/>
                  </a:lnTo>
                  <a:lnTo>
                    <a:pt x="37" y="901"/>
                  </a:lnTo>
                  <a:lnTo>
                    <a:pt x="52" y="889"/>
                  </a:lnTo>
                  <a:lnTo>
                    <a:pt x="92" y="874"/>
                  </a:lnTo>
                  <a:lnTo>
                    <a:pt x="213" y="891"/>
                  </a:lnTo>
                  <a:lnTo>
                    <a:pt x="190" y="846"/>
                  </a:lnTo>
                  <a:lnTo>
                    <a:pt x="170" y="794"/>
                  </a:lnTo>
                  <a:lnTo>
                    <a:pt x="149" y="739"/>
                  </a:lnTo>
                  <a:lnTo>
                    <a:pt x="132" y="682"/>
                  </a:lnTo>
                  <a:lnTo>
                    <a:pt x="90" y="462"/>
                  </a:lnTo>
                  <a:lnTo>
                    <a:pt x="94" y="370"/>
                  </a:lnTo>
                  <a:lnTo>
                    <a:pt x="103" y="334"/>
                  </a:lnTo>
                  <a:lnTo>
                    <a:pt x="118" y="306"/>
                  </a:lnTo>
                  <a:lnTo>
                    <a:pt x="139" y="285"/>
                  </a:lnTo>
                  <a:lnTo>
                    <a:pt x="168" y="275"/>
                  </a:lnTo>
                  <a:lnTo>
                    <a:pt x="244" y="291"/>
                  </a:lnTo>
                  <a:lnTo>
                    <a:pt x="259" y="234"/>
                  </a:lnTo>
                  <a:lnTo>
                    <a:pt x="280" y="182"/>
                  </a:lnTo>
                  <a:lnTo>
                    <a:pt x="303" y="135"/>
                  </a:lnTo>
                  <a:lnTo>
                    <a:pt x="331" y="95"/>
                  </a:lnTo>
                  <a:lnTo>
                    <a:pt x="344" y="78"/>
                  </a:lnTo>
                  <a:lnTo>
                    <a:pt x="362" y="61"/>
                  </a:lnTo>
                  <a:lnTo>
                    <a:pt x="394" y="34"/>
                  </a:lnTo>
                  <a:lnTo>
                    <a:pt x="428" y="13"/>
                  </a:lnTo>
                  <a:lnTo>
                    <a:pt x="464" y="2"/>
                  </a:lnTo>
                  <a:lnTo>
                    <a:pt x="536" y="0"/>
                  </a:lnTo>
                  <a:lnTo>
                    <a:pt x="609" y="34"/>
                  </a:lnTo>
                  <a:lnTo>
                    <a:pt x="671" y="104"/>
                  </a:lnTo>
                  <a:lnTo>
                    <a:pt x="700" y="156"/>
                  </a:lnTo>
                  <a:lnTo>
                    <a:pt x="723" y="218"/>
                  </a:lnTo>
                  <a:lnTo>
                    <a:pt x="761" y="192"/>
                  </a:lnTo>
                  <a:lnTo>
                    <a:pt x="795" y="171"/>
                  </a:lnTo>
                  <a:lnTo>
                    <a:pt x="856" y="140"/>
                  </a:lnTo>
                  <a:lnTo>
                    <a:pt x="905" y="125"/>
                  </a:lnTo>
                  <a:lnTo>
                    <a:pt x="943" y="125"/>
                  </a:lnTo>
                  <a:lnTo>
                    <a:pt x="995" y="159"/>
                  </a:lnTo>
                  <a:lnTo>
                    <a:pt x="1014" y="230"/>
                  </a:lnTo>
                  <a:lnTo>
                    <a:pt x="1008" y="325"/>
                  </a:lnTo>
                  <a:lnTo>
                    <a:pt x="996" y="378"/>
                  </a:lnTo>
                  <a:lnTo>
                    <a:pt x="983" y="431"/>
                  </a:lnTo>
                  <a:lnTo>
                    <a:pt x="964" y="485"/>
                  </a:lnTo>
                  <a:lnTo>
                    <a:pt x="945" y="534"/>
                  </a:lnTo>
                  <a:lnTo>
                    <a:pt x="924" y="581"/>
                  </a:lnTo>
                  <a:lnTo>
                    <a:pt x="903" y="623"/>
                  </a:lnTo>
                  <a:lnTo>
                    <a:pt x="964" y="606"/>
                  </a:lnTo>
                  <a:lnTo>
                    <a:pt x="1017" y="600"/>
                  </a:lnTo>
                  <a:lnTo>
                    <a:pt x="1099" y="616"/>
                  </a:lnTo>
                  <a:lnTo>
                    <a:pt x="1154" y="663"/>
                  </a:lnTo>
                  <a:lnTo>
                    <a:pt x="1185" y="734"/>
                  </a:lnTo>
                  <a:lnTo>
                    <a:pt x="1194" y="819"/>
                  </a:lnTo>
                  <a:lnTo>
                    <a:pt x="1188" y="912"/>
                  </a:lnTo>
                  <a:lnTo>
                    <a:pt x="1168" y="1007"/>
                  </a:lnTo>
                  <a:lnTo>
                    <a:pt x="1152" y="1051"/>
                  </a:lnTo>
                  <a:lnTo>
                    <a:pt x="1137" y="1093"/>
                  </a:lnTo>
                  <a:lnTo>
                    <a:pt x="1232" y="1068"/>
                  </a:lnTo>
                  <a:lnTo>
                    <a:pt x="1306" y="1066"/>
                  </a:lnTo>
                  <a:lnTo>
                    <a:pt x="1360" y="1083"/>
                  </a:lnTo>
                  <a:lnTo>
                    <a:pt x="1396" y="1116"/>
                  </a:lnTo>
                  <a:lnTo>
                    <a:pt x="1417" y="1163"/>
                  </a:lnTo>
                  <a:lnTo>
                    <a:pt x="1422" y="1224"/>
                  </a:lnTo>
                  <a:lnTo>
                    <a:pt x="1417" y="1292"/>
                  </a:lnTo>
                  <a:lnTo>
                    <a:pt x="1399" y="1368"/>
                  </a:lnTo>
                  <a:lnTo>
                    <a:pt x="1377" y="1448"/>
                  </a:lnTo>
                  <a:lnTo>
                    <a:pt x="1361" y="1488"/>
                  </a:lnTo>
                  <a:lnTo>
                    <a:pt x="1346" y="1530"/>
                  </a:lnTo>
                  <a:lnTo>
                    <a:pt x="1331" y="1570"/>
                  </a:lnTo>
                  <a:lnTo>
                    <a:pt x="1314" y="1610"/>
                  </a:lnTo>
                  <a:lnTo>
                    <a:pt x="1295" y="1650"/>
                  </a:lnTo>
                  <a:lnTo>
                    <a:pt x="1278" y="1688"/>
                  </a:lnTo>
                  <a:lnTo>
                    <a:pt x="1259" y="1724"/>
                  </a:lnTo>
                  <a:lnTo>
                    <a:pt x="1242" y="1758"/>
                  </a:lnTo>
                  <a:lnTo>
                    <a:pt x="1225" y="1792"/>
                  </a:lnTo>
                  <a:lnTo>
                    <a:pt x="1207" y="1821"/>
                  </a:lnTo>
                  <a:lnTo>
                    <a:pt x="1177" y="1874"/>
                  </a:lnTo>
                  <a:lnTo>
                    <a:pt x="1154" y="1912"/>
                  </a:lnTo>
                  <a:lnTo>
                    <a:pt x="1133" y="1933"/>
                  </a:lnTo>
                  <a:lnTo>
                    <a:pt x="1111" y="1942"/>
                  </a:lnTo>
                  <a:lnTo>
                    <a:pt x="1063" y="1935"/>
                  </a:lnTo>
                  <a:lnTo>
                    <a:pt x="1034" y="1899"/>
                  </a:lnTo>
                  <a:lnTo>
                    <a:pt x="1040" y="1844"/>
                  </a:lnTo>
                  <a:lnTo>
                    <a:pt x="1059" y="1813"/>
                  </a:lnTo>
                  <a:lnTo>
                    <a:pt x="1080" y="1777"/>
                  </a:lnTo>
                  <a:lnTo>
                    <a:pt x="1105" y="1741"/>
                  </a:lnTo>
                  <a:lnTo>
                    <a:pt x="1133" y="1701"/>
                  </a:lnTo>
                  <a:lnTo>
                    <a:pt x="1162" y="1661"/>
                  </a:lnTo>
                  <a:lnTo>
                    <a:pt x="1188" y="1617"/>
                  </a:lnTo>
                  <a:lnTo>
                    <a:pt x="1217" y="1576"/>
                  </a:lnTo>
                  <a:lnTo>
                    <a:pt x="1244" y="1530"/>
                  </a:lnTo>
                  <a:lnTo>
                    <a:pt x="1268" y="1486"/>
                  </a:lnTo>
                  <a:lnTo>
                    <a:pt x="1289" y="1441"/>
                  </a:lnTo>
                  <a:lnTo>
                    <a:pt x="1318" y="1351"/>
                  </a:lnTo>
                  <a:lnTo>
                    <a:pt x="1325" y="1266"/>
                  </a:lnTo>
                  <a:lnTo>
                    <a:pt x="1318" y="1224"/>
                  </a:lnTo>
                  <a:lnTo>
                    <a:pt x="1301" y="1184"/>
                  </a:lnTo>
                  <a:lnTo>
                    <a:pt x="1278" y="1165"/>
                  </a:lnTo>
                  <a:lnTo>
                    <a:pt x="1245" y="1167"/>
                  </a:lnTo>
                  <a:lnTo>
                    <a:pt x="1160" y="1207"/>
                  </a:lnTo>
                  <a:lnTo>
                    <a:pt x="1116" y="1237"/>
                  </a:lnTo>
                  <a:lnTo>
                    <a:pt x="1074" y="1268"/>
                  </a:lnTo>
                  <a:lnTo>
                    <a:pt x="1040" y="1290"/>
                  </a:lnTo>
                  <a:lnTo>
                    <a:pt x="1017" y="1304"/>
                  </a:lnTo>
                  <a:lnTo>
                    <a:pt x="958" y="1315"/>
                  </a:lnTo>
                  <a:lnTo>
                    <a:pt x="938" y="1285"/>
                  </a:lnTo>
                  <a:lnTo>
                    <a:pt x="943" y="1222"/>
                  </a:lnTo>
                  <a:lnTo>
                    <a:pt x="955" y="1182"/>
                  </a:lnTo>
                  <a:lnTo>
                    <a:pt x="970" y="1138"/>
                  </a:lnTo>
                  <a:lnTo>
                    <a:pt x="987" y="1093"/>
                  </a:lnTo>
                  <a:lnTo>
                    <a:pt x="1006" y="1045"/>
                  </a:lnTo>
                  <a:lnTo>
                    <a:pt x="1025" y="998"/>
                  </a:lnTo>
                  <a:lnTo>
                    <a:pt x="1044" y="954"/>
                  </a:lnTo>
                  <a:lnTo>
                    <a:pt x="1072" y="874"/>
                  </a:lnTo>
                  <a:lnTo>
                    <a:pt x="1086" y="819"/>
                  </a:lnTo>
                  <a:lnTo>
                    <a:pt x="1082" y="766"/>
                  </a:lnTo>
                  <a:lnTo>
                    <a:pt x="1071" y="732"/>
                  </a:lnTo>
                  <a:lnTo>
                    <a:pt x="1052" y="713"/>
                  </a:lnTo>
                  <a:lnTo>
                    <a:pt x="1027" y="707"/>
                  </a:lnTo>
                  <a:lnTo>
                    <a:pt x="966" y="722"/>
                  </a:lnTo>
                  <a:lnTo>
                    <a:pt x="896" y="760"/>
                  </a:lnTo>
                  <a:lnTo>
                    <a:pt x="862" y="781"/>
                  </a:lnTo>
                  <a:lnTo>
                    <a:pt x="827" y="800"/>
                  </a:lnTo>
                  <a:lnTo>
                    <a:pt x="797" y="817"/>
                  </a:lnTo>
                  <a:lnTo>
                    <a:pt x="770" y="825"/>
                  </a:lnTo>
                  <a:lnTo>
                    <a:pt x="734" y="813"/>
                  </a:lnTo>
                  <a:lnTo>
                    <a:pt x="727" y="747"/>
                  </a:lnTo>
                  <a:lnTo>
                    <a:pt x="742" y="684"/>
                  </a:lnTo>
                  <a:lnTo>
                    <a:pt x="766" y="623"/>
                  </a:lnTo>
                  <a:lnTo>
                    <a:pt x="782" y="593"/>
                  </a:lnTo>
                  <a:lnTo>
                    <a:pt x="797" y="562"/>
                  </a:lnTo>
                  <a:lnTo>
                    <a:pt x="829" y="502"/>
                  </a:lnTo>
                  <a:lnTo>
                    <a:pt x="862" y="443"/>
                  </a:lnTo>
                  <a:lnTo>
                    <a:pt x="886" y="382"/>
                  </a:lnTo>
                  <a:lnTo>
                    <a:pt x="901" y="256"/>
                  </a:lnTo>
                  <a:lnTo>
                    <a:pt x="835" y="287"/>
                  </a:lnTo>
                  <a:lnTo>
                    <a:pt x="791" y="323"/>
                  </a:lnTo>
                  <a:lnTo>
                    <a:pt x="755" y="367"/>
                  </a:lnTo>
                  <a:lnTo>
                    <a:pt x="734" y="391"/>
                  </a:lnTo>
                  <a:lnTo>
                    <a:pt x="713" y="422"/>
                  </a:lnTo>
                  <a:lnTo>
                    <a:pt x="685" y="452"/>
                  </a:lnTo>
                  <a:lnTo>
                    <a:pt x="664" y="467"/>
                  </a:lnTo>
                  <a:lnTo>
                    <a:pt x="637" y="458"/>
                  </a:lnTo>
                  <a:lnTo>
                    <a:pt x="614" y="332"/>
                  </a:lnTo>
                  <a:lnTo>
                    <a:pt x="603" y="249"/>
                  </a:lnTo>
                  <a:lnTo>
                    <a:pt x="593" y="207"/>
                  </a:lnTo>
                  <a:lnTo>
                    <a:pt x="580" y="171"/>
                  </a:lnTo>
                  <a:lnTo>
                    <a:pt x="561" y="139"/>
                  </a:lnTo>
                  <a:lnTo>
                    <a:pt x="536" y="116"/>
                  </a:lnTo>
                  <a:lnTo>
                    <a:pt x="504" y="101"/>
                  </a:lnTo>
                  <a:lnTo>
                    <a:pt x="462" y="99"/>
                  </a:lnTo>
                  <a:lnTo>
                    <a:pt x="413" y="123"/>
                  </a:lnTo>
                  <a:lnTo>
                    <a:pt x="382" y="180"/>
                  </a:lnTo>
                  <a:lnTo>
                    <a:pt x="356" y="331"/>
                  </a:lnTo>
                  <a:lnTo>
                    <a:pt x="343" y="397"/>
                  </a:lnTo>
                  <a:lnTo>
                    <a:pt x="333" y="422"/>
                  </a:lnTo>
                  <a:lnTo>
                    <a:pt x="320" y="439"/>
                  </a:lnTo>
                  <a:lnTo>
                    <a:pt x="280" y="443"/>
                  </a:lnTo>
                  <a:lnTo>
                    <a:pt x="211" y="395"/>
                  </a:lnTo>
                  <a:lnTo>
                    <a:pt x="190" y="475"/>
                  </a:lnTo>
                  <a:lnTo>
                    <a:pt x="204" y="580"/>
                  </a:lnTo>
                  <a:lnTo>
                    <a:pt x="217" y="637"/>
                  </a:lnTo>
                  <a:lnTo>
                    <a:pt x="236" y="697"/>
                  </a:lnTo>
                  <a:lnTo>
                    <a:pt x="255" y="758"/>
                  </a:lnTo>
                  <a:lnTo>
                    <a:pt x="276" y="817"/>
                  </a:lnTo>
                  <a:lnTo>
                    <a:pt x="295" y="872"/>
                  </a:lnTo>
                  <a:lnTo>
                    <a:pt x="310" y="924"/>
                  </a:lnTo>
                  <a:lnTo>
                    <a:pt x="325" y="1007"/>
                  </a:lnTo>
                  <a:lnTo>
                    <a:pt x="322" y="1036"/>
                  </a:lnTo>
                  <a:lnTo>
                    <a:pt x="310" y="1053"/>
                  </a:lnTo>
                  <a:lnTo>
                    <a:pt x="251" y="1051"/>
                  </a:lnTo>
                  <a:lnTo>
                    <a:pt x="189" y="1019"/>
                  </a:lnTo>
                  <a:lnTo>
                    <a:pt x="158" y="1002"/>
                  </a:lnTo>
                  <a:lnTo>
                    <a:pt x="124" y="992"/>
                  </a:lnTo>
                  <a:lnTo>
                    <a:pt x="103" y="1038"/>
                  </a:lnTo>
                  <a:lnTo>
                    <a:pt x="95" y="1085"/>
                  </a:lnTo>
                  <a:lnTo>
                    <a:pt x="103" y="1131"/>
                  </a:lnTo>
                  <a:lnTo>
                    <a:pt x="118" y="1178"/>
                  </a:lnTo>
                  <a:lnTo>
                    <a:pt x="145" y="1224"/>
                  </a:lnTo>
                  <a:lnTo>
                    <a:pt x="160" y="1247"/>
                  </a:lnTo>
                  <a:lnTo>
                    <a:pt x="177" y="1270"/>
                  </a:lnTo>
                  <a:lnTo>
                    <a:pt x="213" y="1315"/>
                  </a:lnTo>
                  <a:lnTo>
                    <a:pt x="232" y="1336"/>
                  </a:lnTo>
                  <a:lnTo>
                    <a:pt x="251" y="1357"/>
                  </a:lnTo>
                  <a:lnTo>
                    <a:pt x="272" y="1378"/>
                  </a:lnTo>
                  <a:lnTo>
                    <a:pt x="291" y="1399"/>
                  </a:lnTo>
                  <a:lnTo>
                    <a:pt x="310" y="1420"/>
                  </a:lnTo>
                  <a:lnTo>
                    <a:pt x="329" y="1439"/>
                  </a:lnTo>
                  <a:lnTo>
                    <a:pt x="346" y="1458"/>
                  </a:lnTo>
                  <a:lnTo>
                    <a:pt x="363" y="1475"/>
                  </a:lnTo>
                  <a:lnTo>
                    <a:pt x="392" y="1509"/>
                  </a:lnTo>
                  <a:lnTo>
                    <a:pt x="424" y="1568"/>
                  </a:lnTo>
                  <a:lnTo>
                    <a:pt x="424" y="1593"/>
                  </a:lnTo>
                  <a:lnTo>
                    <a:pt x="409" y="1612"/>
                  </a:lnTo>
                  <a:lnTo>
                    <a:pt x="384" y="1629"/>
                  </a:lnTo>
                  <a:lnTo>
                    <a:pt x="358" y="1640"/>
                  </a:lnTo>
                  <a:lnTo>
                    <a:pt x="301" y="1657"/>
                  </a:lnTo>
                  <a:lnTo>
                    <a:pt x="190" y="1703"/>
                  </a:lnTo>
                  <a:lnTo>
                    <a:pt x="194" y="1756"/>
                  </a:lnTo>
                  <a:lnTo>
                    <a:pt x="210" y="1785"/>
                  </a:lnTo>
                  <a:lnTo>
                    <a:pt x="236" y="1811"/>
                  </a:lnTo>
                  <a:lnTo>
                    <a:pt x="268" y="1838"/>
                  </a:lnTo>
                  <a:lnTo>
                    <a:pt x="305" y="1865"/>
                  </a:lnTo>
                  <a:lnTo>
                    <a:pt x="348" y="1889"/>
                  </a:lnTo>
                  <a:lnTo>
                    <a:pt x="394" y="1914"/>
                  </a:lnTo>
                  <a:lnTo>
                    <a:pt x="441" y="1937"/>
                  </a:lnTo>
                  <a:lnTo>
                    <a:pt x="489" y="1958"/>
                  </a:lnTo>
                  <a:lnTo>
                    <a:pt x="536" y="1975"/>
                  </a:lnTo>
                  <a:lnTo>
                    <a:pt x="582" y="1990"/>
                  </a:lnTo>
                  <a:lnTo>
                    <a:pt x="662" y="2013"/>
                  </a:lnTo>
                  <a:lnTo>
                    <a:pt x="721" y="2020"/>
                  </a:lnTo>
                  <a:lnTo>
                    <a:pt x="751" y="2039"/>
                  </a:lnTo>
                  <a:lnTo>
                    <a:pt x="749" y="2057"/>
                  </a:lnTo>
                  <a:lnTo>
                    <a:pt x="732" y="2070"/>
                  </a:lnTo>
                  <a:lnTo>
                    <a:pt x="685" y="2087"/>
                  </a:lnTo>
                  <a:lnTo>
                    <a:pt x="633" y="2095"/>
                  </a:lnTo>
                  <a:lnTo>
                    <a:pt x="521" y="2091"/>
                  </a:lnTo>
                  <a:lnTo>
                    <a:pt x="401" y="2060"/>
                  </a:lnTo>
                  <a:lnTo>
                    <a:pt x="344" y="2037"/>
                  </a:lnTo>
                  <a:lnTo>
                    <a:pt x="289" y="2009"/>
                  </a:lnTo>
                  <a:lnTo>
                    <a:pt x="238" y="1975"/>
                  </a:lnTo>
                  <a:lnTo>
                    <a:pt x="192" y="1937"/>
                  </a:lnTo>
                  <a:lnTo>
                    <a:pt x="171" y="1916"/>
                  </a:lnTo>
                  <a:lnTo>
                    <a:pt x="154" y="1895"/>
                  </a:lnTo>
                  <a:lnTo>
                    <a:pt x="122" y="1849"/>
                  </a:lnTo>
                  <a:lnTo>
                    <a:pt x="88" y="1749"/>
                  </a:lnTo>
                  <a:lnTo>
                    <a:pt x="88" y="1724"/>
                  </a:lnTo>
                  <a:lnTo>
                    <a:pt x="90" y="1695"/>
                  </a:lnTo>
                  <a:lnTo>
                    <a:pt x="103" y="1640"/>
                  </a:lnTo>
                  <a:lnTo>
                    <a:pt x="103" y="1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650200">
              <a:off x="4177080" y="2389680"/>
              <a:ext cx="334800" cy="226080"/>
            </a:xfrm>
            <a:custGeom>
              <a:avLst/>
              <a:gdLst/>
              <a:ahLst/>
              <a:rect l="l" t="t" r="r" b="b"/>
              <a:pathLst>
                <a:path w="2007" h="1601">
                  <a:moveTo>
                    <a:pt x="1243" y="86"/>
                  </a:moveTo>
                  <a:lnTo>
                    <a:pt x="1239" y="173"/>
                  </a:lnTo>
                  <a:lnTo>
                    <a:pt x="1243" y="261"/>
                  </a:lnTo>
                  <a:lnTo>
                    <a:pt x="1142" y="238"/>
                  </a:lnTo>
                  <a:lnTo>
                    <a:pt x="1015" y="232"/>
                  </a:lnTo>
                  <a:lnTo>
                    <a:pt x="745" y="272"/>
                  </a:lnTo>
                  <a:lnTo>
                    <a:pt x="641" y="318"/>
                  </a:lnTo>
                  <a:lnTo>
                    <a:pt x="576" y="380"/>
                  </a:lnTo>
                  <a:lnTo>
                    <a:pt x="566" y="418"/>
                  </a:lnTo>
                  <a:lnTo>
                    <a:pt x="574" y="460"/>
                  </a:lnTo>
                  <a:lnTo>
                    <a:pt x="585" y="483"/>
                  </a:lnTo>
                  <a:lnTo>
                    <a:pt x="601" y="506"/>
                  </a:lnTo>
                  <a:lnTo>
                    <a:pt x="623" y="531"/>
                  </a:lnTo>
                  <a:lnTo>
                    <a:pt x="650" y="557"/>
                  </a:lnTo>
                  <a:lnTo>
                    <a:pt x="428" y="589"/>
                  </a:lnTo>
                  <a:lnTo>
                    <a:pt x="316" y="624"/>
                  </a:lnTo>
                  <a:lnTo>
                    <a:pt x="217" y="665"/>
                  </a:lnTo>
                  <a:lnTo>
                    <a:pt x="175" y="688"/>
                  </a:lnTo>
                  <a:lnTo>
                    <a:pt x="139" y="713"/>
                  </a:lnTo>
                  <a:lnTo>
                    <a:pt x="95" y="766"/>
                  </a:lnTo>
                  <a:lnTo>
                    <a:pt x="95" y="825"/>
                  </a:lnTo>
                  <a:lnTo>
                    <a:pt x="112" y="854"/>
                  </a:lnTo>
                  <a:lnTo>
                    <a:pt x="127" y="869"/>
                  </a:lnTo>
                  <a:lnTo>
                    <a:pt x="146" y="884"/>
                  </a:lnTo>
                  <a:lnTo>
                    <a:pt x="124" y="905"/>
                  </a:lnTo>
                  <a:lnTo>
                    <a:pt x="105" y="926"/>
                  </a:lnTo>
                  <a:lnTo>
                    <a:pt x="68" y="970"/>
                  </a:lnTo>
                  <a:lnTo>
                    <a:pt x="19" y="1057"/>
                  </a:lnTo>
                  <a:lnTo>
                    <a:pt x="0" y="1143"/>
                  </a:lnTo>
                  <a:lnTo>
                    <a:pt x="6" y="1219"/>
                  </a:lnTo>
                  <a:lnTo>
                    <a:pt x="19" y="1255"/>
                  </a:lnTo>
                  <a:lnTo>
                    <a:pt x="40" y="1283"/>
                  </a:lnTo>
                  <a:lnTo>
                    <a:pt x="70" y="1308"/>
                  </a:lnTo>
                  <a:lnTo>
                    <a:pt x="105" y="1327"/>
                  </a:lnTo>
                  <a:lnTo>
                    <a:pt x="148" y="1340"/>
                  </a:lnTo>
                  <a:lnTo>
                    <a:pt x="200" y="1348"/>
                  </a:lnTo>
                  <a:lnTo>
                    <a:pt x="321" y="1336"/>
                  </a:lnTo>
                  <a:lnTo>
                    <a:pt x="317" y="1422"/>
                  </a:lnTo>
                  <a:lnTo>
                    <a:pt x="321" y="1490"/>
                  </a:lnTo>
                  <a:lnTo>
                    <a:pt x="333" y="1540"/>
                  </a:lnTo>
                  <a:lnTo>
                    <a:pt x="352" y="1574"/>
                  </a:lnTo>
                  <a:lnTo>
                    <a:pt x="376" y="1593"/>
                  </a:lnTo>
                  <a:lnTo>
                    <a:pt x="407" y="1601"/>
                  </a:lnTo>
                  <a:lnTo>
                    <a:pt x="479" y="1582"/>
                  </a:lnTo>
                  <a:lnTo>
                    <a:pt x="517" y="1559"/>
                  </a:lnTo>
                  <a:lnTo>
                    <a:pt x="557" y="1528"/>
                  </a:lnTo>
                  <a:lnTo>
                    <a:pt x="597" y="1492"/>
                  </a:lnTo>
                  <a:lnTo>
                    <a:pt x="618" y="1473"/>
                  </a:lnTo>
                  <a:lnTo>
                    <a:pt x="637" y="1454"/>
                  </a:lnTo>
                  <a:lnTo>
                    <a:pt x="656" y="1433"/>
                  </a:lnTo>
                  <a:lnTo>
                    <a:pt x="673" y="1412"/>
                  </a:lnTo>
                  <a:lnTo>
                    <a:pt x="707" y="1371"/>
                  </a:lnTo>
                  <a:lnTo>
                    <a:pt x="738" y="1329"/>
                  </a:lnTo>
                  <a:lnTo>
                    <a:pt x="762" y="1289"/>
                  </a:lnTo>
                  <a:lnTo>
                    <a:pt x="779" y="1352"/>
                  </a:lnTo>
                  <a:lnTo>
                    <a:pt x="800" y="1399"/>
                  </a:lnTo>
                  <a:lnTo>
                    <a:pt x="825" y="1437"/>
                  </a:lnTo>
                  <a:lnTo>
                    <a:pt x="853" y="1464"/>
                  </a:lnTo>
                  <a:lnTo>
                    <a:pt x="888" y="1481"/>
                  </a:lnTo>
                  <a:lnTo>
                    <a:pt x="922" y="1487"/>
                  </a:lnTo>
                  <a:lnTo>
                    <a:pt x="998" y="1479"/>
                  </a:lnTo>
                  <a:lnTo>
                    <a:pt x="1078" y="1445"/>
                  </a:lnTo>
                  <a:lnTo>
                    <a:pt x="1118" y="1420"/>
                  </a:lnTo>
                  <a:lnTo>
                    <a:pt x="1156" y="1392"/>
                  </a:lnTo>
                  <a:lnTo>
                    <a:pt x="1194" y="1359"/>
                  </a:lnTo>
                  <a:lnTo>
                    <a:pt x="1228" y="1327"/>
                  </a:lnTo>
                  <a:lnTo>
                    <a:pt x="1258" y="1291"/>
                  </a:lnTo>
                  <a:lnTo>
                    <a:pt x="1287" y="1257"/>
                  </a:lnTo>
                  <a:lnTo>
                    <a:pt x="1298" y="1308"/>
                  </a:lnTo>
                  <a:lnTo>
                    <a:pt x="1313" y="1352"/>
                  </a:lnTo>
                  <a:lnTo>
                    <a:pt x="1329" y="1388"/>
                  </a:lnTo>
                  <a:lnTo>
                    <a:pt x="1348" y="1418"/>
                  </a:lnTo>
                  <a:lnTo>
                    <a:pt x="1367" y="1441"/>
                  </a:lnTo>
                  <a:lnTo>
                    <a:pt x="1388" y="1456"/>
                  </a:lnTo>
                  <a:lnTo>
                    <a:pt x="1435" y="1471"/>
                  </a:lnTo>
                  <a:lnTo>
                    <a:pt x="1486" y="1464"/>
                  </a:lnTo>
                  <a:lnTo>
                    <a:pt x="1542" y="1439"/>
                  </a:lnTo>
                  <a:lnTo>
                    <a:pt x="1599" y="1399"/>
                  </a:lnTo>
                  <a:lnTo>
                    <a:pt x="1627" y="1374"/>
                  </a:lnTo>
                  <a:lnTo>
                    <a:pt x="1656" y="1348"/>
                  </a:lnTo>
                  <a:lnTo>
                    <a:pt x="1684" y="1317"/>
                  </a:lnTo>
                  <a:lnTo>
                    <a:pt x="1713" y="1287"/>
                  </a:lnTo>
                  <a:lnTo>
                    <a:pt x="1741" y="1255"/>
                  </a:lnTo>
                  <a:lnTo>
                    <a:pt x="1770" y="1221"/>
                  </a:lnTo>
                  <a:lnTo>
                    <a:pt x="1796" y="1186"/>
                  </a:lnTo>
                  <a:lnTo>
                    <a:pt x="1821" y="1150"/>
                  </a:lnTo>
                  <a:lnTo>
                    <a:pt x="1848" y="1116"/>
                  </a:lnTo>
                  <a:lnTo>
                    <a:pt x="1870" y="1082"/>
                  </a:lnTo>
                  <a:lnTo>
                    <a:pt x="1893" y="1048"/>
                  </a:lnTo>
                  <a:lnTo>
                    <a:pt x="1914" y="1015"/>
                  </a:lnTo>
                  <a:lnTo>
                    <a:pt x="1933" y="983"/>
                  </a:lnTo>
                  <a:lnTo>
                    <a:pt x="1952" y="954"/>
                  </a:lnTo>
                  <a:lnTo>
                    <a:pt x="1967" y="928"/>
                  </a:lnTo>
                  <a:lnTo>
                    <a:pt x="1981" y="903"/>
                  </a:lnTo>
                  <a:lnTo>
                    <a:pt x="2004" y="863"/>
                  </a:lnTo>
                  <a:lnTo>
                    <a:pt x="2007" y="808"/>
                  </a:lnTo>
                  <a:lnTo>
                    <a:pt x="1996" y="789"/>
                  </a:lnTo>
                  <a:lnTo>
                    <a:pt x="1977" y="772"/>
                  </a:lnTo>
                  <a:lnTo>
                    <a:pt x="1931" y="766"/>
                  </a:lnTo>
                  <a:lnTo>
                    <a:pt x="1888" y="799"/>
                  </a:lnTo>
                  <a:lnTo>
                    <a:pt x="1850" y="867"/>
                  </a:lnTo>
                  <a:lnTo>
                    <a:pt x="1831" y="907"/>
                  </a:lnTo>
                  <a:lnTo>
                    <a:pt x="1810" y="949"/>
                  </a:lnTo>
                  <a:lnTo>
                    <a:pt x="1789" y="994"/>
                  </a:lnTo>
                  <a:lnTo>
                    <a:pt x="1766" y="1040"/>
                  </a:lnTo>
                  <a:lnTo>
                    <a:pt x="1743" y="1086"/>
                  </a:lnTo>
                  <a:lnTo>
                    <a:pt x="1718" y="1131"/>
                  </a:lnTo>
                  <a:lnTo>
                    <a:pt x="1692" y="1175"/>
                  </a:lnTo>
                  <a:lnTo>
                    <a:pt x="1663" y="1215"/>
                  </a:lnTo>
                  <a:lnTo>
                    <a:pt x="1633" y="1253"/>
                  </a:lnTo>
                  <a:lnTo>
                    <a:pt x="1618" y="1270"/>
                  </a:lnTo>
                  <a:lnTo>
                    <a:pt x="1601" y="1285"/>
                  </a:lnTo>
                  <a:lnTo>
                    <a:pt x="1566" y="1312"/>
                  </a:lnTo>
                  <a:lnTo>
                    <a:pt x="1528" y="1335"/>
                  </a:lnTo>
                  <a:lnTo>
                    <a:pt x="1488" y="1348"/>
                  </a:lnTo>
                  <a:lnTo>
                    <a:pt x="1447" y="1354"/>
                  </a:lnTo>
                  <a:lnTo>
                    <a:pt x="1420" y="1344"/>
                  </a:lnTo>
                  <a:lnTo>
                    <a:pt x="1405" y="1314"/>
                  </a:lnTo>
                  <a:lnTo>
                    <a:pt x="1397" y="1219"/>
                  </a:lnTo>
                  <a:lnTo>
                    <a:pt x="1410" y="1048"/>
                  </a:lnTo>
                  <a:lnTo>
                    <a:pt x="1403" y="1011"/>
                  </a:lnTo>
                  <a:lnTo>
                    <a:pt x="1390" y="991"/>
                  </a:lnTo>
                  <a:lnTo>
                    <a:pt x="1352" y="989"/>
                  </a:lnTo>
                  <a:lnTo>
                    <a:pt x="1302" y="1025"/>
                  </a:lnTo>
                  <a:lnTo>
                    <a:pt x="1272" y="1055"/>
                  </a:lnTo>
                  <a:lnTo>
                    <a:pt x="1241" y="1089"/>
                  </a:lnTo>
                  <a:lnTo>
                    <a:pt x="1211" y="1127"/>
                  </a:lnTo>
                  <a:lnTo>
                    <a:pt x="1180" y="1167"/>
                  </a:lnTo>
                  <a:lnTo>
                    <a:pt x="1148" y="1207"/>
                  </a:lnTo>
                  <a:lnTo>
                    <a:pt x="1120" y="1245"/>
                  </a:lnTo>
                  <a:lnTo>
                    <a:pt x="1091" y="1281"/>
                  </a:lnTo>
                  <a:lnTo>
                    <a:pt x="1064" y="1312"/>
                  </a:lnTo>
                  <a:lnTo>
                    <a:pt x="1042" y="1335"/>
                  </a:lnTo>
                  <a:lnTo>
                    <a:pt x="1023" y="1350"/>
                  </a:lnTo>
                  <a:lnTo>
                    <a:pt x="975" y="1373"/>
                  </a:lnTo>
                  <a:lnTo>
                    <a:pt x="941" y="1378"/>
                  </a:lnTo>
                  <a:lnTo>
                    <a:pt x="897" y="1355"/>
                  </a:lnTo>
                  <a:lnTo>
                    <a:pt x="880" y="1295"/>
                  </a:lnTo>
                  <a:lnTo>
                    <a:pt x="878" y="1215"/>
                  </a:lnTo>
                  <a:lnTo>
                    <a:pt x="871" y="1074"/>
                  </a:lnTo>
                  <a:lnTo>
                    <a:pt x="861" y="1055"/>
                  </a:lnTo>
                  <a:lnTo>
                    <a:pt x="844" y="1048"/>
                  </a:lnTo>
                  <a:lnTo>
                    <a:pt x="783" y="1074"/>
                  </a:lnTo>
                  <a:lnTo>
                    <a:pt x="736" y="1118"/>
                  </a:lnTo>
                  <a:lnTo>
                    <a:pt x="696" y="1169"/>
                  </a:lnTo>
                  <a:lnTo>
                    <a:pt x="677" y="1198"/>
                  </a:lnTo>
                  <a:lnTo>
                    <a:pt x="658" y="1228"/>
                  </a:lnTo>
                  <a:lnTo>
                    <a:pt x="641" y="1257"/>
                  </a:lnTo>
                  <a:lnTo>
                    <a:pt x="622" y="1287"/>
                  </a:lnTo>
                  <a:lnTo>
                    <a:pt x="603" y="1316"/>
                  </a:lnTo>
                  <a:lnTo>
                    <a:pt x="585" y="1344"/>
                  </a:lnTo>
                  <a:lnTo>
                    <a:pt x="565" y="1371"/>
                  </a:lnTo>
                  <a:lnTo>
                    <a:pt x="546" y="1395"/>
                  </a:lnTo>
                  <a:lnTo>
                    <a:pt x="523" y="1418"/>
                  </a:lnTo>
                  <a:lnTo>
                    <a:pt x="498" y="1439"/>
                  </a:lnTo>
                  <a:lnTo>
                    <a:pt x="473" y="1456"/>
                  </a:lnTo>
                  <a:lnTo>
                    <a:pt x="445" y="1470"/>
                  </a:lnTo>
                  <a:lnTo>
                    <a:pt x="439" y="1399"/>
                  </a:lnTo>
                  <a:lnTo>
                    <a:pt x="447" y="1342"/>
                  </a:lnTo>
                  <a:lnTo>
                    <a:pt x="466" y="1289"/>
                  </a:lnTo>
                  <a:lnTo>
                    <a:pt x="492" y="1224"/>
                  </a:lnTo>
                  <a:lnTo>
                    <a:pt x="509" y="1160"/>
                  </a:lnTo>
                  <a:lnTo>
                    <a:pt x="502" y="1144"/>
                  </a:lnTo>
                  <a:lnTo>
                    <a:pt x="487" y="1141"/>
                  </a:lnTo>
                  <a:lnTo>
                    <a:pt x="437" y="1154"/>
                  </a:lnTo>
                  <a:lnTo>
                    <a:pt x="369" y="1184"/>
                  </a:lnTo>
                  <a:lnTo>
                    <a:pt x="329" y="1201"/>
                  </a:lnTo>
                  <a:lnTo>
                    <a:pt x="289" y="1217"/>
                  </a:lnTo>
                  <a:lnTo>
                    <a:pt x="209" y="1236"/>
                  </a:lnTo>
                  <a:lnTo>
                    <a:pt x="141" y="1224"/>
                  </a:lnTo>
                  <a:lnTo>
                    <a:pt x="112" y="1203"/>
                  </a:lnTo>
                  <a:lnTo>
                    <a:pt x="89" y="1171"/>
                  </a:lnTo>
                  <a:lnTo>
                    <a:pt x="86" y="1114"/>
                  </a:lnTo>
                  <a:lnTo>
                    <a:pt x="99" y="1086"/>
                  </a:lnTo>
                  <a:lnTo>
                    <a:pt x="120" y="1059"/>
                  </a:lnTo>
                  <a:lnTo>
                    <a:pt x="146" y="1034"/>
                  </a:lnTo>
                  <a:lnTo>
                    <a:pt x="175" y="1010"/>
                  </a:lnTo>
                  <a:lnTo>
                    <a:pt x="207" y="985"/>
                  </a:lnTo>
                  <a:lnTo>
                    <a:pt x="238" y="962"/>
                  </a:lnTo>
                  <a:lnTo>
                    <a:pt x="314" y="876"/>
                  </a:lnTo>
                  <a:lnTo>
                    <a:pt x="310" y="856"/>
                  </a:lnTo>
                  <a:lnTo>
                    <a:pt x="295" y="838"/>
                  </a:lnTo>
                  <a:lnTo>
                    <a:pt x="266" y="819"/>
                  </a:lnTo>
                  <a:lnTo>
                    <a:pt x="221" y="804"/>
                  </a:lnTo>
                  <a:lnTo>
                    <a:pt x="243" y="772"/>
                  </a:lnTo>
                  <a:lnTo>
                    <a:pt x="278" y="747"/>
                  </a:lnTo>
                  <a:lnTo>
                    <a:pt x="323" y="724"/>
                  </a:lnTo>
                  <a:lnTo>
                    <a:pt x="374" y="705"/>
                  </a:lnTo>
                  <a:lnTo>
                    <a:pt x="433" y="688"/>
                  </a:lnTo>
                  <a:lnTo>
                    <a:pt x="494" y="673"/>
                  </a:lnTo>
                  <a:lnTo>
                    <a:pt x="616" y="648"/>
                  </a:lnTo>
                  <a:lnTo>
                    <a:pt x="806" y="597"/>
                  </a:lnTo>
                  <a:lnTo>
                    <a:pt x="838" y="559"/>
                  </a:lnTo>
                  <a:lnTo>
                    <a:pt x="833" y="536"/>
                  </a:lnTo>
                  <a:lnTo>
                    <a:pt x="808" y="510"/>
                  </a:lnTo>
                  <a:lnTo>
                    <a:pt x="777" y="491"/>
                  </a:lnTo>
                  <a:lnTo>
                    <a:pt x="747" y="472"/>
                  </a:lnTo>
                  <a:lnTo>
                    <a:pt x="692" y="428"/>
                  </a:lnTo>
                  <a:lnTo>
                    <a:pt x="705" y="407"/>
                  </a:lnTo>
                  <a:lnTo>
                    <a:pt x="722" y="388"/>
                  </a:lnTo>
                  <a:lnTo>
                    <a:pt x="739" y="371"/>
                  </a:lnTo>
                  <a:lnTo>
                    <a:pt x="758" y="359"/>
                  </a:lnTo>
                  <a:lnTo>
                    <a:pt x="802" y="340"/>
                  </a:lnTo>
                  <a:lnTo>
                    <a:pt x="852" y="331"/>
                  </a:lnTo>
                  <a:lnTo>
                    <a:pt x="960" y="335"/>
                  </a:lnTo>
                  <a:lnTo>
                    <a:pt x="1072" y="358"/>
                  </a:lnTo>
                  <a:lnTo>
                    <a:pt x="1180" y="384"/>
                  </a:lnTo>
                  <a:lnTo>
                    <a:pt x="1274" y="403"/>
                  </a:lnTo>
                  <a:lnTo>
                    <a:pt x="1340" y="401"/>
                  </a:lnTo>
                  <a:lnTo>
                    <a:pt x="1371" y="367"/>
                  </a:lnTo>
                  <a:lnTo>
                    <a:pt x="1371" y="306"/>
                  </a:lnTo>
                  <a:lnTo>
                    <a:pt x="1357" y="249"/>
                  </a:lnTo>
                  <a:lnTo>
                    <a:pt x="1342" y="131"/>
                  </a:lnTo>
                  <a:lnTo>
                    <a:pt x="1363" y="114"/>
                  </a:lnTo>
                  <a:lnTo>
                    <a:pt x="1390" y="107"/>
                  </a:lnTo>
                  <a:lnTo>
                    <a:pt x="1456" y="116"/>
                  </a:lnTo>
                  <a:lnTo>
                    <a:pt x="1538" y="150"/>
                  </a:lnTo>
                  <a:lnTo>
                    <a:pt x="1582" y="175"/>
                  </a:lnTo>
                  <a:lnTo>
                    <a:pt x="1625" y="202"/>
                  </a:lnTo>
                  <a:lnTo>
                    <a:pt x="1667" y="232"/>
                  </a:lnTo>
                  <a:lnTo>
                    <a:pt x="1709" y="262"/>
                  </a:lnTo>
                  <a:lnTo>
                    <a:pt x="1749" y="295"/>
                  </a:lnTo>
                  <a:lnTo>
                    <a:pt x="1785" y="327"/>
                  </a:lnTo>
                  <a:lnTo>
                    <a:pt x="1817" y="358"/>
                  </a:lnTo>
                  <a:lnTo>
                    <a:pt x="1844" y="386"/>
                  </a:lnTo>
                  <a:lnTo>
                    <a:pt x="1880" y="432"/>
                  </a:lnTo>
                  <a:lnTo>
                    <a:pt x="1895" y="447"/>
                  </a:lnTo>
                  <a:lnTo>
                    <a:pt x="1912" y="449"/>
                  </a:lnTo>
                  <a:lnTo>
                    <a:pt x="1929" y="418"/>
                  </a:lnTo>
                  <a:lnTo>
                    <a:pt x="1920" y="369"/>
                  </a:lnTo>
                  <a:lnTo>
                    <a:pt x="1901" y="320"/>
                  </a:lnTo>
                  <a:lnTo>
                    <a:pt x="1874" y="272"/>
                  </a:lnTo>
                  <a:lnTo>
                    <a:pt x="1859" y="247"/>
                  </a:lnTo>
                  <a:lnTo>
                    <a:pt x="1842" y="223"/>
                  </a:lnTo>
                  <a:lnTo>
                    <a:pt x="1802" y="179"/>
                  </a:lnTo>
                  <a:lnTo>
                    <a:pt x="1779" y="156"/>
                  </a:lnTo>
                  <a:lnTo>
                    <a:pt x="1756" y="135"/>
                  </a:lnTo>
                  <a:lnTo>
                    <a:pt x="1732" y="116"/>
                  </a:lnTo>
                  <a:lnTo>
                    <a:pt x="1707" y="97"/>
                  </a:lnTo>
                  <a:lnTo>
                    <a:pt x="1680" y="80"/>
                  </a:lnTo>
                  <a:lnTo>
                    <a:pt x="1654" y="65"/>
                  </a:lnTo>
                  <a:lnTo>
                    <a:pt x="1601" y="38"/>
                  </a:lnTo>
                  <a:lnTo>
                    <a:pt x="1544" y="17"/>
                  </a:lnTo>
                  <a:lnTo>
                    <a:pt x="1433" y="0"/>
                  </a:lnTo>
                  <a:lnTo>
                    <a:pt x="1331" y="19"/>
                  </a:lnTo>
                  <a:lnTo>
                    <a:pt x="1243" y="86"/>
                  </a:lnTo>
                  <a:lnTo>
                    <a:pt x="12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650200">
              <a:off x="4546080" y="2480760"/>
              <a:ext cx="425520" cy="505080"/>
            </a:xfrm>
            <a:custGeom>
              <a:avLst/>
              <a:gdLst/>
              <a:ahLst/>
              <a:rect l="l" t="t" r="r" b="b"/>
              <a:pathLst>
                <a:path w="2549" h="3572">
                  <a:moveTo>
                    <a:pt x="340" y="2885"/>
                  </a:moveTo>
                  <a:lnTo>
                    <a:pt x="374" y="2718"/>
                  </a:lnTo>
                  <a:lnTo>
                    <a:pt x="372" y="2650"/>
                  </a:lnTo>
                  <a:lnTo>
                    <a:pt x="359" y="2593"/>
                  </a:lnTo>
                  <a:lnTo>
                    <a:pt x="338" y="2541"/>
                  </a:lnTo>
                  <a:lnTo>
                    <a:pt x="325" y="2518"/>
                  </a:lnTo>
                  <a:lnTo>
                    <a:pt x="312" y="2496"/>
                  </a:lnTo>
                  <a:lnTo>
                    <a:pt x="277" y="2456"/>
                  </a:lnTo>
                  <a:lnTo>
                    <a:pt x="258" y="2437"/>
                  </a:lnTo>
                  <a:lnTo>
                    <a:pt x="239" y="2418"/>
                  </a:lnTo>
                  <a:lnTo>
                    <a:pt x="220" y="2401"/>
                  </a:lnTo>
                  <a:lnTo>
                    <a:pt x="201" y="2382"/>
                  </a:lnTo>
                  <a:lnTo>
                    <a:pt x="161" y="2347"/>
                  </a:lnTo>
                  <a:lnTo>
                    <a:pt x="123" y="2309"/>
                  </a:lnTo>
                  <a:lnTo>
                    <a:pt x="104" y="2290"/>
                  </a:lnTo>
                  <a:lnTo>
                    <a:pt x="87" y="2269"/>
                  </a:lnTo>
                  <a:lnTo>
                    <a:pt x="55" y="2226"/>
                  </a:lnTo>
                  <a:lnTo>
                    <a:pt x="28" y="2174"/>
                  </a:lnTo>
                  <a:lnTo>
                    <a:pt x="0" y="2051"/>
                  </a:lnTo>
                  <a:lnTo>
                    <a:pt x="6" y="1994"/>
                  </a:lnTo>
                  <a:lnTo>
                    <a:pt x="25" y="1929"/>
                  </a:lnTo>
                  <a:lnTo>
                    <a:pt x="40" y="1899"/>
                  </a:lnTo>
                  <a:lnTo>
                    <a:pt x="57" y="1866"/>
                  </a:lnTo>
                  <a:lnTo>
                    <a:pt x="76" y="1836"/>
                  </a:lnTo>
                  <a:lnTo>
                    <a:pt x="99" y="1808"/>
                  </a:lnTo>
                  <a:lnTo>
                    <a:pt x="123" y="1781"/>
                  </a:lnTo>
                  <a:lnTo>
                    <a:pt x="150" y="1758"/>
                  </a:lnTo>
                  <a:lnTo>
                    <a:pt x="177" y="1739"/>
                  </a:lnTo>
                  <a:lnTo>
                    <a:pt x="205" y="1724"/>
                  </a:lnTo>
                  <a:lnTo>
                    <a:pt x="266" y="1707"/>
                  </a:lnTo>
                  <a:lnTo>
                    <a:pt x="329" y="1713"/>
                  </a:lnTo>
                  <a:lnTo>
                    <a:pt x="388" y="1754"/>
                  </a:lnTo>
                  <a:lnTo>
                    <a:pt x="426" y="1787"/>
                  </a:lnTo>
                  <a:lnTo>
                    <a:pt x="468" y="1819"/>
                  </a:lnTo>
                  <a:lnTo>
                    <a:pt x="509" y="1846"/>
                  </a:lnTo>
                  <a:lnTo>
                    <a:pt x="547" y="1863"/>
                  </a:lnTo>
                  <a:lnTo>
                    <a:pt x="582" y="1863"/>
                  </a:lnTo>
                  <a:lnTo>
                    <a:pt x="608" y="1840"/>
                  </a:lnTo>
                  <a:lnTo>
                    <a:pt x="620" y="1758"/>
                  </a:lnTo>
                  <a:lnTo>
                    <a:pt x="604" y="1619"/>
                  </a:lnTo>
                  <a:lnTo>
                    <a:pt x="578" y="1444"/>
                  </a:lnTo>
                  <a:lnTo>
                    <a:pt x="557" y="1260"/>
                  </a:lnTo>
                  <a:lnTo>
                    <a:pt x="553" y="1173"/>
                  </a:lnTo>
                  <a:lnTo>
                    <a:pt x="557" y="1089"/>
                  </a:lnTo>
                  <a:lnTo>
                    <a:pt x="568" y="1017"/>
                  </a:lnTo>
                  <a:lnTo>
                    <a:pt x="580" y="984"/>
                  </a:lnTo>
                  <a:lnTo>
                    <a:pt x="593" y="954"/>
                  </a:lnTo>
                  <a:lnTo>
                    <a:pt x="608" y="929"/>
                  </a:lnTo>
                  <a:lnTo>
                    <a:pt x="629" y="908"/>
                  </a:lnTo>
                  <a:lnTo>
                    <a:pt x="652" y="891"/>
                  </a:lnTo>
                  <a:lnTo>
                    <a:pt x="680" y="880"/>
                  </a:lnTo>
                  <a:lnTo>
                    <a:pt x="747" y="872"/>
                  </a:lnTo>
                  <a:lnTo>
                    <a:pt x="834" y="889"/>
                  </a:lnTo>
                  <a:lnTo>
                    <a:pt x="909" y="935"/>
                  </a:lnTo>
                  <a:lnTo>
                    <a:pt x="937" y="967"/>
                  </a:lnTo>
                  <a:lnTo>
                    <a:pt x="962" y="1002"/>
                  </a:lnTo>
                  <a:lnTo>
                    <a:pt x="986" y="1038"/>
                  </a:lnTo>
                  <a:lnTo>
                    <a:pt x="1011" y="1070"/>
                  </a:lnTo>
                  <a:lnTo>
                    <a:pt x="1042" y="1099"/>
                  </a:lnTo>
                  <a:lnTo>
                    <a:pt x="1078" y="1118"/>
                  </a:lnTo>
                  <a:lnTo>
                    <a:pt x="1083" y="969"/>
                  </a:lnTo>
                  <a:lnTo>
                    <a:pt x="1102" y="817"/>
                  </a:lnTo>
                  <a:lnTo>
                    <a:pt x="1118" y="743"/>
                  </a:lnTo>
                  <a:lnTo>
                    <a:pt x="1137" y="671"/>
                  </a:lnTo>
                  <a:lnTo>
                    <a:pt x="1159" y="606"/>
                  </a:lnTo>
                  <a:lnTo>
                    <a:pt x="1173" y="576"/>
                  </a:lnTo>
                  <a:lnTo>
                    <a:pt x="1186" y="547"/>
                  </a:lnTo>
                  <a:lnTo>
                    <a:pt x="1201" y="521"/>
                  </a:lnTo>
                  <a:lnTo>
                    <a:pt x="1218" y="498"/>
                  </a:lnTo>
                  <a:lnTo>
                    <a:pt x="1235" y="477"/>
                  </a:lnTo>
                  <a:lnTo>
                    <a:pt x="1254" y="458"/>
                  </a:lnTo>
                  <a:lnTo>
                    <a:pt x="1275" y="443"/>
                  </a:lnTo>
                  <a:lnTo>
                    <a:pt x="1296" y="429"/>
                  </a:lnTo>
                  <a:lnTo>
                    <a:pt x="1344" y="414"/>
                  </a:lnTo>
                  <a:lnTo>
                    <a:pt x="1454" y="431"/>
                  </a:lnTo>
                  <a:lnTo>
                    <a:pt x="1519" y="467"/>
                  </a:lnTo>
                  <a:lnTo>
                    <a:pt x="1553" y="492"/>
                  </a:lnTo>
                  <a:lnTo>
                    <a:pt x="1589" y="523"/>
                  </a:lnTo>
                  <a:lnTo>
                    <a:pt x="1610" y="481"/>
                  </a:lnTo>
                  <a:lnTo>
                    <a:pt x="1629" y="441"/>
                  </a:lnTo>
                  <a:lnTo>
                    <a:pt x="1650" y="403"/>
                  </a:lnTo>
                  <a:lnTo>
                    <a:pt x="1671" y="367"/>
                  </a:lnTo>
                  <a:lnTo>
                    <a:pt x="1690" y="333"/>
                  </a:lnTo>
                  <a:lnTo>
                    <a:pt x="1709" y="302"/>
                  </a:lnTo>
                  <a:lnTo>
                    <a:pt x="1730" y="270"/>
                  </a:lnTo>
                  <a:lnTo>
                    <a:pt x="1749" y="243"/>
                  </a:lnTo>
                  <a:lnTo>
                    <a:pt x="1768" y="217"/>
                  </a:lnTo>
                  <a:lnTo>
                    <a:pt x="1785" y="190"/>
                  </a:lnTo>
                  <a:lnTo>
                    <a:pt x="1823" y="146"/>
                  </a:lnTo>
                  <a:lnTo>
                    <a:pt x="1840" y="125"/>
                  </a:lnTo>
                  <a:lnTo>
                    <a:pt x="1857" y="108"/>
                  </a:lnTo>
                  <a:lnTo>
                    <a:pt x="1893" y="76"/>
                  </a:lnTo>
                  <a:lnTo>
                    <a:pt x="1925" y="49"/>
                  </a:lnTo>
                  <a:lnTo>
                    <a:pt x="1958" y="28"/>
                  </a:lnTo>
                  <a:lnTo>
                    <a:pt x="2017" y="4"/>
                  </a:lnTo>
                  <a:lnTo>
                    <a:pt x="2068" y="0"/>
                  </a:lnTo>
                  <a:lnTo>
                    <a:pt x="2114" y="13"/>
                  </a:lnTo>
                  <a:lnTo>
                    <a:pt x="2150" y="42"/>
                  </a:lnTo>
                  <a:lnTo>
                    <a:pt x="2176" y="84"/>
                  </a:lnTo>
                  <a:lnTo>
                    <a:pt x="2201" y="199"/>
                  </a:lnTo>
                  <a:lnTo>
                    <a:pt x="2197" y="270"/>
                  </a:lnTo>
                  <a:lnTo>
                    <a:pt x="2180" y="348"/>
                  </a:lnTo>
                  <a:lnTo>
                    <a:pt x="2169" y="386"/>
                  </a:lnTo>
                  <a:lnTo>
                    <a:pt x="2152" y="426"/>
                  </a:lnTo>
                  <a:lnTo>
                    <a:pt x="2133" y="466"/>
                  </a:lnTo>
                  <a:lnTo>
                    <a:pt x="2110" y="505"/>
                  </a:lnTo>
                  <a:lnTo>
                    <a:pt x="2281" y="500"/>
                  </a:lnTo>
                  <a:lnTo>
                    <a:pt x="2412" y="532"/>
                  </a:lnTo>
                  <a:lnTo>
                    <a:pt x="2503" y="591"/>
                  </a:lnTo>
                  <a:lnTo>
                    <a:pt x="2549" y="673"/>
                  </a:lnTo>
                  <a:lnTo>
                    <a:pt x="2545" y="770"/>
                  </a:lnTo>
                  <a:lnTo>
                    <a:pt x="2524" y="821"/>
                  </a:lnTo>
                  <a:lnTo>
                    <a:pt x="2509" y="848"/>
                  </a:lnTo>
                  <a:lnTo>
                    <a:pt x="2492" y="874"/>
                  </a:lnTo>
                  <a:lnTo>
                    <a:pt x="2469" y="901"/>
                  </a:lnTo>
                  <a:lnTo>
                    <a:pt x="2443" y="927"/>
                  </a:lnTo>
                  <a:lnTo>
                    <a:pt x="2414" y="954"/>
                  </a:lnTo>
                  <a:lnTo>
                    <a:pt x="2382" y="979"/>
                  </a:lnTo>
                  <a:lnTo>
                    <a:pt x="2346" y="1005"/>
                  </a:lnTo>
                  <a:lnTo>
                    <a:pt x="2306" y="1030"/>
                  </a:lnTo>
                  <a:lnTo>
                    <a:pt x="2262" y="1053"/>
                  </a:lnTo>
                  <a:lnTo>
                    <a:pt x="2214" y="1078"/>
                  </a:lnTo>
                  <a:lnTo>
                    <a:pt x="2370" y="1133"/>
                  </a:lnTo>
                  <a:lnTo>
                    <a:pt x="2431" y="1169"/>
                  </a:lnTo>
                  <a:lnTo>
                    <a:pt x="2479" y="1211"/>
                  </a:lnTo>
                  <a:lnTo>
                    <a:pt x="2538" y="1304"/>
                  </a:lnTo>
                  <a:lnTo>
                    <a:pt x="2549" y="1406"/>
                  </a:lnTo>
                  <a:lnTo>
                    <a:pt x="2534" y="1460"/>
                  </a:lnTo>
                  <a:lnTo>
                    <a:pt x="2522" y="1486"/>
                  </a:lnTo>
                  <a:lnTo>
                    <a:pt x="2507" y="1511"/>
                  </a:lnTo>
                  <a:lnTo>
                    <a:pt x="2488" y="1538"/>
                  </a:lnTo>
                  <a:lnTo>
                    <a:pt x="2467" y="1564"/>
                  </a:lnTo>
                  <a:lnTo>
                    <a:pt x="2443" y="1589"/>
                  </a:lnTo>
                  <a:lnTo>
                    <a:pt x="2414" y="1614"/>
                  </a:lnTo>
                  <a:lnTo>
                    <a:pt x="2384" y="1638"/>
                  </a:lnTo>
                  <a:lnTo>
                    <a:pt x="2349" y="1663"/>
                  </a:lnTo>
                  <a:lnTo>
                    <a:pt x="2311" y="1686"/>
                  </a:lnTo>
                  <a:lnTo>
                    <a:pt x="2271" y="1709"/>
                  </a:lnTo>
                  <a:lnTo>
                    <a:pt x="2228" y="1730"/>
                  </a:lnTo>
                  <a:lnTo>
                    <a:pt x="2180" y="1749"/>
                  </a:lnTo>
                  <a:lnTo>
                    <a:pt x="2129" y="1768"/>
                  </a:lnTo>
                  <a:lnTo>
                    <a:pt x="2074" y="1785"/>
                  </a:lnTo>
                  <a:lnTo>
                    <a:pt x="2188" y="1825"/>
                  </a:lnTo>
                  <a:lnTo>
                    <a:pt x="2232" y="1851"/>
                  </a:lnTo>
                  <a:lnTo>
                    <a:pt x="2268" y="1882"/>
                  </a:lnTo>
                  <a:lnTo>
                    <a:pt x="2317" y="1956"/>
                  </a:lnTo>
                  <a:lnTo>
                    <a:pt x="2338" y="2041"/>
                  </a:lnTo>
                  <a:lnTo>
                    <a:pt x="2336" y="2134"/>
                  </a:lnTo>
                  <a:lnTo>
                    <a:pt x="2325" y="2184"/>
                  </a:lnTo>
                  <a:lnTo>
                    <a:pt x="2309" y="2233"/>
                  </a:lnTo>
                  <a:lnTo>
                    <a:pt x="2290" y="2285"/>
                  </a:lnTo>
                  <a:lnTo>
                    <a:pt x="2266" y="2336"/>
                  </a:lnTo>
                  <a:lnTo>
                    <a:pt x="2235" y="2385"/>
                  </a:lnTo>
                  <a:lnTo>
                    <a:pt x="2220" y="2410"/>
                  </a:lnTo>
                  <a:lnTo>
                    <a:pt x="2203" y="2435"/>
                  </a:lnTo>
                  <a:lnTo>
                    <a:pt x="2186" y="2460"/>
                  </a:lnTo>
                  <a:lnTo>
                    <a:pt x="2167" y="2484"/>
                  </a:lnTo>
                  <a:lnTo>
                    <a:pt x="2127" y="2532"/>
                  </a:lnTo>
                  <a:lnTo>
                    <a:pt x="2106" y="2555"/>
                  </a:lnTo>
                  <a:lnTo>
                    <a:pt x="2085" y="2577"/>
                  </a:lnTo>
                  <a:lnTo>
                    <a:pt x="2062" y="2598"/>
                  </a:lnTo>
                  <a:lnTo>
                    <a:pt x="2040" y="2619"/>
                  </a:lnTo>
                  <a:lnTo>
                    <a:pt x="2017" y="2640"/>
                  </a:lnTo>
                  <a:lnTo>
                    <a:pt x="1992" y="2659"/>
                  </a:lnTo>
                  <a:lnTo>
                    <a:pt x="1967" y="2678"/>
                  </a:lnTo>
                  <a:lnTo>
                    <a:pt x="1943" y="2697"/>
                  </a:lnTo>
                  <a:lnTo>
                    <a:pt x="1918" y="2714"/>
                  </a:lnTo>
                  <a:lnTo>
                    <a:pt x="1893" y="2731"/>
                  </a:lnTo>
                  <a:lnTo>
                    <a:pt x="1842" y="2760"/>
                  </a:lnTo>
                  <a:lnTo>
                    <a:pt x="1789" y="2785"/>
                  </a:lnTo>
                  <a:lnTo>
                    <a:pt x="1735" y="2805"/>
                  </a:lnTo>
                  <a:lnTo>
                    <a:pt x="1682" y="2821"/>
                  </a:lnTo>
                  <a:lnTo>
                    <a:pt x="1629" y="2830"/>
                  </a:lnTo>
                  <a:lnTo>
                    <a:pt x="1524" y="2830"/>
                  </a:lnTo>
                  <a:lnTo>
                    <a:pt x="1426" y="2802"/>
                  </a:lnTo>
                  <a:lnTo>
                    <a:pt x="1382" y="2826"/>
                  </a:lnTo>
                  <a:lnTo>
                    <a:pt x="1340" y="2855"/>
                  </a:lnTo>
                  <a:lnTo>
                    <a:pt x="1300" y="2883"/>
                  </a:lnTo>
                  <a:lnTo>
                    <a:pt x="1262" y="2916"/>
                  </a:lnTo>
                  <a:lnTo>
                    <a:pt x="1224" y="2948"/>
                  </a:lnTo>
                  <a:lnTo>
                    <a:pt x="1186" y="2980"/>
                  </a:lnTo>
                  <a:lnTo>
                    <a:pt x="1146" y="3011"/>
                  </a:lnTo>
                  <a:lnTo>
                    <a:pt x="1108" y="3043"/>
                  </a:lnTo>
                  <a:lnTo>
                    <a:pt x="1063" y="3072"/>
                  </a:lnTo>
                  <a:lnTo>
                    <a:pt x="1024" y="3089"/>
                  </a:lnTo>
                  <a:lnTo>
                    <a:pt x="958" y="3093"/>
                  </a:lnTo>
                  <a:lnTo>
                    <a:pt x="905" y="3070"/>
                  </a:lnTo>
                  <a:lnTo>
                    <a:pt x="855" y="3037"/>
                  </a:lnTo>
                  <a:lnTo>
                    <a:pt x="831" y="3022"/>
                  </a:lnTo>
                  <a:lnTo>
                    <a:pt x="806" y="3011"/>
                  </a:lnTo>
                  <a:lnTo>
                    <a:pt x="747" y="3007"/>
                  </a:lnTo>
                  <a:lnTo>
                    <a:pt x="675" y="3041"/>
                  </a:lnTo>
                  <a:lnTo>
                    <a:pt x="631" y="3079"/>
                  </a:lnTo>
                  <a:lnTo>
                    <a:pt x="606" y="3104"/>
                  </a:lnTo>
                  <a:lnTo>
                    <a:pt x="582" y="3132"/>
                  </a:lnTo>
                  <a:lnTo>
                    <a:pt x="458" y="3146"/>
                  </a:lnTo>
                  <a:lnTo>
                    <a:pt x="456" y="3123"/>
                  </a:lnTo>
                  <a:lnTo>
                    <a:pt x="458" y="3098"/>
                  </a:lnTo>
                  <a:lnTo>
                    <a:pt x="473" y="3049"/>
                  </a:lnTo>
                  <a:lnTo>
                    <a:pt x="490" y="3022"/>
                  </a:lnTo>
                  <a:lnTo>
                    <a:pt x="517" y="2992"/>
                  </a:lnTo>
                  <a:lnTo>
                    <a:pt x="532" y="2977"/>
                  </a:lnTo>
                  <a:lnTo>
                    <a:pt x="551" y="2959"/>
                  </a:lnTo>
                  <a:lnTo>
                    <a:pt x="574" y="2940"/>
                  </a:lnTo>
                  <a:lnTo>
                    <a:pt x="599" y="2921"/>
                  </a:lnTo>
                  <a:lnTo>
                    <a:pt x="642" y="2902"/>
                  </a:lnTo>
                  <a:lnTo>
                    <a:pt x="692" y="2899"/>
                  </a:lnTo>
                  <a:lnTo>
                    <a:pt x="802" y="2921"/>
                  </a:lnTo>
                  <a:lnTo>
                    <a:pt x="859" y="2937"/>
                  </a:lnTo>
                  <a:lnTo>
                    <a:pt x="914" y="2944"/>
                  </a:lnTo>
                  <a:lnTo>
                    <a:pt x="1009" y="2920"/>
                  </a:lnTo>
                  <a:lnTo>
                    <a:pt x="1047" y="2889"/>
                  </a:lnTo>
                  <a:lnTo>
                    <a:pt x="1068" y="2872"/>
                  </a:lnTo>
                  <a:lnTo>
                    <a:pt x="1091" y="2853"/>
                  </a:lnTo>
                  <a:lnTo>
                    <a:pt x="1116" y="2832"/>
                  </a:lnTo>
                  <a:lnTo>
                    <a:pt x="1140" y="2811"/>
                  </a:lnTo>
                  <a:lnTo>
                    <a:pt x="1165" y="2790"/>
                  </a:lnTo>
                  <a:lnTo>
                    <a:pt x="1192" y="2769"/>
                  </a:lnTo>
                  <a:lnTo>
                    <a:pt x="1216" y="2748"/>
                  </a:lnTo>
                  <a:lnTo>
                    <a:pt x="1243" y="2729"/>
                  </a:lnTo>
                  <a:lnTo>
                    <a:pt x="1268" y="2710"/>
                  </a:lnTo>
                  <a:lnTo>
                    <a:pt x="1293" y="2693"/>
                  </a:lnTo>
                  <a:lnTo>
                    <a:pt x="1338" y="2667"/>
                  </a:lnTo>
                  <a:lnTo>
                    <a:pt x="1378" y="2650"/>
                  </a:lnTo>
                  <a:lnTo>
                    <a:pt x="1492" y="2623"/>
                  </a:lnTo>
                  <a:lnTo>
                    <a:pt x="1599" y="2610"/>
                  </a:lnTo>
                  <a:lnTo>
                    <a:pt x="1796" y="2583"/>
                  </a:lnTo>
                  <a:lnTo>
                    <a:pt x="1886" y="2555"/>
                  </a:lnTo>
                  <a:lnTo>
                    <a:pt x="1969" y="2503"/>
                  </a:lnTo>
                  <a:lnTo>
                    <a:pt x="2009" y="2467"/>
                  </a:lnTo>
                  <a:lnTo>
                    <a:pt x="2047" y="2422"/>
                  </a:lnTo>
                  <a:lnTo>
                    <a:pt x="2083" y="2366"/>
                  </a:lnTo>
                  <a:lnTo>
                    <a:pt x="2117" y="2302"/>
                  </a:lnTo>
                  <a:lnTo>
                    <a:pt x="2138" y="2258"/>
                  </a:lnTo>
                  <a:lnTo>
                    <a:pt x="2156" y="2218"/>
                  </a:lnTo>
                  <a:lnTo>
                    <a:pt x="2180" y="2146"/>
                  </a:lnTo>
                  <a:lnTo>
                    <a:pt x="2197" y="2039"/>
                  </a:lnTo>
                  <a:lnTo>
                    <a:pt x="2190" y="2003"/>
                  </a:lnTo>
                  <a:lnTo>
                    <a:pt x="2175" y="1975"/>
                  </a:lnTo>
                  <a:lnTo>
                    <a:pt x="2152" y="1954"/>
                  </a:lnTo>
                  <a:lnTo>
                    <a:pt x="2121" y="1941"/>
                  </a:lnTo>
                  <a:lnTo>
                    <a:pt x="2040" y="1931"/>
                  </a:lnTo>
                  <a:lnTo>
                    <a:pt x="1941" y="1937"/>
                  </a:lnTo>
                  <a:lnTo>
                    <a:pt x="1829" y="1954"/>
                  </a:lnTo>
                  <a:lnTo>
                    <a:pt x="1711" y="1969"/>
                  </a:lnTo>
                  <a:lnTo>
                    <a:pt x="1654" y="1963"/>
                  </a:lnTo>
                  <a:lnTo>
                    <a:pt x="1619" y="1931"/>
                  </a:lnTo>
                  <a:lnTo>
                    <a:pt x="1618" y="1887"/>
                  </a:lnTo>
                  <a:lnTo>
                    <a:pt x="1629" y="1863"/>
                  </a:lnTo>
                  <a:lnTo>
                    <a:pt x="1650" y="1838"/>
                  </a:lnTo>
                  <a:lnTo>
                    <a:pt x="1678" y="1815"/>
                  </a:lnTo>
                  <a:lnTo>
                    <a:pt x="1716" y="1792"/>
                  </a:lnTo>
                  <a:lnTo>
                    <a:pt x="1762" y="1766"/>
                  </a:lnTo>
                  <a:lnTo>
                    <a:pt x="1815" y="1741"/>
                  </a:lnTo>
                  <a:lnTo>
                    <a:pt x="1872" y="1716"/>
                  </a:lnTo>
                  <a:lnTo>
                    <a:pt x="1933" y="1690"/>
                  </a:lnTo>
                  <a:lnTo>
                    <a:pt x="1994" y="1663"/>
                  </a:lnTo>
                  <a:lnTo>
                    <a:pt x="2057" y="1638"/>
                  </a:lnTo>
                  <a:lnTo>
                    <a:pt x="2117" y="1614"/>
                  </a:lnTo>
                  <a:lnTo>
                    <a:pt x="2176" y="1589"/>
                  </a:lnTo>
                  <a:lnTo>
                    <a:pt x="2232" y="1566"/>
                  </a:lnTo>
                  <a:lnTo>
                    <a:pt x="2279" y="1545"/>
                  </a:lnTo>
                  <a:lnTo>
                    <a:pt x="2351" y="1509"/>
                  </a:lnTo>
                  <a:lnTo>
                    <a:pt x="2384" y="1483"/>
                  </a:lnTo>
                  <a:lnTo>
                    <a:pt x="2393" y="1418"/>
                  </a:lnTo>
                  <a:lnTo>
                    <a:pt x="2384" y="1363"/>
                  </a:lnTo>
                  <a:lnTo>
                    <a:pt x="2357" y="1319"/>
                  </a:lnTo>
                  <a:lnTo>
                    <a:pt x="2340" y="1300"/>
                  </a:lnTo>
                  <a:lnTo>
                    <a:pt x="2321" y="1285"/>
                  </a:lnTo>
                  <a:lnTo>
                    <a:pt x="2273" y="1256"/>
                  </a:lnTo>
                  <a:lnTo>
                    <a:pt x="2218" y="1234"/>
                  </a:lnTo>
                  <a:lnTo>
                    <a:pt x="2161" y="1216"/>
                  </a:lnTo>
                  <a:lnTo>
                    <a:pt x="2102" y="1203"/>
                  </a:lnTo>
                  <a:lnTo>
                    <a:pt x="1916" y="1152"/>
                  </a:lnTo>
                  <a:lnTo>
                    <a:pt x="1893" y="1114"/>
                  </a:lnTo>
                  <a:lnTo>
                    <a:pt x="1910" y="1085"/>
                  </a:lnTo>
                  <a:lnTo>
                    <a:pt x="1927" y="1070"/>
                  </a:lnTo>
                  <a:lnTo>
                    <a:pt x="1950" y="1051"/>
                  </a:lnTo>
                  <a:lnTo>
                    <a:pt x="1979" y="1030"/>
                  </a:lnTo>
                  <a:lnTo>
                    <a:pt x="2009" y="1013"/>
                  </a:lnTo>
                  <a:lnTo>
                    <a:pt x="2070" y="981"/>
                  </a:lnTo>
                  <a:lnTo>
                    <a:pt x="2133" y="954"/>
                  </a:lnTo>
                  <a:lnTo>
                    <a:pt x="2195" y="926"/>
                  </a:lnTo>
                  <a:lnTo>
                    <a:pt x="2256" y="895"/>
                  </a:lnTo>
                  <a:lnTo>
                    <a:pt x="2313" y="859"/>
                  </a:lnTo>
                  <a:lnTo>
                    <a:pt x="2340" y="836"/>
                  </a:lnTo>
                  <a:lnTo>
                    <a:pt x="2365" y="812"/>
                  </a:lnTo>
                  <a:lnTo>
                    <a:pt x="2406" y="754"/>
                  </a:lnTo>
                  <a:lnTo>
                    <a:pt x="2347" y="667"/>
                  </a:lnTo>
                  <a:lnTo>
                    <a:pt x="2254" y="648"/>
                  </a:lnTo>
                  <a:lnTo>
                    <a:pt x="2165" y="652"/>
                  </a:lnTo>
                  <a:lnTo>
                    <a:pt x="2074" y="667"/>
                  </a:lnTo>
                  <a:lnTo>
                    <a:pt x="1981" y="682"/>
                  </a:lnTo>
                  <a:lnTo>
                    <a:pt x="1908" y="678"/>
                  </a:lnTo>
                  <a:lnTo>
                    <a:pt x="1887" y="650"/>
                  </a:lnTo>
                  <a:lnTo>
                    <a:pt x="1893" y="627"/>
                  </a:lnTo>
                  <a:lnTo>
                    <a:pt x="1906" y="599"/>
                  </a:lnTo>
                  <a:lnTo>
                    <a:pt x="1925" y="566"/>
                  </a:lnTo>
                  <a:lnTo>
                    <a:pt x="1948" y="530"/>
                  </a:lnTo>
                  <a:lnTo>
                    <a:pt x="1973" y="492"/>
                  </a:lnTo>
                  <a:lnTo>
                    <a:pt x="2000" y="452"/>
                  </a:lnTo>
                  <a:lnTo>
                    <a:pt x="2024" y="409"/>
                  </a:lnTo>
                  <a:lnTo>
                    <a:pt x="2047" y="365"/>
                  </a:lnTo>
                  <a:lnTo>
                    <a:pt x="2076" y="277"/>
                  </a:lnTo>
                  <a:lnTo>
                    <a:pt x="2072" y="192"/>
                  </a:lnTo>
                  <a:lnTo>
                    <a:pt x="1969" y="194"/>
                  </a:lnTo>
                  <a:lnTo>
                    <a:pt x="1912" y="226"/>
                  </a:lnTo>
                  <a:lnTo>
                    <a:pt x="1882" y="255"/>
                  </a:lnTo>
                  <a:lnTo>
                    <a:pt x="1851" y="291"/>
                  </a:lnTo>
                  <a:lnTo>
                    <a:pt x="1821" y="331"/>
                  </a:lnTo>
                  <a:lnTo>
                    <a:pt x="1791" y="374"/>
                  </a:lnTo>
                  <a:lnTo>
                    <a:pt x="1762" y="420"/>
                  </a:lnTo>
                  <a:lnTo>
                    <a:pt x="1734" y="467"/>
                  </a:lnTo>
                  <a:lnTo>
                    <a:pt x="1709" y="515"/>
                  </a:lnTo>
                  <a:lnTo>
                    <a:pt x="1684" y="559"/>
                  </a:lnTo>
                  <a:lnTo>
                    <a:pt x="1661" y="601"/>
                  </a:lnTo>
                  <a:lnTo>
                    <a:pt x="1644" y="639"/>
                  </a:lnTo>
                  <a:lnTo>
                    <a:pt x="1618" y="696"/>
                  </a:lnTo>
                  <a:lnTo>
                    <a:pt x="1608" y="716"/>
                  </a:lnTo>
                  <a:lnTo>
                    <a:pt x="1547" y="686"/>
                  </a:lnTo>
                  <a:lnTo>
                    <a:pt x="1523" y="663"/>
                  </a:lnTo>
                  <a:lnTo>
                    <a:pt x="1500" y="637"/>
                  </a:lnTo>
                  <a:lnTo>
                    <a:pt x="1475" y="608"/>
                  </a:lnTo>
                  <a:lnTo>
                    <a:pt x="1448" y="582"/>
                  </a:lnTo>
                  <a:lnTo>
                    <a:pt x="1416" y="557"/>
                  </a:lnTo>
                  <a:lnTo>
                    <a:pt x="1378" y="536"/>
                  </a:lnTo>
                  <a:lnTo>
                    <a:pt x="1336" y="578"/>
                  </a:lnTo>
                  <a:lnTo>
                    <a:pt x="1302" y="633"/>
                  </a:lnTo>
                  <a:lnTo>
                    <a:pt x="1256" y="785"/>
                  </a:lnTo>
                  <a:lnTo>
                    <a:pt x="1234" y="977"/>
                  </a:lnTo>
                  <a:lnTo>
                    <a:pt x="1228" y="1197"/>
                  </a:lnTo>
                  <a:lnTo>
                    <a:pt x="1165" y="1272"/>
                  </a:lnTo>
                  <a:lnTo>
                    <a:pt x="1104" y="1272"/>
                  </a:lnTo>
                  <a:lnTo>
                    <a:pt x="1055" y="1249"/>
                  </a:lnTo>
                  <a:lnTo>
                    <a:pt x="1011" y="1213"/>
                  </a:lnTo>
                  <a:lnTo>
                    <a:pt x="973" y="1169"/>
                  </a:lnTo>
                  <a:lnTo>
                    <a:pt x="935" y="1119"/>
                  </a:lnTo>
                  <a:lnTo>
                    <a:pt x="914" y="1097"/>
                  </a:lnTo>
                  <a:lnTo>
                    <a:pt x="895" y="1074"/>
                  </a:lnTo>
                  <a:lnTo>
                    <a:pt x="872" y="1055"/>
                  </a:lnTo>
                  <a:lnTo>
                    <a:pt x="850" y="1038"/>
                  </a:lnTo>
                  <a:lnTo>
                    <a:pt x="798" y="1015"/>
                  </a:lnTo>
                  <a:lnTo>
                    <a:pt x="753" y="1013"/>
                  </a:lnTo>
                  <a:lnTo>
                    <a:pt x="717" y="1030"/>
                  </a:lnTo>
                  <a:lnTo>
                    <a:pt x="677" y="1108"/>
                  </a:lnTo>
                  <a:lnTo>
                    <a:pt x="665" y="1232"/>
                  </a:lnTo>
                  <a:lnTo>
                    <a:pt x="673" y="1384"/>
                  </a:lnTo>
                  <a:lnTo>
                    <a:pt x="688" y="1549"/>
                  </a:lnTo>
                  <a:lnTo>
                    <a:pt x="701" y="1707"/>
                  </a:lnTo>
                  <a:lnTo>
                    <a:pt x="699" y="1842"/>
                  </a:lnTo>
                  <a:lnTo>
                    <a:pt x="690" y="1893"/>
                  </a:lnTo>
                  <a:lnTo>
                    <a:pt x="673" y="1935"/>
                  </a:lnTo>
                  <a:lnTo>
                    <a:pt x="661" y="1950"/>
                  </a:lnTo>
                  <a:lnTo>
                    <a:pt x="646" y="1960"/>
                  </a:lnTo>
                  <a:lnTo>
                    <a:pt x="614" y="1969"/>
                  </a:lnTo>
                  <a:lnTo>
                    <a:pt x="532" y="1952"/>
                  </a:lnTo>
                  <a:lnTo>
                    <a:pt x="487" y="1931"/>
                  </a:lnTo>
                  <a:lnTo>
                    <a:pt x="437" y="1906"/>
                  </a:lnTo>
                  <a:lnTo>
                    <a:pt x="388" y="1878"/>
                  </a:lnTo>
                  <a:lnTo>
                    <a:pt x="340" y="1853"/>
                  </a:lnTo>
                  <a:lnTo>
                    <a:pt x="293" y="1830"/>
                  </a:lnTo>
                  <a:lnTo>
                    <a:pt x="249" y="1817"/>
                  </a:lnTo>
                  <a:lnTo>
                    <a:pt x="175" y="1821"/>
                  </a:lnTo>
                  <a:lnTo>
                    <a:pt x="148" y="1846"/>
                  </a:lnTo>
                  <a:lnTo>
                    <a:pt x="129" y="1889"/>
                  </a:lnTo>
                  <a:lnTo>
                    <a:pt x="120" y="2043"/>
                  </a:lnTo>
                  <a:lnTo>
                    <a:pt x="127" y="2108"/>
                  </a:lnTo>
                  <a:lnTo>
                    <a:pt x="146" y="2163"/>
                  </a:lnTo>
                  <a:lnTo>
                    <a:pt x="171" y="2209"/>
                  </a:lnTo>
                  <a:lnTo>
                    <a:pt x="200" y="2247"/>
                  </a:lnTo>
                  <a:lnTo>
                    <a:pt x="217" y="2264"/>
                  </a:lnTo>
                  <a:lnTo>
                    <a:pt x="236" y="2279"/>
                  </a:lnTo>
                  <a:lnTo>
                    <a:pt x="272" y="2307"/>
                  </a:lnTo>
                  <a:lnTo>
                    <a:pt x="312" y="2334"/>
                  </a:lnTo>
                  <a:lnTo>
                    <a:pt x="350" y="2359"/>
                  </a:lnTo>
                  <a:lnTo>
                    <a:pt x="388" y="2384"/>
                  </a:lnTo>
                  <a:lnTo>
                    <a:pt x="422" y="2412"/>
                  </a:lnTo>
                  <a:lnTo>
                    <a:pt x="477" y="2480"/>
                  </a:lnTo>
                  <a:lnTo>
                    <a:pt x="506" y="2575"/>
                  </a:lnTo>
                  <a:lnTo>
                    <a:pt x="506" y="2606"/>
                  </a:lnTo>
                  <a:lnTo>
                    <a:pt x="506" y="2638"/>
                  </a:lnTo>
                  <a:lnTo>
                    <a:pt x="494" y="2712"/>
                  </a:lnTo>
                  <a:lnTo>
                    <a:pt x="525" y="2680"/>
                  </a:lnTo>
                  <a:lnTo>
                    <a:pt x="559" y="2648"/>
                  </a:lnTo>
                  <a:lnTo>
                    <a:pt x="591" y="2614"/>
                  </a:lnTo>
                  <a:lnTo>
                    <a:pt x="627" y="2577"/>
                  </a:lnTo>
                  <a:lnTo>
                    <a:pt x="644" y="2560"/>
                  </a:lnTo>
                  <a:lnTo>
                    <a:pt x="663" y="2541"/>
                  </a:lnTo>
                  <a:lnTo>
                    <a:pt x="680" y="2522"/>
                  </a:lnTo>
                  <a:lnTo>
                    <a:pt x="699" y="2503"/>
                  </a:lnTo>
                  <a:lnTo>
                    <a:pt x="718" y="2484"/>
                  </a:lnTo>
                  <a:lnTo>
                    <a:pt x="737" y="2463"/>
                  </a:lnTo>
                  <a:lnTo>
                    <a:pt x="756" y="2442"/>
                  </a:lnTo>
                  <a:lnTo>
                    <a:pt x="775" y="2422"/>
                  </a:lnTo>
                  <a:lnTo>
                    <a:pt x="794" y="2403"/>
                  </a:lnTo>
                  <a:lnTo>
                    <a:pt x="812" y="2384"/>
                  </a:lnTo>
                  <a:lnTo>
                    <a:pt x="842" y="2347"/>
                  </a:lnTo>
                  <a:lnTo>
                    <a:pt x="869" y="2313"/>
                  </a:lnTo>
                  <a:lnTo>
                    <a:pt x="891" y="2281"/>
                  </a:lnTo>
                  <a:lnTo>
                    <a:pt x="910" y="2250"/>
                  </a:lnTo>
                  <a:lnTo>
                    <a:pt x="928" y="2222"/>
                  </a:lnTo>
                  <a:lnTo>
                    <a:pt x="956" y="2161"/>
                  </a:lnTo>
                  <a:lnTo>
                    <a:pt x="996" y="2032"/>
                  </a:lnTo>
                  <a:lnTo>
                    <a:pt x="1013" y="1952"/>
                  </a:lnTo>
                  <a:lnTo>
                    <a:pt x="1032" y="1857"/>
                  </a:lnTo>
                  <a:lnTo>
                    <a:pt x="1055" y="1770"/>
                  </a:lnTo>
                  <a:lnTo>
                    <a:pt x="1068" y="1728"/>
                  </a:lnTo>
                  <a:lnTo>
                    <a:pt x="1083" y="1688"/>
                  </a:lnTo>
                  <a:lnTo>
                    <a:pt x="1099" y="1648"/>
                  </a:lnTo>
                  <a:lnTo>
                    <a:pt x="1116" y="1608"/>
                  </a:lnTo>
                  <a:lnTo>
                    <a:pt x="1135" y="1570"/>
                  </a:lnTo>
                  <a:lnTo>
                    <a:pt x="1154" y="1534"/>
                  </a:lnTo>
                  <a:lnTo>
                    <a:pt x="1177" y="1498"/>
                  </a:lnTo>
                  <a:lnTo>
                    <a:pt x="1197" y="1462"/>
                  </a:lnTo>
                  <a:lnTo>
                    <a:pt x="1220" y="1427"/>
                  </a:lnTo>
                  <a:lnTo>
                    <a:pt x="1245" y="1393"/>
                  </a:lnTo>
                  <a:lnTo>
                    <a:pt x="1270" y="1361"/>
                  </a:lnTo>
                  <a:lnTo>
                    <a:pt x="1294" y="1329"/>
                  </a:lnTo>
                  <a:lnTo>
                    <a:pt x="1321" y="1296"/>
                  </a:lnTo>
                  <a:lnTo>
                    <a:pt x="1348" y="1264"/>
                  </a:lnTo>
                  <a:lnTo>
                    <a:pt x="1376" y="1234"/>
                  </a:lnTo>
                  <a:lnTo>
                    <a:pt x="1405" y="1203"/>
                  </a:lnTo>
                  <a:lnTo>
                    <a:pt x="1433" y="1173"/>
                  </a:lnTo>
                  <a:lnTo>
                    <a:pt x="1462" y="1142"/>
                  </a:lnTo>
                  <a:lnTo>
                    <a:pt x="1492" y="1112"/>
                  </a:lnTo>
                  <a:lnTo>
                    <a:pt x="1523" y="1081"/>
                  </a:lnTo>
                  <a:lnTo>
                    <a:pt x="1553" y="1053"/>
                  </a:lnTo>
                  <a:lnTo>
                    <a:pt x="1583" y="1023"/>
                  </a:lnTo>
                  <a:lnTo>
                    <a:pt x="1614" y="994"/>
                  </a:lnTo>
                  <a:lnTo>
                    <a:pt x="1644" y="965"/>
                  </a:lnTo>
                  <a:lnTo>
                    <a:pt x="1675" y="935"/>
                  </a:lnTo>
                  <a:lnTo>
                    <a:pt x="1707" y="907"/>
                  </a:lnTo>
                  <a:lnTo>
                    <a:pt x="1737" y="876"/>
                  </a:lnTo>
                  <a:lnTo>
                    <a:pt x="1768" y="846"/>
                  </a:lnTo>
                  <a:lnTo>
                    <a:pt x="1800" y="817"/>
                  </a:lnTo>
                  <a:lnTo>
                    <a:pt x="1830" y="787"/>
                  </a:lnTo>
                  <a:lnTo>
                    <a:pt x="1867" y="823"/>
                  </a:lnTo>
                  <a:lnTo>
                    <a:pt x="1846" y="842"/>
                  </a:lnTo>
                  <a:lnTo>
                    <a:pt x="1827" y="861"/>
                  </a:lnTo>
                  <a:lnTo>
                    <a:pt x="1810" y="880"/>
                  </a:lnTo>
                  <a:lnTo>
                    <a:pt x="1791" y="899"/>
                  </a:lnTo>
                  <a:lnTo>
                    <a:pt x="1773" y="918"/>
                  </a:lnTo>
                  <a:lnTo>
                    <a:pt x="1754" y="937"/>
                  </a:lnTo>
                  <a:lnTo>
                    <a:pt x="1737" y="956"/>
                  </a:lnTo>
                  <a:lnTo>
                    <a:pt x="1722" y="975"/>
                  </a:lnTo>
                  <a:lnTo>
                    <a:pt x="1690" y="1011"/>
                  </a:lnTo>
                  <a:lnTo>
                    <a:pt x="1659" y="1047"/>
                  </a:lnTo>
                  <a:lnTo>
                    <a:pt x="1629" y="1083"/>
                  </a:lnTo>
                  <a:lnTo>
                    <a:pt x="1602" y="1118"/>
                  </a:lnTo>
                  <a:lnTo>
                    <a:pt x="1576" y="1152"/>
                  </a:lnTo>
                  <a:lnTo>
                    <a:pt x="1551" y="1186"/>
                  </a:lnTo>
                  <a:lnTo>
                    <a:pt x="1526" y="1218"/>
                  </a:lnTo>
                  <a:lnTo>
                    <a:pt x="1504" y="1251"/>
                  </a:lnTo>
                  <a:lnTo>
                    <a:pt x="1483" y="1283"/>
                  </a:lnTo>
                  <a:lnTo>
                    <a:pt x="1462" y="1315"/>
                  </a:lnTo>
                  <a:lnTo>
                    <a:pt x="1443" y="1346"/>
                  </a:lnTo>
                  <a:lnTo>
                    <a:pt x="1424" y="1376"/>
                  </a:lnTo>
                  <a:lnTo>
                    <a:pt x="1391" y="1437"/>
                  </a:lnTo>
                  <a:lnTo>
                    <a:pt x="1361" y="1496"/>
                  </a:lnTo>
                  <a:lnTo>
                    <a:pt x="1334" y="1553"/>
                  </a:lnTo>
                  <a:lnTo>
                    <a:pt x="1310" y="1608"/>
                  </a:lnTo>
                  <a:lnTo>
                    <a:pt x="1289" y="1661"/>
                  </a:lnTo>
                  <a:lnTo>
                    <a:pt x="1270" y="1713"/>
                  </a:lnTo>
                  <a:lnTo>
                    <a:pt x="1253" y="1764"/>
                  </a:lnTo>
                  <a:lnTo>
                    <a:pt x="1237" y="1813"/>
                  </a:lnTo>
                  <a:lnTo>
                    <a:pt x="1209" y="1910"/>
                  </a:lnTo>
                  <a:lnTo>
                    <a:pt x="1184" y="2003"/>
                  </a:lnTo>
                  <a:lnTo>
                    <a:pt x="1169" y="2049"/>
                  </a:lnTo>
                  <a:lnTo>
                    <a:pt x="1156" y="2095"/>
                  </a:lnTo>
                  <a:lnTo>
                    <a:pt x="1140" y="2140"/>
                  </a:lnTo>
                  <a:lnTo>
                    <a:pt x="1123" y="2184"/>
                  </a:lnTo>
                  <a:lnTo>
                    <a:pt x="1106" y="2228"/>
                  </a:lnTo>
                  <a:lnTo>
                    <a:pt x="1085" y="2271"/>
                  </a:lnTo>
                  <a:lnTo>
                    <a:pt x="1063" y="2315"/>
                  </a:lnTo>
                  <a:lnTo>
                    <a:pt x="1038" y="2361"/>
                  </a:lnTo>
                  <a:lnTo>
                    <a:pt x="1009" y="2404"/>
                  </a:lnTo>
                  <a:lnTo>
                    <a:pt x="977" y="2448"/>
                  </a:lnTo>
                  <a:lnTo>
                    <a:pt x="941" y="2492"/>
                  </a:lnTo>
                  <a:lnTo>
                    <a:pt x="920" y="2515"/>
                  </a:lnTo>
                  <a:lnTo>
                    <a:pt x="901" y="2537"/>
                  </a:lnTo>
                  <a:lnTo>
                    <a:pt x="871" y="2568"/>
                  </a:lnTo>
                  <a:lnTo>
                    <a:pt x="840" y="2598"/>
                  </a:lnTo>
                  <a:lnTo>
                    <a:pt x="810" y="2629"/>
                  </a:lnTo>
                  <a:lnTo>
                    <a:pt x="779" y="2657"/>
                  </a:lnTo>
                  <a:lnTo>
                    <a:pt x="749" y="2684"/>
                  </a:lnTo>
                  <a:lnTo>
                    <a:pt x="717" y="2710"/>
                  </a:lnTo>
                  <a:lnTo>
                    <a:pt x="686" y="2737"/>
                  </a:lnTo>
                  <a:lnTo>
                    <a:pt x="656" y="2764"/>
                  </a:lnTo>
                  <a:lnTo>
                    <a:pt x="625" y="2790"/>
                  </a:lnTo>
                  <a:lnTo>
                    <a:pt x="597" y="2817"/>
                  </a:lnTo>
                  <a:lnTo>
                    <a:pt x="566" y="2844"/>
                  </a:lnTo>
                  <a:lnTo>
                    <a:pt x="538" y="2870"/>
                  </a:lnTo>
                  <a:lnTo>
                    <a:pt x="509" y="2895"/>
                  </a:lnTo>
                  <a:lnTo>
                    <a:pt x="481" y="2921"/>
                  </a:lnTo>
                  <a:lnTo>
                    <a:pt x="454" y="2950"/>
                  </a:lnTo>
                  <a:lnTo>
                    <a:pt x="428" y="2977"/>
                  </a:lnTo>
                  <a:lnTo>
                    <a:pt x="403" y="3005"/>
                  </a:lnTo>
                  <a:lnTo>
                    <a:pt x="378" y="3034"/>
                  </a:lnTo>
                  <a:lnTo>
                    <a:pt x="355" y="3064"/>
                  </a:lnTo>
                  <a:lnTo>
                    <a:pt x="333" y="3094"/>
                  </a:lnTo>
                  <a:lnTo>
                    <a:pt x="312" y="3125"/>
                  </a:lnTo>
                  <a:lnTo>
                    <a:pt x="293" y="3159"/>
                  </a:lnTo>
                  <a:lnTo>
                    <a:pt x="258" y="3227"/>
                  </a:lnTo>
                  <a:lnTo>
                    <a:pt x="232" y="3304"/>
                  </a:lnTo>
                  <a:lnTo>
                    <a:pt x="211" y="3385"/>
                  </a:lnTo>
                  <a:lnTo>
                    <a:pt x="194" y="3572"/>
                  </a:lnTo>
                  <a:lnTo>
                    <a:pt x="142" y="3572"/>
                  </a:lnTo>
                  <a:lnTo>
                    <a:pt x="156" y="3347"/>
                  </a:lnTo>
                  <a:lnTo>
                    <a:pt x="171" y="3252"/>
                  </a:lnTo>
                  <a:lnTo>
                    <a:pt x="194" y="3165"/>
                  </a:lnTo>
                  <a:lnTo>
                    <a:pt x="207" y="3125"/>
                  </a:lnTo>
                  <a:lnTo>
                    <a:pt x="222" y="3087"/>
                  </a:lnTo>
                  <a:lnTo>
                    <a:pt x="238" y="3051"/>
                  </a:lnTo>
                  <a:lnTo>
                    <a:pt x="257" y="3016"/>
                  </a:lnTo>
                  <a:lnTo>
                    <a:pt x="276" y="2982"/>
                  </a:lnTo>
                  <a:lnTo>
                    <a:pt x="296" y="2948"/>
                  </a:lnTo>
                  <a:lnTo>
                    <a:pt x="317" y="2918"/>
                  </a:lnTo>
                  <a:lnTo>
                    <a:pt x="340" y="2885"/>
                  </a:lnTo>
                  <a:lnTo>
                    <a:pt x="340" y="28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650200">
              <a:off x="4308480" y="2274840"/>
              <a:ext cx="372240" cy="524880"/>
            </a:xfrm>
            <a:custGeom>
              <a:avLst/>
              <a:gdLst/>
              <a:ahLst/>
              <a:rect l="l" t="t" r="r" b="b"/>
              <a:pathLst>
                <a:path w="2231" h="3712">
                  <a:moveTo>
                    <a:pt x="984" y="5"/>
                  </a:moveTo>
                  <a:lnTo>
                    <a:pt x="978" y="199"/>
                  </a:lnTo>
                  <a:lnTo>
                    <a:pt x="986" y="298"/>
                  </a:lnTo>
                  <a:lnTo>
                    <a:pt x="999" y="397"/>
                  </a:lnTo>
                  <a:lnTo>
                    <a:pt x="1018" y="496"/>
                  </a:lnTo>
                  <a:lnTo>
                    <a:pt x="1043" y="597"/>
                  </a:lnTo>
                  <a:lnTo>
                    <a:pt x="1056" y="646"/>
                  </a:lnTo>
                  <a:lnTo>
                    <a:pt x="1072" y="695"/>
                  </a:lnTo>
                  <a:lnTo>
                    <a:pt x="1089" y="745"/>
                  </a:lnTo>
                  <a:lnTo>
                    <a:pt x="1106" y="792"/>
                  </a:lnTo>
                  <a:lnTo>
                    <a:pt x="1125" y="842"/>
                  </a:lnTo>
                  <a:lnTo>
                    <a:pt x="1144" y="889"/>
                  </a:lnTo>
                  <a:lnTo>
                    <a:pt x="1165" y="937"/>
                  </a:lnTo>
                  <a:lnTo>
                    <a:pt x="1186" y="984"/>
                  </a:lnTo>
                  <a:lnTo>
                    <a:pt x="1208" y="1032"/>
                  </a:lnTo>
                  <a:lnTo>
                    <a:pt x="1231" y="1077"/>
                  </a:lnTo>
                  <a:lnTo>
                    <a:pt x="1256" y="1123"/>
                  </a:lnTo>
                  <a:lnTo>
                    <a:pt x="1281" y="1167"/>
                  </a:lnTo>
                  <a:lnTo>
                    <a:pt x="1307" y="1212"/>
                  </a:lnTo>
                  <a:lnTo>
                    <a:pt x="1334" y="1254"/>
                  </a:lnTo>
                  <a:lnTo>
                    <a:pt x="1361" y="1298"/>
                  </a:lnTo>
                  <a:lnTo>
                    <a:pt x="1389" y="1340"/>
                  </a:lnTo>
                  <a:lnTo>
                    <a:pt x="1418" y="1380"/>
                  </a:lnTo>
                  <a:lnTo>
                    <a:pt x="1446" y="1420"/>
                  </a:lnTo>
                  <a:lnTo>
                    <a:pt x="1476" y="1458"/>
                  </a:lnTo>
                  <a:lnTo>
                    <a:pt x="1507" y="1496"/>
                  </a:lnTo>
                  <a:lnTo>
                    <a:pt x="1526" y="1465"/>
                  </a:lnTo>
                  <a:lnTo>
                    <a:pt x="1547" y="1439"/>
                  </a:lnTo>
                  <a:lnTo>
                    <a:pt x="1570" y="1410"/>
                  </a:lnTo>
                  <a:lnTo>
                    <a:pt x="1594" y="1385"/>
                  </a:lnTo>
                  <a:lnTo>
                    <a:pt x="1617" y="1359"/>
                  </a:lnTo>
                  <a:lnTo>
                    <a:pt x="1644" y="1336"/>
                  </a:lnTo>
                  <a:lnTo>
                    <a:pt x="1670" y="1311"/>
                  </a:lnTo>
                  <a:lnTo>
                    <a:pt x="1697" y="1288"/>
                  </a:lnTo>
                  <a:lnTo>
                    <a:pt x="1724" y="1268"/>
                  </a:lnTo>
                  <a:lnTo>
                    <a:pt x="1752" y="1247"/>
                  </a:lnTo>
                  <a:lnTo>
                    <a:pt x="1781" y="1226"/>
                  </a:lnTo>
                  <a:lnTo>
                    <a:pt x="1811" y="1207"/>
                  </a:lnTo>
                  <a:lnTo>
                    <a:pt x="1841" y="1188"/>
                  </a:lnTo>
                  <a:lnTo>
                    <a:pt x="1870" y="1169"/>
                  </a:lnTo>
                  <a:lnTo>
                    <a:pt x="1900" y="1152"/>
                  </a:lnTo>
                  <a:lnTo>
                    <a:pt x="1933" y="1134"/>
                  </a:lnTo>
                  <a:lnTo>
                    <a:pt x="2033" y="1186"/>
                  </a:lnTo>
                  <a:lnTo>
                    <a:pt x="1978" y="1207"/>
                  </a:lnTo>
                  <a:lnTo>
                    <a:pt x="1925" y="1233"/>
                  </a:lnTo>
                  <a:lnTo>
                    <a:pt x="1876" y="1264"/>
                  </a:lnTo>
                  <a:lnTo>
                    <a:pt x="1828" y="1300"/>
                  </a:lnTo>
                  <a:lnTo>
                    <a:pt x="1805" y="1319"/>
                  </a:lnTo>
                  <a:lnTo>
                    <a:pt x="1783" y="1338"/>
                  </a:lnTo>
                  <a:lnTo>
                    <a:pt x="1762" y="1359"/>
                  </a:lnTo>
                  <a:lnTo>
                    <a:pt x="1741" y="1382"/>
                  </a:lnTo>
                  <a:lnTo>
                    <a:pt x="1703" y="1427"/>
                  </a:lnTo>
                  <a:lnTo>
                    <a:pt x="1667" y="1475"/>
                  </a:lnTo>
                  <a:lnTo>
                    <a:pt x="1636" y="1526"/>
                  </a:lnTo>
                  <a:lnTo>
                    <a:pt x="1608" y="1581"/>
                  </a:lnTo>
                  <a:lnTo>
                    <a:pt x="1583" y="1636"/>
                  </a:lnTo>
                  <a:lnTo>
                    <a:pt x="1564" y="1691"/>
                  </a:lnTo>
                  <a:lnTo>
                    <a:pt x="1535" y="1807"/>
                  </a:lnTo>
                  <a:lnTo>
                    <a:pt x="1526" y="1925"/>
                  </a:lnTo>
                  <a:lnTo>
                    <a:pt x="1535" y="2026"/>
                  </a:lnTo>
                  <a:lnTo>
                    <a:pt x="1545" y="2073"/>
                  </a:lnTo>
                  <a:lnTo>
                    <a:pt x="1560" y="2121"/>
                  </a:lnTo>
                  <a:lnTo>
                    <a:pt x="1577" y="2169"/>
                  </a:lnTo>
                  <a:lnTo>
                    <a:pt x="1598" y="2214"/>
                  </a:lnTo>
                  <a:lnTo>
                    <a:pt x="1621" y="2260"/>
                  </a:lnTo>
                  <a:lnTo>
                    <a:pt x="1648" y="2305"/>
                  </a:lnTo>
                  <a:lnTo>
                    <a:pt x="1674" y="2351"/>
                  </a:lnTo>
                  <a:lnTo>
                    <a:pt x="1705" y="2397"/>
                  </a:lnTo>
                  <a:lnTo>
                    <a:pt x="1737" y="2440"/>
                  </a:lnTo>
                  <a:lnTo>
                    <a:pt x="1769" y="2486"/>
                  </a:lnTo>
                  <a:lnTo>
                    <a:pt x="1802" y="2532"/>
                  </a:lnTo>
                  <a:lnTo>
                    <a:pt x="1838" y="2579"/>
                  </a:lnTo>
                  <a:lnTo>
                    <a:pt x="1872" y="2625"/>
                  </a:lnTo>
                  <a:lnTo>
                    <a:pt x="1906" y="2672"/>
                  </a:lnTo>
                  <a:lnTo>
                    <a:pt x="1940" y="2722"/>
                  </a:lnTo>
                  <a:lnTo>
                    <a:pt x="1975" y="2769"/>
                  </a:lnTo>
                  <a:lnTo>
                    <a:pt x="2007" y="2820"/>
                  </a:lnTo>
                  <a:lnTo>
                    <a:pt x="2039" y="2872"/>
                  </a:lnTo>
                  <a:lnTo>
                    <a:pt x="2054" y="2898"/>
                  </a:lnTo>
                  <a:lnTo>
                    <a:pt x="2070" y="2925"/>
                  </a:lnTo>
                  <a:lnTo>
                    <a:pt x="2100" y="2978"/>
                  </a:lnTo>
                  <a:lnTo>
                    <a:pt x="2127" y="3035"/>
                  </a:lnTo>
                  <a:lnTo>
                    <a:pt x="2151" y="3092"/>
                  </a:lnTo>
                  <a:lnTo>
                    <a:pt x="2172" y="3153"/>
                  </a:lnTo>
                  <a:lnTo>
                    <a:pt x="2191" y="3214"/>
                  </a:lnTo>
                  <a:lnTo>
                    <a:pt x="2220" y="3345"/>
                  </a:lnTo>
                  <a:lnTo>
                    <a:pt x="2231" y="3484"/>
                  </a:lnTo>
                  <a:lnTo>
                    <a:pt x="2225" y="3634"/>
                  </a:lnTo>
                  <a:lnTo>
                    <a:pt x="2220" y="3672"/>
                  </a:lnTo>
                  <a:lnTo>
                    <a:pt x="2208" y="3697"/>
                  </a:lnTo>
                  <a:lnTo>
                    <a:pt x="2193" y="3710"/>
                  </a:lnTo>
                  <a:lnTo>
                    <a:pt x="2176" y="3712"/>
                  </a:lnTo>
                  <a:lnTo>
                    <a:pt x="2132" y="3687"/>
                  </a:lnTo>
                  <a:lnTo>
                    <a:pt x="2109" y="3664"/>
                  </a:lnTo>
                  <a:lnTo>
                    <a:pt x="2087" y="3636"/>
                  </a:lnTo>
                  <a:lnTo>
                    <a:pt x="2062" y="3604"/>
                  </a:lnTo>
                  <a:lnTo>
                    <a:pt x="2039" y="3569"/>
                  </a:lnTo>
                  <a:lnTo>
                    <a:pt x="2018" y="3533"/>
                  </a:lnTo>
                  <a:lnTo>
                    <a:pt x="1999" y="3499"/>
                  </a:lnTo>
                  <a:lnTo>
                    <a:pt x="1969" y="3434"/>
                  </a:lnTo>
                  <a:lnTo>
                    <a:pt x="1954" y="3389"/>
                  </a:lnTo>
                  <a:lnTo>
                    <a:pt x="1936" y="3315"/>
                  </a:lnTo>
                  <a:lnTo>
                    <a:pt x="1916" y="3244"/>
                  </a:lnTo>
                  <a:lnTo>
                    <a:pt x="1893" y="3172"/>
                  </a:lnTo>
                  <a:lnTo>
                    <a:pt x="1864" y="3104"/>
                  </a:lnTo>
                  <a:lnTo>
                    <a:pt x="1849" y="3068"/>
                  </a:lnTo>
                  <a:lnTo>
                    <a:pt x="1834" y="3033"/>
                  </a:lnTo>
                  <a:lnTo>
                    <a:pt x="1817" y="2999"/>
                  </a:lnTo>
                  <a:lnTo>
                    <a:pt x="1800" y="2965"/>
                  </a:lnTo>
                  <a:lnTo>
                    <a:pt x="1783" y="2931"/>
                  </a:lnTo>
                  <a:lnTo>
                    <a:pt x="1765" y="2897"/>
                  </a:lnTo>
                  <a:lnTo>
                    <a:pt x="1748" y="2862"/>
                  </a:lnTo>
                  <a:lnTo>
                    <a:pt x="1729" y="2828"/>
                  </a:lnTo>
                  <a:lnTo>
                    <a:pt x="1712" y="2794"/>
                  </a:lnTo>
                  <a:lnTo>
                    <a:pt x="1693" y="2762"/>
                  </a:lnTo>
                  <a:lnTo>
                    <a:pt x="1674" y="2727"/>
                  </a:lnTo>
                  <a:lnTo>
                    <a:pt x="1655" y="2693"/>
                  </a:lnTo>
                  <a:lnTo>
                    <a:pt x="1638" y="2659"/>
                  </a:lnTo>
                  <a:lnTo>
                    <a:pt x="1619" y="2625"/>
                  </a:lnTo>
                  <a:lnTo>
                    <a:pt x="1602" y="2590"/>
                  </a:lnTo>
                  <a:lnTo>
                    <a:pt x="1583" y="2556"/>
                  </a:lnTo>
                  <a:lnTo>
                    <a:pt x="1566" y="2522"/>
                  </a:lnTo>
                  <a:lnTo>
                    <a:pt x="1549" y="2488"/>
                  </a:lnTo>
                  <a:lnTo>
                    <a:pt x="1534" y="2454"/>
                  </a:lnTo>
                  <a:lnTo>
                    <a:pt x="1518" y="2419"/>
                  </a:lnTo>
                  <a:lnTo>
                    <a:pt x="1488" y="2351"/>
                  </a:lnTo>
                  <a:lnTo>
                    <a:pt x="1461" y="2281"/>
                  </a:lnTo>
                  <a:lnTo>
                    <a:pt x="1385" y="2284"/>
                  </a:lnTo>
                  <a:lnTo>
                    <a:pt x="1292" y="2275"/>
                  </a:lnTo>
                  <a:lnTo>
                    <a:pt x="1195" y="2262"/>
                  </a:lnTo>
                  <a:lnTo>
                    <a:pt x="1108" y="2260"/>
                  </a:lnTo>
                  <a:lnTo>
                    <a:pt x="541" y="2328"/>
                  </a:lnTo>
                  <a:lnTo>
                    <a:pt x="420" y="2364"/>
                  </a:lnTo>
                  <a:lnTo>
                    <a:pt x="359" y="2387"/>
                  </a:lnTo>
                  <a:lnTo>
                    <a:pt x="298" y="2414"/>
                  </a:lnTo>
                  <a:lnTo>
                    <a:pt x="233" y="2446"/>
                  </a:lnTo>
                  <a:lnTo>
                    <a:pt x="169" y="2484"/>
                  </a:lnTo>
                  <a:lnTo>
                    <a:pt x="134" y="2505"/>
                  </a:lnTo>
                  <a:lnTo>
                    <a:pt x="100" y="2526"/>
                  </a:lnTo>
                  <a:lnTo>
                    <a:pt x="64" y="2551"/>
                  </a:lnTo>
                  <a:lnTo>
                    <a:pt x="28" y="2575"/>
                  </a:lnTo>
                  <a:lnTo>
                    <a:pt x="0" y="2533"/>
                  </a:lnTo>
                  <a:lnTo>
                    <a:pt x="38" y="2507"/>
                  </a:lnTo>
                  <a:lnTo>
                    <a:pt x="76" y="2480"/>
                  </a:lnTo>
                  <a:lnTo>
                    <a:pt x="115" y="2456"/>
                  </a:lnTo>
                  <a:lnTo>
                    <a:pt x="155" y="2431"/>
                  </a:lnTo>
                  <a:lnTo>
                    <a:pt x="195" y="2406"/>
                  </a:lnTo>
                  <a:lnTo>
                    <a:pt x="237" y="2383"/>
                  </a:lnTo>
                  <a:lnTo>
                    <a:pt x="279" y="2360"/>
                  </a:lnTo>
                  <a:lnTo>
                    <a:pt x="321" y="2338"/>
                  </a:lnTo>
                  <a:lnTo>
                    <a:pt x="363" y="2317"/>
                  </a:lnTo>
                  <a:lnTo>
                    <a:pt x="406" y="2296"/>
                  </a:lnTo>
                  <a:lnTo>
                    <a:pt x="450" y="2277"/>
                  </a:lnTo>
                  <a:lnTo>
                    <a:pt x="492" y="2258"/>
                  </a:lnTo>
                  <a:lnTo>
                    <a:pt x="537" y="2239"/>
                  </a:lnTo>
                  <a:lnTo>
                    <a:pt x="581" y="2222"/>
                  </a:lnTo>
                  <a:lnTo>
                    <a:pt x="671" y="2191"/>
                  </a:lnTo>
                  <a:lnTo>
                    <a:pt x="762" y="2165"/>
                  </a:lnTo>
                  <a:lnTo>
                    <a:pt x="853" y="2144"/>
                  </a:lnTo>
                  <a:lnTo>
                    <a:pt x="946" y="2127"/>
                  </a:lnTo>
                  <a:lnTo>
                    <a:pt x="1039" y="2115"/>
                  </a:lnTo>
                  <a:lnTo>
                    <a:pt x="1227" y="2108"/>
                  </a:lnTo>
                  <a:lnTo>
                    <a:pt x="1416" y="2125"/>
                  </a:lnTo>
                  <a:lnTo>
                    <a:pt x="1395" y="2001"/>
                  </a:lnTo>
                  <a:lnTo>
                    <a:pt x="1389" y="1878"/>
                  </a:lnTo>
                  <a:lnTo>
                    <a:pt x="1400" y="1752"/>
                  </a:lnTo>
                  <a:lnTo>
                    <a:pt x="1416" y="1691"/>
                  </a:lnTo>
                  <a:lnTo>
                    <a:pt x="1435" y="1632"/>
                  </a:lnTo>
                  <a:lnTo>
                    <a:pt x="1370" y="1591"/>
                  </a:lnTo>
                  <a:lnTo>
                    <a:pt x="1340" y="1562"/>
                  </a:lnTo>
                  <a:lnTo>
                    <a:pt x="1311" y="1530"/>
                  </a:lnTo>
                  <a:lnTo>
                    <a:pt x="1281" y="1492"/>
                  </a:lnTo>
                  <a:lnTo>
                    <a:pt x="1254" y="1450"/>
                  </a:lnTo>
                  <a:lnTo>
                    <a:pt x="1227" y="1406"/>
                  </a:lnTo>
                  <a:lnTo>
                    <a:pt x="1203" y="1357"/>
                  </a:lnTo>
                  <a:lnTo>
                    <a:pt x="1178" y="1306"/>
                  </a:lnTo>
                  <a:lnTo>
                    <a:pt x="1155" y="1252"/>
                  </a:lnTo>
                  <a:lnTo>
                    <a:pt x="1132" y="1195"/>
                  </a:lnTo>
                  <a:lnTo>
                    <a:pt x="1112" y="1136"/>
                  </a:lnTo>
                  <a:lnTo>
                    <a:pt x="1091" y="1076"/>
                  </a:lnTo>
                  <a:lnTo>
                    <a:pt x="1073" y="1015"/>
                  </a:lnTo>
                  <a:lnTo>
                    <a:pt x="1054" y="952"/>
                  </a:lnTo>
                  <a:lnTo>
                    <a:pt x="1039" y="887"/>
                  </a:lnTo>
                  <a:lnTo>
                    <a:pt x="1009" y="758"/>
                  </a:lnTo>
                  <a:lnTo>
                    <a:pt x="984" y="629"/>
                  </a:lnTo>
                  <a:lnTo>
                    <a:pt x="963" y="501"/>
                  </a:lnTo>
                  <a:lnTo>
                    <a:pt x="948" y="382"/>
                  </a:lnTo>
                  <a:lnTo>
                    <a:pt x="931" y="165"/>
                  </a:lnTo>
                  <a:lnTo>
                    <a:pt x="933" y="0"/>
                  </a:lnTo>
                  <a:lnTo>
                    <a:pt x="984" y="5"/>
                  </a:lnTo>
                  <a:lnTo>
                    <a:pt x="9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Threads Context and Stacks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Source machine: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Intercepting </a:t>
            </a: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CreateThread(), ExitThread(), TerminateThread()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GetThreadContext() for context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VirtualQuery() 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to locate the regions whose Protection Attribute indicates the existence of a Guard Page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Destination machine: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CreateRemoteThread() to create thread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SetThreadContext() to set the Context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WriteProcessMemory() to restore the stack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Resume threads and let OS determine which is the next to schedule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Threads in Suspended State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Source machine: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Intercepting </a:t>
            </a: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SuspendThread()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 &amp; </a:t>
            </a: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ResumeThread() 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and recording in the Thread Table</a:t>
            </a: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Destination machine: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Restore them like the threads in running state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Check the Thread Table to determine the state before resume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Threads in Wait State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Wait functions make threads wait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cc66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WaitForSingleObject()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MyWaitForSingleObject()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      ……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Mapping;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</a:rPr>
              <a:t>Vreturn=WaitForSingleObject();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if(Vreturn==WAIT_ABANDONED||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Vreturn==WAIT_OBJECT_0||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Vreturn==WAIT_TIMEOUT)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return Vreturn;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Else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Vreturn=WaitForSingleObject();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           ……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2a3d7a"/>
                </a:solidFill>
                <a:latin typeface="Tahoma"/>
                <a:ea typeface="Times New Roman"/>
              </a:rPr>
              <a:t>}</a:t>
            </a: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Network Connection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Both Client and Server processes are created by Loader Process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Intercept all the socket APIs and create a socket thread for the closing and restoring network connections when the process migrates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Migrating a Client Process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</a:rPr>
              <a:t>Migration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              </a:t>
            </a:r>
            <a:r>
              <a:rPr b="0" i="1" lang="en-US" sz="2400" spc="-1" strike="noStrike">
                <a:solidFill>
                  <a:srgbClr val="2a3d7a"/>
                </a:solidFill>
                <a:latin typeface="Tahoma"/>
              </a:rPr>
              <a:t>Client                Server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Saving information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ahoma"/>
              </a:rPr>
              <a:t>-&gt;request and wait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0099ff"/>
                </a:solidFill>
                <a:latin typeface="Tahoma"/>
              </a:rPr>
              <a:t>ACK&lt;-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Close the connection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ahoma"/>
              </a:rPr>
              <a:t>-&gt;report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Close the connection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Wait for reconnection 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ahoma"/>
              </a:rPr>
              <a:t>Restore 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               </a:t>
            </a:r>
            <a:r>
              <a:rPr b="0" i="1" lang="en-US" sz="2400" spc="-1" strike="noStrike">
                <a:solidFill>
                  <a:srgbClr val="2a3d7a"/>
                </a:solidFill>
                <a:latin typeface="Tahoma"/>
              </a:rPr>
              <a:t>Client                 Server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Retrieving information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ahoma"/>
              </a:rPr>
              <a:t>-&gt;reconnect request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Create a Socket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Bind to the port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Make a connection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523880"/>
            <a:ext cx="0" cy="45720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Migrating a Server Process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The server has to follow the same method, except sending the </a:t>
            </a:r>
            <a:r>
              <a:rPr b="0" i="1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IP address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 of the new machine to the client’s socket thread which allows the client to know the server’s new location and re-establish all the connections.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GUI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Intercepting </a:t>
            </a:r>
            <a:r>
              <a:rPr b="0" i="1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CreateWindow()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CreateWindowEX()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Intercepting</a:t>
            </a:r>
            <a:r>
              <a:rPr b="0" i="1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 SendMessage() </a:t>
            </a: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and </a:t>
            </a:r>
            <a:r>
              <a:rPr b="0" i="1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DispatchMessage()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During restoration, creating the window object and resending all the messages to the new window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Performance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1 GHz CPU frequency and 512 MB RAM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Two Processes: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Process A : consisting of 2 threads, 10 heaps, 15 objects and some I/O API’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Process B : Wordpad.exe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Measured Parameters: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Time required for loading the process without any virtual environment or PM-DLL.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Time required for loading PM-DLL and creating the virtual environment.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Time required to checkpoint and restore state information.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Space requirements in order to store the state information between the checkpoint and restore phase.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Performance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676520"/>
          <a:ext cx="7696080" cy="403200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28800"/>
                <a:gridCol w="2133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Process A </a:t>
                      </a:r>
                      <a:r>
                        <a:rPr b="0" i="1" lang="en-US" sz="18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unwrap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Process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990033"/>
                          </a:solidFill>
                          <a:latin typeface="Tahoma"/>
                        </a:rPr>
                        <a:t>wrap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Proce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Process 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  <a:ea typeface="Times New Roman"/>
                        </a:rPr>
                        <a:t>1.49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  <a:ea typeface="Times New Roman"/>
                        </a:rPr>
                        <a:t>34.49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260.53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D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24 APIs/105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340 APIs/373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File 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0.73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0.85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0.85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Checkpoint (ti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88.6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1088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Checkpoint (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1.15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1.76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Res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68.6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a3d7a"/>
                          </a:solidFill>
                          <a:latin typeface="Tahoma"/>
                        </a:rPr>
                        <a:t>372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40052"/>
                </a:solidFill>
                <a:latin typeface="Trebuchet MS"/>
              </a:rPr>
              <a:t>Conclusion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  <a:ea typeface="Times New Roman"/>
              </a:rPr>
              <a:t>Many advantages of the migration facilities: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No extra libraries to be linked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No access or modification to source code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  <a:ea typeface="Times New Roman"/>
              </a:rPr>
              <a:t>No modification to OS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Content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Motivation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Introduction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What has hindered progress of deploying of Distributed Systems: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System-wide modification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Application development barrier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Legacy applications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Introduction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The system we are building: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Is an integrated distributed computing platform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Is called a </a:t>
            </a:r>
            <a:r>
              <a:rPr b="0" i="1" lang="en-US" sz="2000" spc="-1" strike="noStrike">
                <a:solidFill>
                  <a:srgbClr val="2a3d7a"/>
                </a:solidFill>
                <a:latin typeface="Tahoma"/>
              </a:rPr>
              <a:t>“Computing Community”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 (CC)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Demonstrates the power of unobtrusive modification of functionality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We use this unobtrusive modification to allow process migration within a CC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Why Process Migration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Process Migration: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Hard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Thought not useful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General Purpose Process Migration is actually very useful: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Collaborative work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Distributed systems management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Automatic reconfiguration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  <a:ea typeface="Times New Roman"/>
              </a:rPr>
              <a:t>Fault tolerance 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Motivation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Two most commonly used techniques: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Checkpoint/restart strategy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―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cc6600"/>
                </a:solidFill>
                <a:latin typeface="Tahoma"/>
              </a:rPr>
              <a:t>restrictive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Leave behind a proxy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―</a:t>
            </a: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cc6600"/>
                </a:solidFill>
                <a:latin typeface="Tahoma"/>
              </a:rPr>
              <a:t>overhead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We implement Process Migration by:</a:t>
            </a: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Creating a virtual Execution Environment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Injecting a middleware for interception, at runtime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Separating the Applications from the System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Migrating General Purpose Processes within the “CC”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1066680" y="2362320"/>
            <a:ext cx="4114800" cy="2514600"/>
            <a:chOff x="1066680" y="2362320"/>
            <a:chExt cx="4114800" cy="2514600"/>
          </a:xfrm>
        </p:grpSpPr>
        <p:sp>
          <p:nvSpPr>
            <p:cNvPr id="73" name=""/>
            <p:cNvSpPr/>
            <p:nvPr/>
          </p:nvSpPr>
          <p:spPr>
            <a:xfrm>
              <a:off x="1066680" y="4191120"/>
              <a:ext cx="4114800" cy="6858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95280" y="2362320"/>
              <a:ext cx="1143000" cy="20574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3276720"/>
              <a:ext cx="91440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09680" y="4305240"/>
              <a:ext cx="16002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perating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324160" y="2133720"/>
            <a:ext cx="2400120" cy="2286000"/>
            <a:chOff x="2324160" y="2133720"/>
            <a:chExt cx="2400120" cy="2286000"/>
          </a:xfrm>
        </p:grpSpPr>
        <p:grpSp>
          <p:nvGrpSpPr>
            <p:cNvPr id="78" name=""/>
            <p:cNvGrpSpPr/>
            <p:nvPr/>
          </p:nvGrpSpPr>
          <p:grpSpPr>
            <a:xfrm>
              <a:off x="2324160" y="2133720"/>
              <a:ext cx="2400120" cy="2286000"/>
              <a:chOff x="2324160" y="2133720"/>
              <a:chExt cx="2400120" cy="2286000"/>
            </a:xfrm>
          </p:grpSpPr>
          <p:sp>
            <p:nvSpPr>
              <p:cNvPr id="79" name=""/>
              <p:cNvSpPr/>
              <p:nvPr/>
            </p:nvSpPr>
            <p:spPr>
              <a:xfrm>
                <a:off x="3581280" y="2362320"/>
                <a:ext cx="1143000" cy="20574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24160" y="2590920"/>
                <a:ext cx="13716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324160" y="2133720"/>
                <a:ext cx="140976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reateProcess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695760" y="2933640"/>
              <a:ext cx="914400" cy="343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plica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Architecture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3d7a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905120"/>
            <a:ext cx="28195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PM-D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ahoma"/>
              </a:rPr>
              <a:t>Control 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438280" y="3276720"/>
            <a:ext cx="2127240" cy="725400"/>
            <a:chOff x="2438280" y="3276720"/>
            <a:chExt cx="2127240" cy="725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3124080" y="3276720"/>
              <a:ext cx="64800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2438280" y="3276720"/>
              <a:ext cx="2127240" cy="725400"/>
              <a:chOff x="2438280" y="3276720"/>
              <a:chExt cx="2127240" cy="7254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2438280" y="3276720"/>
                <a:ext cx="2127240" cy="725400"/>
                <a:chOff x="2438280" y="3276720"/>
                <a:chExt cx="2127240" cy="7254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695760" y="3276720"/>
                  <a:ext cx="869760" cy="725400"/>
                </a:xfrm>
                <a:prstGeom prst="verticalScroll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 Narrow"/>
                    </a:rPr>
                    <a:t>Injected D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38280" y="3733920"/>
                  <a:ext cx="57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2552760" y="3276720"/>
                <a:ext cx="64764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jec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Components of Process State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Memory 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Data Section and Heap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VirtualAlloc()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Resources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the system resource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Threads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Threads in different State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Network Connections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Client &amp; Server processe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GUI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Window Object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d7a"/>
                </a:solidFill>
                <a:latin typeface="Tahoma"/>
              </a:rPr>
              <a:t>Messages</a:t>
            </a:r>
            <a:endParaRPr b="0" lang="en-US" sz="20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638680" y="1905120"/>
          <a:ext cx="2971800" cy="291780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Tahoma"/>
                          <a:ea typeface="Times New Roman"/>
                        </a:rPr>
                        <a:t>Memory and Resources</a:t>
                      </a: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Tahoma"/>
                          <a:ea typeface="Times New Roman"/>
                        </a:rPr>
                        <a:t>Threads</a:t>
                      </a: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Tahoma"/>
                          <a:ea typeface="Times New Roman"/>
                        </a:rPr>
                        <a:t>Network connectio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Tahoma"/>
                          <a:ea typeface="Times New Roman"/>
                        </a:rPr>
                        <a:t>Graphical User Interface (GUI)</a:t>
                      </a:r>
                      <a:r>
                        <a:rPr b="0" lang="en-US" sz="24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809880" y="3809880"/>
            <a:ext cx="3429000" cy="2014200"/>
            <a:chOff x="3809880" y="3809880"/>
            <a:chExt cx="3429000" cy="2014200"/>
          </a:xfrm>
        </p:grpSpPr>
        <p:sp>
          <p:nvSpPr>
            <p:cNvPr id="97" name=""/>
            <p:cNvSpPr/>
            <p:nvPr/>
          </p:nvSpPr>
          <p:spPr>
            <a:xfrm>
              <a:off x="3809880" y="3809880"/>
              <a:ext cx="3429000" cy="1676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4876920"/>
              <a:ext cx="60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C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rebuchet MS"/>
              </a:rPr>
              <a:t>Virtualization</a:t>
            </a:r>
            <a:endParaRPr b="1" lang="en-US" sz="4000" spc="-1" strike="noStrike">
              <a:solidFill>
                <a:srgbClr val="990033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ahoma"/>
              </a:rPr>
              <a:t>The injected middleware virtualizes all the system resources and keeps a mapping between physical resources (seen by OS) and virtual resources (seen by application)</a:t>
            </a:r>
            <a:endParaRPr b="0" lang="en-US" sz="2400" spc="-1" strike="noStrike">
              <a:solidFill>
                <a:srgbClr val="2a3d7a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67080" y="4114800"/>
            <a:ext cx="304920" cy="914400"/>
            <a:chOff x="4267080" y="4114800"/>
            <a:chExt cx="304920" cy="914400"/>
          </a:xfrm>
        </p:grpSpPr>
        <p:sp>
          <p:nvSpPr>
            <p:cNvPr id="102" name=""/>
            <p:cNvSpPr/>
            <p:nvPr/>
          </p:nvSpPr>
          <p:spPr>
            <a:xfrm>
              <a:off x="4267080" y="4114800"/>
              <a:ext cx="304920" cy="22860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7080" y="4343400"/>
              <a:ext cx="304920" cy="22860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080" y="4572000"/>
              <a:ext cx="304920" cy="22824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800600"/>
              <a:ext cx="304920" cy="22860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76520" y="4648320"/>
            <a:ext cx="914400" cy="685800"/>
          </a:xfrm>
          <a:prstGeom prst="can">
            <a:avLst>
              <a:gd name="adj" fmla="val 37962"/>
            </a:avLst>
          </a:prstGeom>
          <a:solidFill>
            <a:srgbClr val="2a3d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90920" y="4267080"/>
            <a:ext cx="1676160" cy="611640"/>
            <a:chOff x="2590920" y="4267080"/>
            <a:chExt cx="1676160" cy="611640"/>
          </a:xfrm>
        </p:grpSpPr>
        <p:sp>
          <p:nvSpPr>
            <p:cNvPr id="108" name=""/>
            <p:cNvSpPr/>
            <p:nvPr/>
          </p:nvSpPr>
          <p:spPr>
            <a:xfrm flipH="1">
              <a:off x="2590920" y="4267080"/>
              <a:ext cx="1676160" cy="53352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5160" y="4602240"/>
              <a:ext cx="95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Open(real_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05520" y="3886200"/>
            <a:ext cx="1828800" cy="1447920"/>
            <a:chOff x="5105520" y="3886200"/>
            <a:chExt cx="1828800" cy="1447920"/>
          </a:xfrm>
        </p:grpSpPr>
        <p:sp>
          <p:nvSpPr>
            <p:cNvPr id="111" name=""/>
            <p:cNvSpPr/>
            <p:nvPr/>
          </p:nvSpPr>
          <p:spPr>
            <a:xfrm>
              <a:off x="5105520" y="3886200"/>
              <a:ext cx="1828800" cy="14479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38680" y="4343400"/>
              <a:ext cx="165240" cy="482760"/>
            </a:xfrm>
            <a:custGeom>
              <a:avLst/>
              <a:gdLst/>
              <a:ahLst/>
              <a:rect l="l" t="t" r="r" b="b"/>
              <a:pathLst>
                <a:path w="104" h="304">
                  <a:moveTo>
                    <a:pt x="104" y="16"/>
                  </a:moveTo>
                  <a:cubicBezTo>
                    <a:pt x="88" y="8"/>
                    <a:pt x="72" y="0"/>
                    <a:pt x="56" y="16"/>
                  </a:cubicBezTo>
                  <a:cubicBezTo>
                    <a:pt x="40" y="32"/>
                    <a:pt x="0" y="80"/>
                    <a:pt x="8" y="112"/>
                  </a:cubicBezTo>
                  <a:cubicBezTo>
                    <a:pt x="16" y="144"/>
                    <a:pt x="104" y="176"/>
                    <a:pt x="104" y="208"/>
                  </a:cubicBezTo>
                  <a:cubicBezTo>
                    <a:pt x="104" y="240"/>
                    <a:pt x="56" y="272"/>
                    <a:pt x="8" y="304"/>
                  </a:cubicBezTo>
                </a:path>
              </a:pathLst>
            </a:custGeom>
            <a:noFill/>
            <a:ln w="3168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40480" y="4754520"/>
              <a:ext cx="59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h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7120" y="4343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571640" y="3962520"/>
            <a:ext cx="1183680" cy="456840"/>
            <a:chOff x="4571640" y="3962520"/>
            <a:chExt cx="1183680" cy="456840"/>
          </a:xfrm>
        </p:grpSpPr>
        <p:sp>
          <p:nvSpPr>
            <p:cNvPr id="116" name=""/>
            <p:cNvSpPr/>
            <p:nvPr/>
          </p:nvSpPr>
          <p:spPr>
            <a:xfrm>
              <a:off x="4649400" y="396252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Open(virtual_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571640" y="4190760"/>
              <a:ext cx="1143000" cy="228600"/>
            </a:xfrm>
            <a:prstGeom prst="line">
              <a:avLst/>
            </a:prstGeom>
            <a:ln w="1908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22:26:03Z</dcterms:created>
  <dc:creator>mujtaba</dc:creator>
  <dc:description/>
  <dc:language>en-US</dc:language>
  <cp:lastModifiedBy>shuzhang</cp:lastModifiedBy>
  <dcterms:modified xsi:type="dcterms:W3CDTF">2001-08-20T21:40:29Z</dcterms:modified>
  <cp:revision>42</cp:revision>
  <dc:subject/>
  <dc:title>Process Migration through Virtualization in a Computing Community</dc:title>
</cp:coreProperties>
</file>