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8.jpeg" ContentType="image/jpeg"/>
  <Override PartName="/ppt/media/image53.png" ContentType="image/png"/>
  <Override PartName="/ppt/media/image56.jpeg" ContentType="image/jpeg"/>
  <Override PartName="/ppt/media/image52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55.wmf" ContentType="image/x-wmf"/>
  <Override PartName="/ppt/media/image26.png" ContentType="image/png"/>
  <Override PartName="/ppt/media/image38.jpeg" ContentType="image/jpeg"/>
  <Override PartName="/ppt/media/image28.png" ContentType="image/png"/>
  <Override PartName="/ppt/media/image10.png" ContentType="image/png"/>
  <Override PartName="/ppt/media/image47.png" ContentType="image/png"/>
  <Override PartName="/ppt/media/image35.png" ContentType="image/png"/>
  <Override PartName="/ppt/media/image57.wmf" ContentType="image/x-wmf"/>
  <Override PartName="/ppt/media/image60.png" ContentType="image/png"/>
  <Override PartName="/ppt/media/image25.png" ContentType="image/png"/>
  <Override PartName="/ppt/media/image18.png" ContentType="image/png"/>
  <Override PartName="/ppt/media/image42.jpeg" ContentType="image/jpeg"/>
  <Override PartName="/ppt/media/image63.jpeg" ContentType="image/jpeg"/>
  <Override PartName="/ppt/media/image29.png" ContentType="image/png"/>
  <Override PartName="/ppt/media/image14.png" ContentType="image/png"/>
  <Override PartName="/ppt/media/image61.png" ContentType="image/png"/>
  <Override PartName="/ppt/media/image59.wmf" ContentType="image/x-wmf"/>
  <Override PartName="/ppt/media/image20.jpeg" ContentType="image/jpeg"/>
  <Override PartName="/ppt/media/image24.png" ContentType="image/png"/>
  <Override PartName="/ppt/media/image22.png" ContentType="image/png"/>
  <Override PartName="/ppt/media/image19.png" ContentType="image/png"/>
  <Override PartName="/ppt/media/image62.jpeg" ContentType="image/jpeg"/>
  <Override PartName="/ppt/media/image50.png" ContentType="image/png"/>
  <Override PartName="/ppt/media/image1.jpeg" ContentType="image/jpeg"/>
  <Override PartName="/ppt/media/image21.png" ContentType="image/png"/>
  <Override PartName="/ppt/media/image12.png" ContentType="image/png"/>
  <Override PartName="/ppt/media/image49.jpeg" ContentType="image/jpeg"/>
  <Override PartName="/ppt/media/image2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7.wmf" ContentType="image/x-wmf"/>
  <Override PartName="/ppt/media/image23.jpeg" ContentType="image/jpeg"/>
  <Override PartName="/ppt/media/image8.png" ContentType="image/png"/>
  <Override PartName="/ppt/media/image5.png" ContentType="image/png"/>
  <Override PartName="/ppt/media/image17.png" ContentType="image/png"/>
  <Override PartName="/ppt/media/image39.jpeg" ContentType="image/jpeg"/>
  <Override PartName="/ppt/media/image13.png" ContentType="image/png"/>
  <Override PartName="/ppt/media/image9.png" ContentType="image/png"/>
  <Override PartName="/ppt/media/image6.wmf" ContentType="image/x-wmf"/>
  <Override PartName="/ppt/media/image11.png" ContentType="image/png"/>
  <Override PartName="/ppt/media/image30.png" ContentType="image/png"/>
  <Override PartName="/ppt/media/image2.jpeg" ContentType="image/jpeg"/>
  <Override PartName="/ppt/media/image31.png" ContentType="image/png"/>
  <Override PartName="/ppt/media/image32.png" ContentType="image/png"/>
  <Override PartName="/ppt/media/image36.png" ContentType="image/png"/>
  <Override PartName="/ppt/media/image37.png" ContentType="image/png"/>
  <Override PartName="/ppt/media/image40.png" ContentType="image/png"/>
  <Override PartName="/ppt/media/image41.jpeg" ContentType="image/jpeg"/>
  <Override PartName="/ppt/media/image54.png" ContentType="image/png"/>
  <Override PartName="/ppt/media/image43.png" ContentType="image/png"/>
  <Override PartName="/ppt/media/image44.png" ContentType="image/png"/>
  <Override PartName="/ppt/media/image48.png" ContentType="image/png"/>
  <Override PartName="/ppt/media/image45.jpeg" ContentType="image/jpeg"/>
  <Override PartName="/ppt/media/image46.jpeg" ContentType="image/jpeg"/>
  <Override PartName="/ppt/media/image5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4827588" cy="3557588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6200" y="222120"/>
            <a:ext cx="4257720" cy="6796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23400" bIns="23400" anchor="t">
            <a:no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endParaRPr b="1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6200" y="837720"/>
            <a:ext cx="4257720" cy="103320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23400" bIns="23400" anchor="t">
            <a:normAutofit/>
          </a:bodyPr>
          <a:p>
            <a:pPr indent="0">
              <a:lnSpc>
                <a:spcPct val="90000"/>
              </a:lnSpc>
              <a:spcBef>
                <a:spcPts val="638"/>
              </a:spcBef>
              <a:buNone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endParaRPr b="1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200" y="1969560"/>
            <a:ext cx="4257720" cy="103320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23400" bIns="23400" anchor="t">
            <a:normAutofit/>
          </a:bodyPr>
          <a:p>
            <a:pPr indent="0">
              <a:lnSpc>
                <a:spcPct val="90000"/>
              </a:lnSpc>
              <a:spcBef>
                <a:spcPts val="638"/>
              </a:spcBef>
              <a:buNone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endParaRPr b="1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6200" y="222120"/>
            <a:ext cx="4257720" cy="6796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23400" bIns="23400" anchor="t">
            <a:no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endParaRPr b="1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6200" y="837720"/>
            <a:ext cx="2077560" cy="103320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23400" bIns="23400" anchor="t">
            <a:normAutofit/>
          </a:bodyPr>
          <a:p>
            <a:pPr indent="0">
              <a:lnSpc>
                <a:spcPct val="90000"/>
              </a:lnSpc>
              <a:spcBef>
                <a:spcPts val="638"/>
              </a:spcBef>
              <a:buNone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endParaRPr b="1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48160" y="837720"/>
            <a:ext cx="2077560" cy="103320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23400" bIns="23400" anchor="t">
            <a:normAutofit/>
          </a:bodyPr>
          <a:p>
            <a:pPr indent="0">
              <a:lnSpc>
                <a:spcPct val="90000"/>
              </a:lnSpc>
              <a:spcBef>
                <a:spcPts val="638"/>
              </a:spcBef>
              <a:buNone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endParaRPr b="1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200" y="1969560"/>
            <a:ext cx="2077560" cy="103320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23400" bIns="23400" anchor="t">
            <a:normAutofit/>
          </a:bodyPr>
          <a:p>
            <a:pPr indent="0">
              <a:lnSpc>
                <a:spcPct val="90000"/>
              </a:lnSpc>
              <a:spcBef>
                <a:spcPts val="638"/>
              </a:spcBef>
              <a:buNone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endParaRPr b="1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2648160" y="1969560"/>
            <a:ext cx="2077560" cy="103320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23400" bIns="23400" anchor="t">
            <a:normAutofit/>
          </a:bodyPr>
          <a:p>
            <a:pPr indent="0">
              <a:lnSpc>
                <a:spcPct val="90000"/>
              </a:lnSpc>
              <a:spcBef>
                <a:spcPts val="638"/>
              </a:spcBef>
              <a:buNone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endParaRPr b="1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6200" y="222120"/>
            <a:ext cx="4257720" cy="6796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23400" bIns="23400" anchor="t">
            <a:no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endParaRPr b="1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66200" y="837720"/>
            <a:ext cx="1370880" cy="103320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23400" bIns="23400" anchor="t">
            <a:normAutofit/>
          </a:bodyPr>
          <a:p>
            <a:pPr indent="0">
              <a:lnSpc>
                <a:spcPct val="90000"/>
              </a:lnSpc>
              <a:spcBef>
                <a:spcPts val="638"/>
              </a:spcBef>
              <a:buNone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endParaRPr b="1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905840" y="837720"/>
            <a:ext cx="1370880" cy="103320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23400" bIns="23400" anchor="t">
            <a:normAutofit/>
          </a:bodyPr>
          <a:p>
            <a:pPr indent="0">
              <a:lnSpc>
                <a:spcPct val="90000"/>
              </a:lnSpc>
              <a:spcBef>
                <a:spcPts val="638"/>
              </a:spcBef>
              <a:buNone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endParaRPr b="1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345840" y="837720"/>
            <a:ext cx="1370880" cy="103320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23400" bIns="23400" anchor="t">
            <a:normAutofit/>
          </a:bodyPr>
          <a:p>
            <a:pPr indent="0">
              <a:lnSpc>
                <a:spcPct val="90000"/>
              </a:lnSpc>
              <a:spcBef>
                <a:spcPts val="638"/>
              </a:spcBef>
              <a:buNone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endParaRPr b="1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200" y="1969560"/>
            <a:ext cx="1370880" cy="103320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23400" bIns="23400" anchor="t">
            <a:normAutofit/>
          </a:bodyPr>
          <a:p>
            <a:pPr indent="0">
              <a:lnSpc>
                <a:spcPct val="90000"/>
              </a:lnSpc>
              <a:spcBef>
                <a:spcPts val="638"/>
              </a:spcBef>
              <a:buNone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endParaRPr b="1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1905840" y="1969560"/>
            <a:ext cx="1370880" cy="103320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23400" bIns="23400" anchor="t">
            <a:normAutofit/>
          </a:bodyPr>
          <a:p>
            <a:pPr indent="0">
              <a:lnSpc>
                <a:spcPct val="90000"/>
              </a:lnSpc>
              <a:spcBef>
                <a:spcPts val="638"/>
              </a:spcBef>
              <a:buNone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endParaRPr b="1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3345840" y="1969560"/>
            <a:ext cx="1370880" cy="103320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23400" bIns="23400" anchor="t">
            <a:normAutofit/>
          </a:bodyPr>
          <a:p>
            <a:pPr indent="0">
              <a:lnSpc>
                <a:spcPct val="90000"/>
              </a:lnSpc>
              <a:spcBef>
                <a:spcPts val="638"/>
              </a:spcBef>
              <a:buNone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endParaRPr b="1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66200" y="222120"/>
            <a:ext cx="4257720" cy="6796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23400" bIns="23400" anchor="t">
            <a:no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endParaRPr b="1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66200" y="837720"/>
            <a:ext cx="4257720" cy="21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endParaRPr b="1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6200" y="222120"/>
            <a:ext cx="4257720" cy="6796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23400" bIns="23400" anchor="t">
            <a:no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endParaRPr b="1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66200" y="837720"/>
            <a:ext cx="4257720" cy="21661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23400" bIns="23400" anchor="t">
            <a:normAutofit/>
          </a:bodyPr>
          <a:p>
            <a:pPr indent="0">
              <a:lnSpc>
                <a:spcPct val="90000"/>
              </a:lnSpc>
              <a:spcBef>
                <a:spcPts val="638"/>
              </a:spcBef>
              <a:buNone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endParaRPr b="1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6200" y="222120"/>
            <a:ext cx="4257720" cy="6796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23400" bIns="23400" anchor="t">
            <a:no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endParaRPr b="1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6200" y="837720"/>
            <a:ext cx="2077560" cy="21661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23400" bIns="23400" anchor="t">
            <a:normAutofit/>
          </a:bodyPr>
          <a:p>
            <a:pPr indent="0">
              <a:lnSpc>
                <a:spcPct val="90000"/>
              </a:lnSpc>
              <a:spcBef>
                <a:spcPts val="638"/>
              </a:spcBef>
              <a:buNone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endParaRPr b="1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648160" y="837720"/>
            <a:ext cx="2077560" cy="21661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23400" bIns="23400" anchor="t">
            <a:normAutofit/>
          </a:bodyPr>
          <a:p>
            <a:pPr indent="0">
              <a:lnSpc>
                <a:spcPct val="90000"/>
              </a:lnSpc>
              <a:spcBef>
                <a:spcPts val="638"/>
              </a:spcBef>
              <a:buNone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endParaRPr b="1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6200" y="222120"/>
            <a:ext cx="4257720" cy="6796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23400" bIns="23400" anchor="t">
            <a:no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endParaRPr b="1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66200" y="222120"/>
            <a:ext cx="4257720" cy="31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endParaRPr b="1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6200" y="222120"/>
            <a:ext cx="4257720" cy="6796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23400" bIns="23400" anchor="t">
            <a:no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endParaRPr b="1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6200" y="837720"/>
            <a:ext cx="2077560" cy="103320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23400" bIns="23400" anchor="t">
            <a:normAutofit/>
          </a:bodyPr>
          <a:p>
            <a:pPr indent="0">
              <a:lnSpc>
                <a:spcPct val="90000"/>
              </a:lnSpc>
              <a:spcBef>
                <a:spcPts val="638"/>
              </a:spcBef>
              <a:buNone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endParaRPr b="1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2648160" y="837720"/>
            <a:ext cx="2077560" cy="21661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23400" bIns="23400" anchor="t">
            <a:normAutofit/>
          </a:bodyPr>
          <a:p>
            <a:pPr indent="0">
              <a:lnSpc>
                <a:spcPct val="90000"/>
              </a:lnSpc>
              <a:spcBef>
                <a:spcPts val="638"/>
              </a:spcBef>
              <a:buNone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endParaRPr b="1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66200" y="1969560"/>
            <a:ext cx="2077560" cy="103320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23400" bIns="23400" anchor="t">
            <a:normAutofit/>
          </a:bodyPr>
          <a:p>
            <a:pPr indent="0">
              <a:lnSpc>
                <a:spcPct val="90000"/>
              </a:lnSpc>
              <a:spcBef>
                <a:spcPts val="638"/>
              </a:spcBef>
              <a:buNone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endParaRPr b="1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66200" y="222120"/>
            <a:ext cx="4257720" cy="6796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23400" bIns="23400" anchor="t">
            <a:no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endParaRPr b="1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66200" y="837720"/>
            <a:ext cx="4257720" cy="21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endParaRPr b="1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6200" y="222120"/>
            <a:ext cx="4257720" cy="6796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23400" bIns="23400" anchor="t">
            <a:no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endParaRPr b="1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6200" y="837720"/>
            <a:ext cx="2077560" cy="21661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23400" bIns="23400" anchor="t">
            <a:normAutofit/>
          </a:bodyPr>
          <a:p>
            <a:pPr indent="0">
              <a:lnSpc>
                <a:spcPct val="90000"/>
              </a:lnSpc>
              <a:spcBef>
                <a:spcPts val="638"/>
              </a:spcBef>
              <a:buNone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endParaRPr b="1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2648160" y="837720"/>
            <a:ext cx="2077560" cy="103320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23400" bIns="23400" anchor="t">
            <a:normAutofit/>
          </a:bodyPr>
          <a:p>
            <a:pPr indent="0">
              <a:lnSpc>
                <a:spcPct val="90000"/>
              </a:lnSpc>
              <a:spcBef>
                <a:spcPts val="638"/>
              </a:spcBef>
              <a:buNone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endParaRPr b="1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2648160" y="1969560"/>
            <a:ext cx="2077560" cy="103320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23400" bIns="23400" anchor="t">
            <a:normAutofit/>
          </a:bodyPr>
          <a:p>
            <a:pPr indent="0">
              <a:lnSpc>
                <a:spcPct val="90000"/>
              </a:lnSpc>
              <a:spcBef>
                <a:spcPts val="638"/>
              </a:spcBef>
              <a:buNone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endParaRPr b="1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6200" y="222120"/>
            <a:ext cx="4257720" cy="6796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23400" bIns="23400" anchor="t">
            <a:no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endParaRPr b="1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6200" y="837720"/>
            <a:ext cx="2077560" cy="103320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23400" bIns="23400" anchor="t">
            <a:normAutofit/>
          </a:bodyPr>
          <a:p>
            <a:pPr indent="0">
              <a:lnSpc>
                <a:spcPct val="90000"/>
              </a:lnSpc>
              <a:spcBef>
                <a:spcPts val="638"/>
              </a:spcBef>
              <a:buNone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endParaRPr b="1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2648160" y="837720"/>
            <a:ext cx="2077560" cy="103320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23400" bIns="23400" anchor="t">
            <a:normAutofit/>
          </a:bodyPr>
          <a:p>
            <a:pPr indent="0">
              <a:lnSpc>
                <a:spcPct val="90000"/>
              </a:lnSpc>
              <a:spcBef>
                <a:spcPts val="638"/>
              </a:spcBef>
              <a:buNone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endParaRPr b="1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200" y="1969560"/>
            <a:ext cx="4257720" cy="103320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23400" bIns="23400" anchor="t">
            <a:normAutofit/>
          </a:bodyPr>
          <a:p>
            <a:pPr indent="0">
              <a:lnSpc>
                <a:spcPct val="90000"/>
              </a:lnSpc>
              <a:spcBef>
                <a:spcPts val="638"/>
              </a:spcBef>
              <a:buNone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endParaRPr b="1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6200" y="222120"/>
            <a:ext cx="4257720" cy="6796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23400" bIns="23400" anchor="t">
            <a:no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endParaRPr b="1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6200" y="837720"/>
            <a:ext cx="4257720" cy="103320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23400" bIns="23400" anchor="t">
            <a:normAutofit/>
          </a:bodyPr>
          <a:p>
            <a:pPr indent="0">
              <a:lnSpc>
                <a:spcPct val="90000"/>
              </a:lnSpc>
              <a:spcBef>
                <a:spcPts val="638"/>
              </a:spcBef>
              <a:buNone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endParaRPr b="1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200" y="1969560"/>
            <a:ext cx="4257720" cy="103320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23400" bIns="23400" anchor="t">
            <a:normAutofit/>
          </a:bodyPr>
          <a:p>
            <a:pPr indent="0">
              <a:lnSpc>
                <a:spcPct val="90000"/>
              </a:lnSpc>
              <a:spcBef>
                <a:spcPts val="638"/>
              </a:spcBef>
              <a:buNone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endParaRPr b="1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6200" y="222120"/>
            <a:ext cx="4257720" cy="6796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23400" bIns="23400" anchor="t">
            <a:no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endParaRPr b="1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6200" y="837720"/>
            <a:ext cx="2077560" cy="103320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23400" bIns="23400" anchor="t">
            <a:normAutofit/>
          </a:bodyPr>
          <a:p>
            <a:pPr indent="0">
              <a:lnSpc>
                <a:spcPct val="90000"/>
              </a:lnSpc>
              <a:spcBef>
                <a:spcPts val="638"/>
              </a:spcBef>
              <a:buNone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endParaRPr b="1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2648160" y="837720"/>
            <a:ext cx="2077560" cy="103320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23400" bIns="23400" anchor="t">
            <a:normAutofit/>
          </a:bodyPr>
          <a:p>
            <a:pPr indent="0">
              <a:lnSpc>
                <a:spcPct val="90000"/>
              </a:lnSpc>
              <a:spcBef>
                <a:spcPts val="638"/>
              </a:spcBef>
              <a:buNone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endParaRPr b="1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200" y="1969560"/>
            <a:ext cx="2077560" cy="103320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23400" bIns="23400" anchor="t">
            <a:normAutofit/>
          </a:bodyPr>
          <a:p>
            <a:pPr indent="0">
              <a:lnSpc>
                <a:spcPct val="90000"/>
              </a:lnSpc>
              <a:spcBef>
                <a:spcPts val="638"/>
              </a:spcBef>
              <a:buNone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endParaRPr b="1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2648160" y="1969560"/>
            <a:ext cx="2077560" cy="103320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23400" bIns="23400" anchor="t">
            <a:normAutofit/>
          </a:bodyPr>
          <a:p>
            <a:pPr indent="0">
              <a:lnSpc>
                <a:spcPct val="90000"/>
              </a:lnSpc>
              <a:spcBef>
                <a:spcPts val="638"/>
              </a:spcBef>
              <a:buNone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endParaRPr b="1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6200" y="222120"/>
            <a:ext cx="4257720" cy="6796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23400" bIns="23400" anchor="t">
            <a:no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endParaRPr b="1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6200" y="837720"/>
            <a:ext cx="1370880" cy="103320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23400" bIns="23400" anchor="t">
            <a:normAutofit/>
          </a:bodyPr>
          <a:p>
            <a:pPr indent="0">
              <a:lnSpc>
                <a:spcPct val="90000"/>
              </a:lnSpc>
              <a:spcBef>
                <a:spcPts val="638"/>
              </a:spcBef>
              <a:buNone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endParaRPr b="1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905840" y="837720"/>
            <a:ext cx="1370880" cy="103320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23400" bIns="23400" anchor="t">
            <a:normAutofit/>
          </a:bodyPr>
          <a:p>
            <a:pPr indent="0">
              <a:lnSpc>
                <a:spcPct val="90000"/>
              </a:lnSpc>
              <a:spcBef>
                <a:spcPts val="638"/>
              </a:spcBef>
              <a:buNone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endParaRPr b="1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345840" y="837720"/>
            <a:ext cx="1370880" cy="103320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23400" bIns="23400" anchor="t">
            <a:normAutofit/>
          </a:bodyPr>
          <a:p>
            <a:pPr indent="0">
              <a:lnSpc>
                <a:spcPct val="90000"/>
              </a:lnSpc>
              <a:spcBef>
                <a:spcPts val="638"/>
              </a:spcBef>
              <a:buNone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endParaRPr b="1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200" y="1969560"/>
            <a:ext cx="1370880" cy="103320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23400" bIns="23400" anchor="t">
            <a:normAutofit/>
          </a:bodyPr>
          <a:p>
            <a:pPr indent="0">
              <a:lnSpc>
                <a:spcPct val="90000"/>
              </a:lnSpc>
              <a:spcBef>
                <a:spcPts val="638"/>
              </a:spcBef>
              <a:buNone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endParaRPr b="1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1905840" y="1969560"/>
            <a:ext cx="1370880" cy="103320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23400" bIns="23400" anchor="t">
            <a:normAutofit/>
          </a:bodyPr>
          <a:p>
            <a:pPr indent="0">
              <a:lnSpc>
                <a:spcPct val="90000"/>
              </a:lnSpc>
              <a:spcBef>
                <a:spcPts val="638"/>
              </a:spcBef>
              <a:buNone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endParaRPr b="1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3345840" y="1969560"/>
            <a:ext cx="1370880" cy="103320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23400" bIns="23400" anchor="t">
            <a:normAutofit/>
          </a:bodyPr>
          <a:p>
            <a:pPr indent="0">
              <a:lnSpc>
                <a:spcPct val="90000"/>
              </a:lnSpc>
              <a:spcBef>
                <a:spcPts val="638"/>
              </a:spcBef>
              <a:buNone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endParaRPr b="1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66200" y="222120"/>
            <a:ext cx="4257720" cy="6796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23400" bIns="23400" anchor="t">
            <a:no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endParaRPr b="1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66200" y="837720"/>
            <a:ext cx="4257720" cy="21661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23400" bIns="23400" anchor="t">
            <a:normAutofit/>
          </a:bodyPr>
          <a:p>
            <a:pPr indent="0">
              <a:lnSpc>
                <a:spcPct val="90000"/>
              </a:lnSpc>
              <a:spcBef>
                <a:spcPts val="638"/>
              </a:spcBef>
              <a:buNone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endParaRPr b="1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6200" y="222120"/>
            <a:ext cx="4257720" cy="6796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23400" bIns="23400" anchor="t">
            <a:no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endParaRPr b="1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66200" y="837720"/>
            <a:ext cx="2077560" cy="21661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23400" bIns="23400" anchor="t">
            <a:normAutofit/>
          </a:bodyPr>
          <a:p>
            <a:pPr indent="0">
              <a:lnSpc>
                <a:spcPct val="90000"/>
              </a:lnSpc>
              <a:spcBef>
                <a:spcPts val="638"/>
              </a:spcBef>
              <a:buNone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endParaRPr b="1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2648160" y="837720"/>
            <a:ext cx="2077560" cy="21661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23400" bIns="23400" anchor="t">
            <a:normAutofit/>
          </a:bodyPr>
          <a:p>
            <a:pPr indent="0">
              <a:lnSpc>
                <a:spcPct val="90000"/>
              </a:lnSpc>
              <a:spcBef>
                <a:spcPts val="638"/>
              </a:spcBef>
              <a:buNone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endParaRPr b="1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6200" y="222120"/>
            <a:ext cx="4257720" cy="6796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23400" bIns="23400" anchor="t">
            <a:no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endParaRPr b="1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66200" y="222120"/>
            <a:ext cx="4257720" cy="31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endParaRPr b="1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6200" y="222120"/>
            <a:ext cx="4257720" cy="6796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23400" bIns="23400" anchor="t">
            <a:no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endParaRPr b="1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6200" y="837720"/>
            <a:ext cx="2077560" cy="103320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23400" bIns="23400" anchor="t">
            <a:normAutofit/>
          </a:bodyPr>
          <a:p>
            <a:pPr indent="0">
              <a:lnSpc>
                <a:spcPct val="90000"/>
              </a:lnSpc>
              <a:spcBef>
                <a:spcPts val="638"/>
              </a:spcBef>
              <a:buNone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endParaRPr b="1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648160" y="837720"/>
            <a:ext cx="2077560" cy="21661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23400" bIns="23400" anchor="t">
            <a:normAutofit/>
          </a:bodyPr>
          <a:p>
            <a:pPr indent="0">
              <a:lnSpc>
                <a:spcPct val="90000"/>
              </a:lnSpc>
              <a:spcBef>
                <a:spcPts val="638"/>
              </a:spcBef>
              <a:buNone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endParaRPr b="1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66200" y="1969560"/>
            <a:ext cx="2077560" cy="103320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23400" bIns="23400" anchor="t">
            <a:normAutofit/>
          </a:bodyPr>
          <a:p>
            <a:pPr indent="0">
              <a:lnSpc>
                <a:spcPct val="90000"/>
              </a:lnSpc>
              <a:spcBef>
                <a:spcPts val="638"/>
              </a:spcBef>
              <a:buNone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endParaRPr b="1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6200" y="222120"/>
            <a:ext cx="4257720" cy="6796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23400" bIns="23400" anchor="t">
            <a:no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endParaRPr b="1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6200" y="837720"/>
            <a:ext cx="2077560" cy="21661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23400" bIns="23400" anchor="t">
            <a:normAutofit/>
          </a:bodyPr>
          <a:p>
            <a:pPr indent="0">
              <a:lnSpc>
                <a:spcPct val="90000"/>
              </a:lnSpc>
              <a:spcBef>
                <a:spcPts val="638"/>
              </a:spcBef>
              <a:buNone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endParaRPr b="1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2648160" y="837720"/>
            <a:ext cx="2077560" cy="103320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23400" bIns="23400" anchor="t">
            <a:normAutofit/>
          </a:bodyPr>
          <a:p>
            <a:pPr indent="0">
              <a:lnSpc>
                <a:spcPct val="90000"/>
              </a:lnSpc>
              <a:spcBef>
                <a:spcPts val="638"/>
              </a:spcBef>
              <a:buNone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endParaRPr b="1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648160" y="1969560"/>
            <a:ext cx="2077560" cy="103320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23400" bIns="23400" anchor="t">
            <a:normAutofit/>
          </a:bodyPr>
          <a:p>
            <a:pPr indent="0">
              <a:lnSpc>
                <a:spcPct val="90000"/>
              </a:lnSpc>
              <a:spcBef>
                <a:spcPts val="638"/>
              </a:spcBef>
              <a:buNone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endParaRPr b="1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6200" y="222120"/>
            <a:ext cx="4257720" cy="6796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23400" bIns="23400" anchor="t">
            <a:no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endParaRPr b="1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6200" y="837720"/>
            <a:ext cx="2077560" cy="103320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23400" bIns="23400" anchor="t">
            <a:normAutofit/>
          </a:bodyPr>
          <a:p>
            <a:pPr indent="0">
              <a:lnSpc>
                <a:spcPct val="90000"/>
              </a:lnSpc>
              <a:spcBef>
                <a:spcPts val="638"/>
              </a:spcBef>
              <a:buNone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endParaRPr b="1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2648160" y="837720"/>
            <a:ext cx="2077560" cy="103320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23400" bIns="23400" anchor="t">
            <a:normAutofit/>
          </a:bodyPr>
          <a:p>
            <a:pPr indent="0">
              <a:lnSpc>
                <a:spcPct val="90000"/>
              </a:lnSpc>
              <a:spcBef>
                <a:spcPts val="638"/>
              </a:spcBef>
              <a:buNone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endParaRPr b="1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200" y="1969560"/>
            <a:ext cx="4257720" cy="103320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23400" bIns="23400" anchor="t">
            <a:normAutofit/>
          </a:bodyPr>
          <a:p>
            <a:pPr indent="0">
              <a:lnSpc>
                <a:spcPct val="90000"/>
              </a:lnSpc>
              <a:spcBef>
                <a:spcPts val="638"/>
              </a:spcBef>
              <a:buNone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endParaRPr b="1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6200" y="222120"/>
            <a:ext cx="4257720" cy="6796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23400" bIns="23400" anchor="t">
            <a:no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6200" y="837720"/>
            <a:ext cx="4257720" cy="21661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23400" bIns="23400" anchor="t">
            <a:normAutofit/>
          </a:bodyPr>
          <a:p>
            <a:pPr marL="230040" indent="-230040">
              <a:lnSpc>
                <a:spcPct val="90000"/>
              </a:lnSpc>
              <a:spcBef>
                <a:spcPts val="638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439560" indent="-207720">
              <a:lnSpc>
                <a:spcPct val="90000"/>
              </a:lnSpc>
              <a:spcBef>
                <a:spcPts val="638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625320" indent="-183960">
              <a:lnSpc>
                <a:spcPct val="90000"/>
              </a:lnSpc>
              <a:spcBef>
                <a:spcPts val="638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3" marL="800280" indent="-173160">
              <a:lnSpc>
                <a:spcPct val="90000"/>
              </a:lnSpc>
              <a:spcBef>
                <a:spcPts val="638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4" marL="976320" indent="-174600">
              <a:lnSpc>
                <a:spcPct val="90000"/>
              </a:lnSpc>
              <a:spcBef>
                <a:spcPts val="638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5" marL="976320" indent="-174600">
              <a:lnSpc>
                <a:spcPct val="90000"/>
              </a:lnSpc>
              <a:spcBef>
                <a:spcPts val="638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6" marL="976320" indent="-174600">
              <a:lnSpc>
                <a:spcPct val="90000"/>
              </a:lnSpc>
              <a:spcBef>
                <a:spcPts val="638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57240" y="838080"/>
            <a:ext cx="3643200" cy="6796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23400" bIns="234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241200" y="831960"/>
            <a:ext cx="4344480" cy="20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231840" indent="0" algn="ct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1" lang="en-US" sz="1500" spc="-1" strike="noStrike">
                <a:solidFill>
                  <a:srgbClr val="0099ff"/>
                </a:solidFill>
                <a:latin typeface="Verdana"/>
              </a:rPr>
              <a:t>Second Outline Level</a:t>
            </a:r>
            <a:endParaRPr b="1" lang="en-US" sz="1500" spc="-1" strike="noStrike">
              <a:solidFill>
                <a:srgbClr val="0099ff"/>
              </a:solidFill>
              <a:latin typeface="Verdana"/>
            </a:endParaRPr>
          </a:p>
          <a:p>
            <a:pPr lvl="2" marL="441360" algn="ctr">
              <a:lnSpc>
                <a:spcPct val="90000"/>
              </a:lnSpc>
              <a:spcBef>
                <a:spcPts val="488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3" marL="627120" algn="ctr">
              <a:lnSpc>
                <a:spcPct val="90000"/>
              </a:lnSpc>
              <a:spcBef>
                <a:spcPts val="488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  <a:tab algn="l" pos="983448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4" marL="801720" algn="ctr">
              <a:lnSpc>
                <a:spcPct val="90000"/>
              </a:lnSpc>
              <a:spcBef>
                <a:spcPts val="488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  <a:tab algn="l" pos="983448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5" marL="801720">
              <a:spcBef>
                <a:spcPts val="326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6" marL="801720">
              <a:spcBef>
                <a:spcPts val="326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jpe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previews2.nvtech.com/01/tf05036/NVTech_busi0394.jpg" TargetMode="External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hyperlink" Target="http://www.edc.gsph.pitt.edu/services/lan.gif" TargetMode="External"/><Relationship Id="rId6" Type="http://schemas.openxmlformats.org/officeDocument/2006/relationships/image" Target="../media/image43.png"/><Relationship Id="rId7" Type="http://schemas.openxmlformats.org/officeDocument/2006/relationships/hyperlink" Target="http://moat.nlanr.net/Software/Cichlid/gallery/fakevbns-shot2.gif" TargetMode="External"/><Relationship Id="rId8" Type="http://schemas.openxmlformats.org/officeDocument/2006/relationships/image" Target="../media/image44.png"/><Relationship Id="rId9" Type="http://schemas.openxmlformats.org/officeDocument/2006/relationships/hyperlink" Target="http://previews2.nvtech.com/01/tf05036/NVTech_busi0394.jpg" TargetMode="External"/><Relationship Id="rId10" Type="http://schemas.openxmlformats.org/officeDocument/2006/relationships/image" Target="../media/image41.jpeg"/><Relationship Id="rId11" Type="http://schemas.openxmlformats.org/officeDocument/2006/relationships/image" Target="../media/image42.jpeg"/><Relationship Id="rId12" Type="http://schemas.openxmlformats.org/officeDocument/2006/relationships/hyperlink" Target="http://www.edc.gsph.pitt.edu/services/lan.gif" TargetMode="External"/><Relationship Id="rId13" Type="http://schemas.openxmlformats.org/officeDocument/2006/relationships/image" Target="../media/image43.png"/><Relationship Id="rId14" Type="http://schemas.openxmlformats.org/officeDocument/2006/relationships/hyperlink" Target="http://invtoday.bbndirht.external.hp.com/invtoday/images/products/servers.jpg" TargetMode="External"/><Relationship Id="rId15" Type="http://schemas.openxmlformats.org/officeDocument/2006/relationships/image" Target="../media/image45.jpeg"/><Relationship Id="rId16" Type="http://schemas.openxmlformats.org/officeDocument/2006/relationships/hyperlink" Target="http://explorer.msn.com/img/media.jpg" TargetMode="External"/><Relationship Id="rId17" Type="http://schemas.openxmlformats.org/officeDocument/2006/relationships/image" Target="../media/image46.jpeg"/><Relationship Id="rId18" Type="http://schemas.openxmlformats.org/officeDocument/2006/relationships/hyperlink" Target="http://web.golux.com/coar/books/Books.gif" TargetMode="External"/><Relationship Id="rId19" Type="http://schemas.openxmlformats.org/officeDocument/2006/relationships/image" Target="../media/image47.png"/><Relationship Id="rId20" Type="http://schemas.openxmlformats.org/officeDocument/2006/relationships/hyperlink" Target="http://www.pueblo.gsa.gov/cic_text/health/weightloss4life/papers.gif" TargetMode="External"/><Relationship Id="rId21" Type="http://schemas.openxmlformats.org/officeDocument/2006/relationships/image" Target="../media/image48.png"/><Relationship Id="rId22" Type="http://schemas.openxmlformats.org/officeDocument/2006/relationships/hyperlink" Target="http://www.adobe.com/products/photoshopel/images/MasterBasics01.jpg" TargetMode="External"/><Relationship Id="rId23" Type="http://schemas.openxmlformats.org/officeDocument/2006/relationships/image" Target="../media/image49.jpeg"/><Relationship Id="rId24" Type="http://schemas.openxmlformats.org/officeDocument/2006/relationships/hyperlink" Target="http://explorer.msn.com/img/media.jpg" TargetMode="External"/><Relationship Id="rId25" Type="http://schemas.openxmlformats.org/officeDocument/2006/relationships/image" Target="../media/image46.jpeg"/><Relationship Id="rId26" Type="http://schemas.openxmlformats.org/officeDocument/2006/relationships/hyperlink" Target="http://web.golux.com/coar/books/Books.gif" TargetMode="External"/><Relationship Id="rId27" Type="http://schemas.openxmlformats.org/officeDocument/2006/relationships/image" Target="../media/image47.png"/><Relationship Id="rId28" Type="http://schemas.openxmlformats.org/officeDocument/2006/relationships/hyperlink" Target="http://www.pueblo.gsa.gov/cic_text/health/weightloss4life/papers.gif" TargetMode="External"/><Relationship Id="rId29" Type="http://schemas.openxmlformats.org/officeDocument/2006/relationships/image" Target="../media/image48.png"/><Relationship Id="rId30" Type="http://schemas.openxmlformats.org/officeDocument/2006/relationships/hyperlink" Target="http://www.adobe.com/products/photoshopel/images/MasterBasics01.jpg" TargetMode="External"/><Relationship Id="rId31" Type="http://schemas.openxmlformats.org/officeDocument/2006/relationships/image" Target="../media/image49.jpeg"/><Relationship Id="rId32" Type="http://schemas.openxmlformats.org/officeDocument/2006/relationships/hyperlink" Target="http://explorer.msn.com/img/media.jpg" TargetMode="External"/><Relationship Id="rId33" Type="http://schemas.openxmlformats.org/officeDocument/2006/relationships/image" Target="../media/image46.jpeg"/><Relationship Id="rId34" Type="http://schemas.openxmlformats.org/officeDocument/2006/relationships/hyperlink" Target="http://web.golux.com/coar/books/Books.gif" TargetMode="External"/><Relationship Id="rId35" Type="http://schemas.openxmlformats.org/officeDocument/2006/relationships/image" Target="../media/image47.png"/><Relationship Id="rId36" Type="http://schemas.openxmlformats.org/officeDocument/2006/relationships/hyperlink" Target="http://www.pueblo.gsa.gov/cic_text/health/weightloss4life/papers.gif" TargetMode="External"/><Relationship Id="rId37" Type="http://schemas.openxmlformats.org/officeDocument/2006/relationships/image" Target="../media/image48.png"/><Relationship Id="rId38" Type="http://schemas.openxmlformats.org/officeDocument/2006/relationships/hyperlink" Target="http://www.adobe.com/products/photoshopel/images/MasterBasics01.jpg" TargetMode="External"/><Relationship Id="rId39" Type="http://schemas.openxmlformats.org/officeDocument/2006/relationships/image" Target="../media/image49.jpeg"/><Relationship Id="rId40" Type="http://schemas.openxmlformats.org/officeDocument/2006/relationships/hyperlink" Target="http://explorer.msn.com/img/media.jpg" TargetMode="External"/><Relationship Id="rId41" Type="http://schemas.openxmlformats.org/officeDocument/2006/relationships/image" Target="../media/image46.jpeg"/><Relationship Id="rId42" Type="http://schemas.openxmlformats.org/officeDocument/2006/relationships/hyperlink" Target="http://web.golux.com/coar/books/Books.gif" TargetMode="External"/><Relationship Id="rId43" Type="http://schemas.openxmlformats.org/officeDocument/2006/relationships/image" Target="../media/image47.png"/><Relationship Id="rId44" Type="http://schemas.openxmlformats.org/officeDocument/2006/relationships/hyperlink" Target="http://www.pueblo.gsa.gov/cic_text/health/weightloss4life/papers.gif" TargetMode="External"/><Relationship Id="rId45" Type="http://schemas.openxmlformats.org/officeDocument/2006/relationships/image" Target="../media/image48.png"/><Relationship Id="rId46" Type="http://schemas.openxmlformats.org/officeDocument/2006/relationships/hyperlink" Target="http://www.adobe.com/products/photoshopel/images/MasterBasics01.jpg" TargetMode="External"/><Relationship Id="rId47" Type="http://schemas.openxmlformats.org/officeDocument/2006/relationships/image" Target="../media/image49.jpeg"/><Relationship Id="rId48" Type="http://schemas.openxmlformats.org/officeDocument/2006/relationships/hyperlink" Target="http://explorer.msn.com/img/media.jpg" TargetMode="External"/><Relationship Id="rId49" Type="http://schemas.openxmlformats.org/officeDocument/2006/relationships/image" Target="../media/image46.jpeg"/><Relationship Id="rId50" Type="http://schemas.openxmlformats.org/officeDocument/2006/relationships/hyperlink" Target="http://web.golux.com/coar/books/Books.gif" TargetMode="External"/><Relationship Id="rId51" Type="http://schemas.openxmlformats.org/officeDocument/2006/relationships/image" Target="../media/image47.png"/><Relationship Id="rId52" Type="http://schemas.openxmlformats.org/officeDocument/2006/relationships/hyperlink" Target="http://www.pueblo.gsa.gov/cic_text/health/weightloss4life/papers.gif" TargetMode="External"/><Relationship Id="rId53" Type="http://schemas.openxmlformats.org/officeDocument/2006/relationships/image" Target="../media/image48.png"/><Relationship Id="rId54" Type="http://schemas.openxmlformats.org/officeDocument/2006/relationships/hyperlink" Target="http://www.adobe.com/products/photoshopel/images/MasterBasics01.jpg" TargetMode="External"/><Relationship Id="rId55" Type="http://schemas.openxmlformats.org/officeDocument/2006/relationships/image" Target="../media/image49.jpeg"/><Relationship Id="rId56" Type="http://schemas.openxmlformats.org/officeDocument/2006/relationships/hyperlink" Target="http://explorer.msn.com/img/media.jpg" TargetMode="External"/><Relationship Id="rId57" Type="http://schemas.openxmlformats.org/officeDocument/2006/relationships/image" Target="../media/image46.jpeg"/><Relationship Id="rId58" Type="http://schemas.openxmlformats.org/officeDocument/2006/relationships/hyperlink" Target="http://web.golux.com/coar/books/Books.gif" TargetMode="External"/><Relationship Id="rId59" Type="http://schemas.openxmlformats.org/officeDocument/2006/relationships/image" Target="../media/image47.png"/><Relationship Id="rId60" Type="http://schemas.openxmlformats.org/officeDocument/2006/relationships/hyperlink" Target="http://www.pueblo.gsa.gov/cic_text/health/weightloss4life/papers.gif" TargetMode="External"/><Relationship Id="rId61" Type="http://schemas.openxmlformats.org/officeDocument/2006/relationships/image" Target="../media/image48.png"/><Relationship Id="rId62" Type="http://schemas.openxmlformats.org/officeDocument/2006/relationships/hyperlink" Target="http://www.adobe.com/products/photoshopel/images/MasterBasics01.jpg" TargetMode="External"/><Relationship Id="rId63" Type="http://schemas.openxmlformats.org/officeDocument/2006/relationships/image" Target="../media/image49.jpeg"/><Relationship Id="rId64" Type="http://schemas.openxmlformats.org/officeDocument/2006/relationships/hyperlink" Target="http://explorer.msn.com/img/media.jpg" TargetMode="External"/><Relationship Id="rId65" Type="http://schemas.openxmlformats.org/officeDocument/2006/relationships/image" Target="../media/image46.jpeg"/><Relationship Id="rId66" Type="http://schemas.openxmlformats.org/officeDocument/2006/relationships/hyperlink" Target="http://web.golux.com/coar/books/Books.gif" TargetMode="External"/><Relationship Id="rId67" Type="http://schemas.openxmlformats.org/officeDocument/2006/relationships/image" Target="../media/image47.png"/><Relationship Id="rId68" Type="http://schemas.openxmlformats.org/officeDocument/2006/relationships/hyperlink" Target="http://www.pueblo.gsa.gov/cic_text/health/weightloss4life/papers.gif" TargetMode="External"/><Relationship Id="rId69" Type="http://schemas.openxmlformats.org/officeDocument/2006/relationships/image" Target="../media/image48.png"/><Relationship Id="rId70" Type="http://schemas.openxmlformats.org/officeDocument/2006/relationships/hyperlink" Target="http://www.adobe.com/products/photoshopel/images/MasterBasics01.jpg" TargetMode="External"/><Relationship Id="rId71" Type="http://schemas.openxmlformats.org/officeDocument/2006/relationships/image" Target="../media/image49.jpeg"/><Relationship Id="rId72" Type="http://schemas.openxmlformats.org/officeDocument/2006/relationships/hyperlink" Target="http://explorer.msn.com/img/media.jpg" TargetMode="External"/><Relationship Id="rId73" Type="http://schemas.openxmlformats.org/officeDocument/2006/relationships/image" Target="../media/image46.jpeg"/><Relationship Id="rId74" Type="http://schemas.openxmlformats.org/officeDocument/2006/relationships/hyperlink" Target="http://web.golux.com/coar/books/Books.gif" TargetMode="External"/><Relationship Id="rId75" Type="http://schemas.openxmlformats.org/officeDocument/2006/relationships/image" Target="../media/image47.png"/><Relationship Id="rId76" Type="http://schemas.openxmlformats.org/officeDocument/2006/relationships/hyperlink" Target="http://www.pueblo.gsa.gov/cic_text/health/weightloss4life/papers.gif" TargetMode="External"/><Relationship Id="rId77" Type="http://schemas.openxmlformats.org/officeDocument/2006/relationships/image" Target="../media/image48.png"/><Relationship Id="rId78" Type="http://schemas.openxmlformats.org/officeDocument/2006/relationships/hyperlink" Target="http://www.adobe.com/products/photoshopel/images/MasterBasics01.jpg" TargetMode="External"/><Relationship Id="rId79" Type="http://schemas.openxmlformats.org/officeDocument/2006/relationships/image" Target="../media/image49.jpeg"/><Relationship Id="rId80" Type="http://schemas.openxmlformats.org/officeDocument/2006/relationships/hyperlink" Target="http://explorer.msn.com/img/media.jpg" TargetMode="External"/><Relationship Id="rId81" Type="http://schemas.openxmlformats.org/officeDocument/2006/relationships/image" Target="../media/image46.jpeg"/><Relationship Id="rId82" Type="http://schemas.openxmlformats.org/officeDocument/2006/relationships/hyperlink" Target="http://web.golux.com/coar/books/Books.gif" TargetMode="External"/><Relationship Id="rId83" Type="http://schemas.openxmlformats.org/officeDocument/2006/relationships/image" Target="../media/image47.png"/><Relationship Id="rId84" Type="http://schemas.openxmlformats.org/officeDocument/2006/relationships/hyperlink" Target="http://www.pueblo.gsa.gov/cic_text/health/weightloss4life/papers.gif" TargetMode="External"/><Relationship Id="rId85" Type="http://schemas.openxmlformats.org/officeDocument/2006/relationships/image" Target="../media/image48.png"/><Relationship Id="rId86" Type="http://schemas.openxmlformats.org/officeDocument/2006/relationships/hyperlink" Target="http://www.adobe.com/products/photoshopel/images/MasterBasics01.jpg" TargetMode="External"/><Relationship Id="rId87" Type="http://schemas.openxmlformats.org/officeDocument/2006/relationships/image" Target="../media/image49.jpeg"/><Relationship Id="rId88" Type="http://schemas.openxmlformats.org/officeDocument/2006/relationships/hyperlink" Target="http://explorer.msn.com/img/media.jpg" TargetMode="External"/><Relationship Id="rId89" Type="http://schemas.openxmlformats.org/officeDocument/2006/relationships/image" Target="../media/image46.jpeg"/><Relationship Id="rId90" Type="http://schemas.openxmlformats.org/officeDocument/2006/relationships/hyperlink" Target="http://web.golux.com/coar/books/Books.gif" TargetMode="External"/><Relationship Id="rId91" Type="http://schemas.openxmlformats.org/officeDocument/2006/relationships/image" Target="../media/image47.png"/><Relationship Id="rId92" Type="http://schemas.openxmlformats.org/officeDocument/2006/relationships/hyperlink" Target="http://www.pueblo.gsa.gov/cic_text/health/weightloss4life/papers.gif" TargetMode="External"/><Relationship Id="rId93" Type="http://schemas.openxmlformats.org/officeDocument/2006/relationships/image" Target="../media/image48.png"/><Relationship Id="rId94" Type="http://schemas.openxmlformats.org/officeDocument/2006/relationships/hyperlink" Target="http://www.adobe.com/products/photoshopel/images/MasterBasics01.jpg" TargetMode="External"/><Relationship Id="rId95" Type="http://schemas.openxmlformats.org/officeDocument/2006/relationships/image" Target="../media/image49.jpeg"/><Relationship Id="rId9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previews2.nvtech.com/01/tf05036/NVTech_busi0394.jpg" TargetMode="External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hyperlink" Target="http://www.edc.gsph.pitt.edu/services/lan.gif" TargetMode="External"/><Relationship Id="rId6" Type="http://schemas.openxmlformats.org/officeDocument/2006/relationships/image" Target="../media/image43.png"/><Relationship Id="rId7" Type="http://schemas.openxmlformats.org/officeDocument/2006/relationships/hyperlink" Target="http://moat.nlanr.net/Software/Cichlid/gallery/fakevbns-shot2.gif" TargetMode="External"/><Relationship Id="rId8" Type="http://schemas.openxmlformats.org/officeDocument/2006/relationships/image" Target="../media/image44.png"/><Relationship Id="rId9" Type="http://schemas.openxmlformats.org/officeDocument/2006/relationships/hyperlink" Target="http://previews2.nvtech.com/01/tf05036/NVTech_busi0394.jpg" TargetMode="External"/><Relationship Id="rId10" Type="http://schemas.openxmlformats.org/officeDocument/2006/relationships/image" Target="../media/image41.jpeg"/><Relationship Id="rId11" Type="http://schemas.openxmlformats.org/officeDocument/2006/relationships/image" Target="../media/image42.jpeg"/><Relationship Id="rId12" Type="http://schemas.openxmlformats.org/officeDocument/2006/relationships/hyperlink" Target="http://www.edc.gsph.pitt.edu/services/lan.gif" TargetMode="External"/><Relationship Id="rId13" Type="http://schemas.openxmlformats.org/officeDocument/2006/relationships/image" Target="../media/image43.png"/><Relationship Id="rId14" Type="http://schemas.openxmlformats.org/officeDocument/2006/relationships/hyperlink" Target="http://invtoday.bbndirht.external.hp.com/invtoday/images/products/servers.jpg" TargetMode="External"/><Relationship Id="rId15" Type="http://schemas.openxmlformats.org/officeDocument/2006/relationships/image" Target="../media/image45.jpeg"/><Relationship Id="rId16" Type="http://schemas.openxmlformats.org/officeDocument/2006/relationships/hyperlink" Target="http://explorer.msn.com/img/media.jpg" TargetMode="External"/><Relationship Id="rId17" Type="http://schemas.openxmlformats.org/officeDocument/2006/relationships/image" Target="../media/image46.jpeg"/><Relationship Id="rId18" Type="http://schemas.openxmlformats.org/officeDocument/2006/relationships/hyperlink" Target="http://web.golux.com/coar/books/Books.gif" TargetMode="External"/><Relationship Id="rId19" Type="http://schemas.openxmlformats.org/officeDocument/2006/relationships/image" Target="../media/image47.png"/><Relationship Id="rId20" Type="http://schemas.openxmlformats.org/officeDocument/2006/relationships/hyperlink" Target="http://www.pueblo.gsa.gov/cic_text/health/weightloss4life/papers.gif" TargetMode="External"/><Relationship Id="rId21" Type="http://schemas.openxmlformats.org/officeDocument/2006/relationships/image" Target="../media/image48.png"/><Relationship Id="rId22" Type="http://schemas.openxmlformats.org/officeDocument/2006/relationships/hyperlink" Target="http://www.adobe.com/products/photoshopel/images/MasterBasics01.jpg" TargetMode="External"/><Relationship Id="rId23" Type="http://schemas.openxmlformats.org/officeDocument/2006/relationships/image" Target="../media/image49.jpeg"/><Relationship Id="rId24" Type="http://schemas.openxmlformats.org/officeDocument/2006/relationships/hyperlink" Target="http://explorer.msn.com/img/media.jpg" TargetMode="External"/><Relationship Id="rId25" Type="http://schemas.openxmlformats.org/officeDocument/2006/relationships/image" Target="../media/image46.jpeg"/><Relationship Id="rId26" Type="http://schemas.openxmlformats.org/officeDocument/2006/relationships/hyperlink" Target="http://web.golux.com/coar/books/Books.gif" TargetMode="External"/><Relationship Id="rId27" Type="http://schemas.openxmlformats.org/officeDocument/2006/relationships/image" Target="../media/image47.png"/><Relationship Id="rId28" Type="http://schemas.openxmlformats.org/officeDocument/2006/relationships/hyperlink" Target="http://www.pueblo.gsa.gov/cic_text/health/weightloss4life/papers.gif" TargetMode="External"/><Relationship Id="rId29" Type="http://schemas.openxmlformats.org/officeDocument/2006/relationships/image" Target="../media/image48.png"/><Relationship Id="rId30" Type="http://schemas.openxmlformats.org/officeDocument/2006/relationships/hyperlink" Target="http://www.adobe.com/products/photoshopel/images/MasterBasics01.jpg" TargetMode="External"/><Relationship Id="rId31" Type="http://schemas.openxmlformats.org/officeDocument/2006/relationships/image" Target="../media/image49.jpeg"/><Relationship Id="rId32" Type="http://schemas.openxmlformats.org/officeDocument/2006/relationships/hyperlink" Target="http://explorer.msn.com/img/media.jpg" TargetMode="External"/><Relationship Id="rId33" Type="http://schemas.openxmlformats.org/officeDocument/2006/relationships/image" Target="../media/image46.jpeg"/><Relationship Id="rId34" Type="http://schemas.openxmlformats.org/officeDocument/2006/relationships/hyperlink" Target="http://web.golux.com/coar/books/Books.gif" TargetMode="External"/><Relationship Id="rId35" Type="http://schemas.openxmlformats.org/officeDocument/2006/relationships/image" Target="../media/image47.png"/><Relationship Id="rId36" Type="http://schemas.openxmlformats.org/officeDocument/2006/relationships/hyperlink" Target="http://www.pueblo.gsa.gov/cic_text/health/weightloss4life/papers.gif" TargetMode="External"/><Relationship Id="rId37" Type="http://schemas.openxmlformats.org/officeDocument/2006/relationships/image" Target="../media/image48.png"/><Relationship Id="rId38" Type="http://schemas.openxmlformats.org/officeDocument/2006/relationships/hyperlink" Target="http://www.adobe.com/products/photoshopel/images/MasterBasics01.jpg" TargetMode="External"/><Relationship Id="rId39" Type="http://schemas.openxmlformats.org/officeDocument/2006/relationships/image" Target="../media/image49.jpeg"/><Relationship Id="rId40" Type="http://schemas.openxmlformats.org/officeDocument/2006/relationships/hyperlink" Target="http://explorer.msn.com/img/media.jpg" TargetMode="External"/><Relationship Id="rId41" Type="http://schemas.openxmlformats.org/officeDocument/2006/relationships/image" Target="../media/image46.jpeg"/><Relationship Id="rId42" Type="http://schemas.openxmlformats.org/officeDocument/2006/relationships/hyperlink" Target="http://web.golux.com/coar/books/Books.gif" TargetMode="External"/><Relationship Id="rId43" Type="http://schemas.openxmlformats.org/officeDocument/2006/relationships/image" Target="../media/image47.png"/><Relationship Id="rId44" Type="http://schemas.openxmlformats.org/officeDocument/2006/relationships/hyperlink" Target="http://www.pueblo.gsa.gov/cic_text/health/weightloss4life/papers.gif" TargetMode="External"/><Relationship Id="rId45" Type="http://schemas.openxmlformats.org/officeDocument/2006/relationships/image" Target="../media/image48.png"/><Relationship Id="rId46" Type="http://schemas.openxmlformats.org/officeDocument/2006/relationships/hyperlink" Target="http://www.adobe.com/products/photoshopel/images/MasterBasics01.jpg" TargetMode="External"/><Relationship Id="rId47" Type="http://schemas.openxmlformats.org/officeDocument/2006/relationships/image" Target="../media/image49.jpeg"/><Relationship Id="rId48" Type="http://schemas.openxmlformats.org/officeDocument/2006/relationships/hyperlink" Target="http://explorer.msn.com/img/media.jpg" TargetMode="External"/><Relationship Id="rId49" Type="http://schemas.openxmlformats.org/officeDocument/2006/relationships/image" Target="../media/image46.jpeg"/><Relationship Id="rId50" Type="http://schemas.openxmlformats.org/officeDocument/2006/relationships/hyperlink" Target="http://web.golux.com/coar/books/Books.gif" TargetMode="External"/><Relationship Id="rId51" Type="http://schemas.openxmlformats.org/officeDocument/2006/relationships/image" Target="../media/image47.png"/><Relationship Id="rId52" Type="http://schemas.openxmlformats.org/officeDocument/2006/relationships/hyperlink" Target="http://www.pueblo.gsa.gov/cic_text/health/weightloss4life/papers.gif" TargetMode="External"/><Relationship Id="rId53" Type="http://schemas.openxmlformats.org/officeDocument/2006/relationships/image" Target="../media/image48.png"/><Relationship Id="rId54" Type="http://schemas.openxmlformats.org/officeDocument/2006/relationships/hyperlink" Target="http://www.adobe.com/products/photoshopel/images/MasterBasics01.jpg" TargetMode="External"/><Relationship Id="rId55" Type="http://schemas.openxmlformats.org/officeDocument/2006/relationships/image" Target="../media/image49.jpeg"/><Relationship Id="rId56" Type="http://schemas.openxmlformats.org/officeDocument/2006/relationships/hyperlink" Target="http://explorer.msn.com/img/media.jpg" TargetMode="External"/><Relationship Id="rId57" Type="http://schemas.openxmlformats.org/officeDocument/2006/relationships/image" Target="../media/image46.jpeg"/><Relationship Id="rId58" Type="http://schemas.openxmlformats.org/officeDocument/2006/relationships/hyperlink" Target="http://web.golux.com/coar/books/Books.gif" TargetMode="External"/><Relationship Id="rId59" Type="http://schemas.openxmlformats.org/officeDocument/2006/relationships/image" Target="../media/image47.png"/><Relationship Id="rId60" Type="http://schemas.openxmlformats.org/officeDocument/2006/relationships/hyperlink" Target="http://www.pueblo.gsa.gov/cic_text/health/weightloss4life/papers.gif" TargetMode="External"/><Relationship Id="rId61" Type="http://schemas.openxmlformats.org/officeDocument/2006/relationships/image" Target="../media/image48.png"/><Relationship Id="rId62" Type="http://schemas.openxmlformats.org/officeDocument/2006/relationships/hyperlink" Target="http://www.adobe.com/products/photoshopel/images/MasterBasics01.jpg" TargetMode="External"/><Relationship Id="rId63" Type="http://schemas.openxmlformats.org/officeDocument/2006/relationships/image" Target="../media/image49.jpeg"/><Relationship Id="rId64" Type="http://schemas.openxmlformats.org/officeDocument/2006/relationships/hyperlink" Target="http://explorer.msn.com/img/media.jpg" TargetMode="External"/><Relationship Id="rId65" Type="http://schemas.openxmlformats.org/officeDocument/2006/relationships/image" Target="../media/image46.jpeg"/><Relationship Id="rId66" Type="http://schemas.openxmlformats.org/officeDocument/2006/relationships/hyperlink" Target="http://web.golux.com/coar/books/Books.gif" TargetMode="External"/><Relationship Id="rId67" Type="http://schemas.openxmlformats.org/officeDocument/2006/relationships/image" Target="../media/image47.png"/><Relationship Id="rId68" Type="http://schemas.openxmlformats.org/officeDocument/2006/relationships/hyperlink" Target="http://www.pueblo.gsa.gov/cic_text/health/weightloss4life/papers.gif" TargetMode="External"/><Relationship Id="rId69" Type="http://schemas.openxmlformats.org/officeDocument/2006/relationships/image" Target="../media/image48.png"/><Relationship Id="rId70" Type="http://schemas.openxmlformats.org/officeDocument/2006/relationships/hyperlink" Target="http://www.adobe.com/products/photoshopel/images/MasterBasics01.jpg" TargetMode="External"/><Relationship Id="rId71" Type="http://schemas.openxmlformats.org/officeDocument/2006/relationships/image" Target="../media/image49.jpeg"/><Relationship Id="rId72" Type="http://schemas.openxmlformats.org/officeDocument/2006/relationships/hyperlink" Target="http://explorer.msn.com/img/media.jpg" TargetMode="External"/><Relationship Id="rId73" Type="http://schemas.openxmlformats.org/officeDocument/2006/relationships/image" Target="../media/image46.jpeg"/><Relationship Id="rId74" Type="http://schemas.openxmlformats.org/officeDocument/2006/relationships/hyperlink" Target="http://web.golux.com/coar/books/Books.gif" TargetMode="External"/><Relationship Id="rId75" Type="http://schemas.openxmlformats.org/officeDocument/2006/relationships/image" Target="../media/image47.png"/><Relationship Id="rId76" Type="http://schemas.openxmlformats.org/officeDocument/2006/relationships/hyperlink" Target="http://www.pueblo.gsa.gov/cic_text/health/weightloss4life/papers.gif" TargetMode="External"/><Relationship Id="rId77" Type="http://schemas.openxmlformats.org/officeDocument/2006/relationships/image" Target="../media/image48.png"/><Relationship Id="rId78" Type="http://schemas.openxmlformats.org/officeDocument/2006/relationships/hyperlink" Target="http://www.adobe.com/products/photoshopel/images/MasterBasics01.jpg" TargetMode="External"/><Relationship Id="rId79" Type="http://schemas.openxmlformats.org/officeDocument/2006/relationships/image" Target="../media/image49.jpeg"/><Relationship Id="rId80" Type="http://schemas.openxmlformats.org/officeDocument/2006/relationships/hyperlink" Target="http://explorer.msn.com/img/media.jpg" TargetMode="External"/><Relationship Id="rId81" Type="http://schemas.openxmlformats.org/officeDocument/2006/relationships/image" Target="../media/image46.jpeg"/><Relationship Id="rId82" Type="http://schemas.openxmlformats.org/officeDocument/2006/relationships/hyperlink" Target="http://web.golux.com/coar/books/Books.gif" TargetMode="External"/><Relationship Id="rId83" Type="http://schemas.openxmlformats.org/officeDocument/2006/relationships/image" Target="../media/image47.png"/><Relationship Id="rId84" Type="http://schemas.openxmlformats.org/officeDocument/2006/relationships/hyperlink" Target="http://www.pueblo.gsa.gov/cic_text/health/weightloss4life/papers.gif" TargetMode="External"/><Relationship Id="rId85" Type="http://schemas.openxmlformats.org/officeDocument/2006/relationships/image" Target="../media/image48.png"/><Relationship Id="rId86" Type="http://schemas.openxmlformats.org/officeDocument/2006/relationships/image" Target="../media/image49.jpeg"/><Relationship Id="rId87" Type="http://schemas.openxmlformats.org/officeDocument/2006/relationships/image" Target="../media/image46.jpeg"/><Relationship Id="rId88" Type="http://schemas.openxmlformats.org/officeDocument/2006/relationships/image" Target="../media/image47.png"/><Relationship Id="rId89" Type="http://schemas.openxmlformats.org/officeDocument/2006/relationships/image" Target="../media/image48.png"/><Relationship Id="rId90" Type="http://schemas.openxmlformats.org/officeDocument/2006/relationships/image" Target="../media/image49.jpeg"/><Relationship Id="rId9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image" Target="../media/image52.png"/><Relationship Id="rId5" Type="http://schemas.openxmlformats.org/officeDocument/2006/relationships/image" Target="../media/image53.png"/><Relationship Id="rId6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5.wmf"/><Relationship Id="rId3" Type="http://schemas.openxmlformats.org/officeDocument/2006/relationships/image" Target="../media/image56.jpeg"/><Relationship Id="rId4" Type="http://schemas.openxmlformats.org/officeDocument/2006/relationships/image" Target="../media/image55.wmf"/><Relationship Id="rId5" Type="http://schemas.openxmlformats.org/officeDocument/2006/relationships/image" Target="../media/image55.wmf"/><Relationship Id="rId6" Type="http://schemas.openxmlformats.org/officeDocument/2006/relationships/image" Target="../media/image55.wmf"/><Relationship Id="rId7" Type="http://schemas.openxmlformats.org/officeDocument/2006/relationships/image" Target="../media/image55.wmf"/><Relationship Id="rId8" Type="http://schemas.openxmlformats.org/officeDocument/2006/relationships/image" Target="../media/image55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5.wmf"/><Relationship Id="rId3" Type="http://schemas.openxmlformats.org/officeDocument/2006/relationships/image" Target="../media/image55.wmf"/><Relationship Id="rId4" Type="http://schemas.openxmlformats.org/officeDocument/2006/relationships/image" Target="../media/image55.wmf"/><Relationship Id="rId5" Type="http://schemas.openxmlformats.org/officeDocument/2006/relationships/image" Target="../media/image55.wmf"/><Relationship Id="rId6" Type="http://schemas.openxmlformats.org/officeDocument/2006/relationships/image" Target="../media/image55.wmf"/><Relationship Id="rId7" Type="http://schemas.openxmlformats.org/officeDocument/2006/relationships/image" Target="../media/image55.wmf"/><Relationship Id="rId8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57.wmf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8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9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7.wmf"/><Relationship Id="rId5" Type="http://schemas.openxmlformats.org/officeDocument/2006/relationships/hyperlink" Target="http://www.amazon.com/exec/obidos/subst/home/redirect.html/ref=nh_gateway/102-7978049-9847333" TargetMode="External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0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1.png"/><Relationship Id="rId3" Type="http://schemas.openxmlformats.org/officeDocument/2006/relationships/image" Target="../media/image62.jpeg"/><Relationship Id="rId4" Type="http://schemas.openxmlformats.org/officeDocument/2006/relationships/image" Target="../media/image6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image" Target="../media/image20.jpe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ub.uni-heidelberg.de/helios/fachinfo/www/math/gif/euler-blau.gif" TargetMode="External"/><Relationship Id="rId3" Type="http://schemas.openxmlformats.org/officeDocument/2006/relationships/image" Target="../media/image22.png"/><Relationship Id="rId4" Type="http://schemas.openxmlformats.org/officeDocument/2006/relationships/image" Target="../media/image23.jpeg"/><Relationship Id="rId5" Type="http://schemas.openxmlformats.org/officeDocument/2006/relationships/hyperlink" Target="http://imhefwww.epfl.ch/lmf/ERCOFTAC/PCs/Euler/Euler.jpg" TargetMode="External"/><Relationship Id="rId6" Type="http://schemas.openxmlformats.org/officeDocument/2006/relationships/image" Target="../media/image24.png"/><Relationship Id="rId7" Type="http://schemas.openxmlformats.org/officeDocument/2006/relationships/hyperlink" Target="http://www.ub.uni-heidelberg.de/helios/fachinfo/www/math/gif/euler-blau.gif" TargetMode="External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image" Target="../media/image29.png"/><Relationship Id="rId10" Type="http://schemas.openxmlformats.org/officeDocument/2006/relationships/image" Target="../media/image26.png"/><Relationship Id="rId11" Type="http://schemas.openxmlformats.org/officeDocument/2006/relationships/image" Target="../media/image29.png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57240" y="838080"/>
            <a:ext cx="3643200" cy="6796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23400" bIns="234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Verdana"/>
              </a:rPr>
              <a:t>The New Science</a:t>
            </a:r>
            <a:br>
              <a:rPr sz="2300"/>
            </a:br>
            <a:r>
              <a:rPr b="1" lang="en-US" sz="2300" spc="-1" strike="noStrike">
                <a:solidFill>
                  <a:srgbClr val="000000"/>
                </a:solidFill>
                <a:latin typeface="Verdana"/>
              </a:rPr>
              <a:t>of Networks</a:t>
            </a:r>
            <a:endParaRPr b="1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957240" y="2209320"/>
            <a:ext cx="3379680" cy="2271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23400" bIns="234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Verdana"/>
              </a:rPr>
              <a:t>Presented by Mujtaba Khambatti</a:t>
            </a:r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66200" y="222120"/>
            <a:ext cx="4257720" cy="36360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23400" bIns="23400" anchor="t">
            <a:no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Verdana"/>
              </a:rPr>
              <a:t>Six degrees</a:t>
            </a:r>
            <a:endParaRPr b="1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7" name="j0230739(p)" descr="Click To Download"/>
          <p:cNvPicPr/>
          <p:nvPr/>
        </p:nvPicPr>
        <p:blipFill>
          <a:blip r:embed="rId2"/>
          <a:stretch/>
        </p:blipFill>
        <p:spPr>
          <a:xfrm>
            <a:off x="3809880" y="838080"/>
            <a:ext cx="507960" cy="507960"/>
          </a:xfrm>
          <a:prstGeom prst="rect">
            <a:avLst/>
          </a:prstGeom>
          <a:ln w="0">
            <a:noFill/>
          </a:ln>
        </p:spPr>
      </p:pic>
      <p:pic>
        <p:nvPicPr>
          <p:cNvPr id="178" name="j0159000(p)" descr="Click To Download"/>
          <p:cNvPicPr/>
          <p:nvPr/>
        </p:nvPicPr>
        <p:blipFill>
          <a:blip r:embed="rId3"/>
          <a:stretch/>
        </p:blipFill>
        <p:spPr>
          <a:xfrm>
            <a:off x="3809880" y="1295280"/>
            <a:ext cx="660600" cy="660600"/>
          </a:xfrm>
          <a:prstGeom prst="rect">
            <a:avLst/>
          </a:prstGeom>
          <a:ln w="0">
            <a:noFill/>
          </a:ln>
        </p:spPr>
      </p:pic>
      <p:pic>
        <p:nvPicPr>
          <p:cNvPr id="179" name="mp00273_(p)" descr="Click To Download"/>
          <p:cNvPicPr/>
          <p:nvPr/>
        </p:nvPicPr>
        <p:blipFill>
          <a:blip r:embed="rId4"/>
          <a:stretch/>
        </p:blipFill>
        <p:spPr>
          <a:xfrm>
            <a:off x="990720" y="685800"/>
            <a:ext cx="2844720" cy="223524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 flipH="1" rot="1951200">
            <a:off x="3504240" y="1447920"/>
            <a:ext cx="609480" cy="228240"/>
          </a:xfrm>
          <a:custGeom>
            <a:avLst/>
            <a:gdLst>
              <a:gd name="textAreaLeft" fmla="*/ 124560 w 609480"/>
              <a:gd name="textAreaRight" fmla="*/ 423360 w 609480"/>
              <a:gd name="textAreaTop" fmla="*/ 30600 h 228240"/>
              <a:gd name="textAreaBottom" fmla="*/ 197640 h 228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854" hR="21600" stAng="10800000" swAng="5400000"/>
                <a:lnTo>
                  <a:pt x="10587" y="0"/>
                </a:lnTo>
                <a:arcTo wR="8854" hR="21600" stAng="-5400000" swAng="1218060"/>
                <a:lnTo>
                  <a:pt x="18678" y="5565"/>
                </a:lnTo>
                <a:lnTo>
                  <a:pt x="18574" y="21600"/>
                </a:lnTo>
                <a:lnTo>
                  <a:pt x="12625" y="5565"/>
                </a:lnTo>
                <a:lnTo>
                  <a:pt x="14785" y="5565"/>
                </a:lnTo>
                <a:arcTo wR="8854" hR="21600" stAng="-4181940" swAng="-1079562"/>
                <a:lnTo>
                  <a:pt x="9720" y="104"/>
                </a:lnTo>
                <a:arcTo wR="8854" hR="21600" stAng="-5538498" swAng="-5261502"/>
                <a:close/>
              </a:path>
              <a:path fill="darkenLess" w="21600" h="21600">
                <a:moveTo>
                  <a:pt x="0" y="21600"/>
                </a:moveTo>
                <a:arcTo wR="8854" hR="21600" stAng="10800000" swAng="5400000"/>
                <a:lnTo>
                  <a:pt x="8854" y="0"/>
                </a:lnTo>
                <a:arcTo wR="8854" hR="21600" stAng="-5400000" swAng="138498"/>
                <a:lnTo>
                  <a:pt x="9720" y="104"/>
                </a:lnTo>
                <a:arcTo wR="8854" hR="21600" stAng="-5538498" swAng="-5261502"/>
                <a:close/>
              </a:path>
            </a:pathLst>
          </a:cu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 rot="18742200">
            <a:off x="3314520" y="1104480"/>
            <a:ext cx="609480" cy="228600"/>
          </a:xfrm>
          <a:custGeom>
            <a:avLst/>
            <a:gdLst>
              <a:gd name="textAreaLeft" fmla="*/ 124560 w 609480"/>
              <a:gd name="textAreaRight" fmla="*/ 423360 w 609480"/>
              <a:gd name="textAreaTop" fmla="*/ 30600 h 228600"/>
              <a:gd name="textAreaBottom" fmla="*/ 1980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854" hR="21600" stAng="10800000" swAng="5400000"/>
                <a:lnTo>
                  <a:pt x="10587" y="0"/>
                </a:lnTo>
                <a:arcTo wR="8854" hR="21600" stAng="-5400000" swAng="1218060"/>
                <a:lnTo>
                  <a:pt x="18678" y="5565"/>
                </a:lnTo>
                <a:lnTo>
                  <a:pt x="18574" y="21600"/>
                </a:lnTo>
                <a:lnTo>
                  <a:pt x="12625" y="5565"/>
                </a:lnTo>
                <a:lnTo>
                  <a:pt x="14785" y="5565"/>
                </a:lnTo>
                <a:arcTo wR="8854" hR="21600" stAng="-4181940" swAng="-1079562"/>
                <a:lnTo>
                  <a:pt x="9720" y="104"/>
                </a:lnTo>
                <a:arcTo wR="8854" hR="21600" stAng="-5538498" swAng="-5261502"/>
                <a:close/>
              </a:path>
              <a:path fill="darkenLess" w="21600" h="21600">
                <a:moveTo>
                  <a:pt x="0" y="21600"/>
                </a:moveTo>
                <a:arcTo wR="8854" hR="21600" stAng="10800000" swAng="5400000"/>
                <a:lnTo>
                  <a:pt x="8854" y="0"/>
                </a:lnTo>
                <a:arcTo wR="8854" hR="21600" stAng="-5400000" swAng="138498"/>
                <a:lnTo>
                  <a:pt x="9720" y="104"/>
                </a:lnTo>
                <a:arcTo wR="8854" hR="21600" stAng="-5538498" swAng="-5261502"/>
                <a:close/>
              </a:path>
            </a:pathLst>
          </a:cu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828800" y="1523880"/>
            <a:ext cx="152280" cy="152640"/>
          </a:xfrm>
          <a:prstGeom prst="flowChartSummingJunction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209680" y="1600200"/>
            <a:ext cx="152640" cy="152280"/>
          </a:xfrm>
          <a:prstGeom prst="flowChartSummingJunction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2120" y="2666880"/>
            <a:ext cx="365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edian number of intermediate persons = 5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Milgram" descr=""/>
          <p:cNvPicPr/>
          <p:nvPr/>
        </p:nvPicPr>
        <p:blipFill>
          <a:blip r:embed="rId5">
            <a:lum contrast="24000"/>
          </a:blip>
          <a:stretch/>
        </p:blipFill>
        <p:spPr>
          <a:xfrm>
            <a:off x="2590920" y="76320"/>
            <a:ext cx="812520" cy="89532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1676520" y="83808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tanley Milgra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66200" y="222120"/>
            <a:ext cx="4257720" cy="36360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23400" bIns="23400" anchor="t">
            <a:no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Verdana"/>
              </a:rPr>
              <a:t>11 degrees</a:t>
            </a:r>
            <a:endParaRPr b="1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66200" y="838080"/>
            <a:ext cx="4257720" cy="211500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23400" bIns="23400" anchor="t">
            <a:normAutofit/>
          </a:bodyPr>
          <a:p>
            <a:pPr marL="230040" indent="-230040">
              <a:lnSpc>
                <a:spcPct val="90000"/>
              </a:lnSpc>
              <a:spcBef>
                <a:spcPts val="561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Mapping the </a:t>
            </a:r>
            <a:r>
              <a:rPr b="1" i="1" lang="en-US" sz="1500" spc="-1" strike="noStrike">
                <a:solidFill>
                  <a:srgbClr val="000000"/>
                </a:solidFill>
                <a:latin typeface="Verdana"/>
              </a:rPr>
              <a:t>nd.edu</a:t>
            </a: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 domain</a:t>
            </a:r>
            <a:endParaRPr b="1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30040" indent="-230040">
              <a:lnSpc>
                <a:spcPct val="90000"/>
              </a:lnSpc>
              <a:spcBef>
                <a:spcPts val="561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Average of 11 links</a:t>
            </a:r>
            <a:endParaRPr b="1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30040" indent="-230040">
              <a:lnSpc>
                <a:spcPct val="90000"/>
              </a:lnSpc>
              <a:spcBef>
                <a:spcPts val="561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Wide range in distance values</a:t>
            </a:r>
            <a:endParaRPr b="1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30040" indent="-230040">
              <a:lnSpc>
                <a:spcPct val="90000"/>
              </a:lnSpc>
              <a:spcBef>
                <a:spcPts val="561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But what is the size of the Internet?</a:t>
            </a:r>
            <a:endParaRPr b="1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30040" indent="-230040">
              <a:lnSpc>
                <a:spcPct val="90000"/>
              </a:lnSpc>
              <a:spcBef>
                <a:spcPts val="561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The web has average of 19 links</a:t>
            </a:r>
            <a:endParaRPr b="1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30040" indent="-230040">
              <a:lnSpc>
                <a:spcPct val="90000"/>
              </a:lnSpc>
              <a:spcBef>
                <a:spcPts val="561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The problem with this view</a:t>
            </a:r>
            <a:endParaRPr b="1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439560" indent="-207720">
              <a:lnSpc>
                <a:spcPct val="90000"/>
              </a:lnSpc>
              <a:spcBef>
                <a:spcPts val="488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1" lang="en-US" sz="1300" spc="-1" strike="noStrike">
                <a:solidFill>
                  <a:srgbClr val="0099ff"/>
                </a:solidFill>
                <a:latin typeface="Verdana"/>
              </a:rPr>
              <a:t>Finding nodes (exponential increase)</a:t>
            </a:r>
            <a:endParaRPr b="1" lang="en-US" sz="1300" spc="-1" strike="noStrike">
              <a:solidFill>
                <a:srgbClr val="0099ff"/>
              </a:solidFill>
              <a:latin typeface="Verdana"/>
            </a:endParaRPr>
          </a:p>
          <a:p>
            <a:pPr lvl="1" marL="439560" indent="-207720">
              <a:lnSpc>
                <a:spcPct val="90000"/>
              </a:lnSpc>
              <a:spcBef>
                <a:spcPts val="488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1" lang="en-US" sz="1300" spc="-1" strike="noStrike">
                <a:solidFill>
                  <a:srgbClr val="0099ff"/>
                </a:solidFill>
                <a:latin typeface="Verdana"/>
              </a:rPr>
              <a:t>Not finding the shortest path</a:t>
            </a:r>
            <a:endParaRPr b="1" lang="en-US" sz="1300" spc="-1" strike="noStrike">
              <a:solidFill>
                <a:srgbClr val="0099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6200" y="222120"/>
            <a:ext cx="4257720" cy="36360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23400" bIns="23400" anchor="t">
            <a:no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Verdana"/>
              </a:rPr>
              <a:t>Weak Links &amp; Clusters</a:t>
            </a:r>
            <a:endParaRPr b="1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66200" y="838080"/>
            <a:ext cx="4257720" cy="18518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23400" bIns="23400" anchor="t">
            <a:normAutofit/>
          </a:bodyPr>
          <a:p>
            <a:pPr marL="230040" indent="-230040">
              <a:lnSpc>
                <a:spcPct val="90000"/>
              </a:lnSpc>
              <a:spcBef>
                <a:spcPts val="638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The importance of weak links</a:t>
            </a:r>
            <a:endParaRPr b="1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30040" indent="0">
              <a:lnSpc>
                <a:spcPct val="90000"/>
              </a:lnSpc>
              <a:spcBef>
                <a:spcPts val="638"/>
              </a:spcBef>
              <a:buNone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endParaRPr b="1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30040" indent="0">
              <a:lnSpc>
                <a:spcPct val="90000"/>
              </a:lnSpc>
              <a:spcBef>
                <a:spcPts val="638"/>
              </a:spcBef>
              <a:buNone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endParaRPr b="1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30040" indent="-230040">
              <a:lnSpc>
                <a:spcPct val="90000"/>
              </a:lnSpc>
              <a:spcBef>
                <a:spcPts val="638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Clustering Coefficient</a:t>
            </a:r>
            <a:endParaRPr b="1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30040" indent="-230040">
              <a:lnSpc>
                <a:spcPct val="90000"/>
              </a:lnSpc>
              <a:spcBef>
                <a:spcPts val="638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Small World Network</a:t>
            </a:r>
            <a:endParaRPr b="1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30040" indent="0">
              <a:lnSpc>
                <a:spcPct val="90000"/>
              </a:lnSpc>
              <a:spcBef>
                <a:spcPts val="638"/>
              </a:spcBef>
              <a:buNone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endParaRPr b="1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1" name="SmallWorld2" descr=""/>
          <p:cNvPicPr/>
          <p:nvPr/>
        </p:nvPicPr>
        <p:blipFill>
          <a:blip r:embed="rId2"/>
          <a:stretch/>
        </p:blipFill>
        <p:spPr>
          <a:xfrm>
            <a:off x="3352680" y="2133720"/>
            <a:ext cx="1289160" cy="13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kevin_bacon_tp" descr=""/>
          <p:cNvPicPr/>
          <p:nvPr/>
        </p:nvPicPr>
        <p:blipFill>
          <a:blip r:embed="rId2"/>
          <a:stretch/>
        </p:blipFill>
        <p:spPr>
          <a:xfrm>
            <a:off x="609480" y="309600"/>
            <a:ext cx="3508560" cy="25560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762120" y="2895480"/>
            <a:ext cx="365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Kevin Bacon G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66200" y="222120"/>
            <a:ext cx="4257720" cy="36360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23400" bIns="23400" anchor="t">
            <a:no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Verdana"/>
              </a:rPr>
              <a:t>Connectors &amp; Democracy</a:t>
            </a:r>
            <a:endParaRPr b="1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66200" y="838080"/>
            <a:ext cx="4257720" cy="87120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23400" bIns="23400" anchor="t">
            <a:normAutofit/>
          </a:bodyPr>
          <a:p>
            <a:pPr marL="230040" indent="-230040">
              <a:lnSpc>
                <a:spcPct val="90000"/>
              </a:lnSpc>
              <a:spcBef>
                <a:spcPts val="638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Incoming links in nd.edu &amp; Web</a:t>
            </a:r>
            <a:endParaRPr b="1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439560" indent="-207720">
              <a:lnSpc>
                <a:spcPct val="90000"/>
              </a:lnSpc>
              <a:spcBef>
                <a:spcPts val="561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1" lang="en-US" sz="1500" spc="-1" strike="noStrike">
                <a:solidFill>
                  <a:srgbClr val="0099ff"/>
                </a:solidFill>
                <a:latin typeface="Verdana"/>
              </a:rPr>
              <a:t>Distribution of connectors (hubs)</a:t>
            </a:r>
            <a:endParaRPr b="1" lang="en-US" sz="1500" spc="-1" strike="noStrike">
              <a:solidFill>
                <a:srgbClr val="0099ff"/>
              </a:solidFill>
              <a:latin typeface="Verdana"/>
            </a:endParaRPr>
          </a:p>
          <a:p>
            <a:pPr marL="230040" indent="0">
              <a:lnSpc>
                <a:spcPct val="90000"/>
              </a:lnSpc>
              <a:spcBef>
                <a:spcPts val="638"/>
              </a:spcBef>
              <a:buNone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endParaRPr b="1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6" name="highway_airline" descr=""/>
          <p:cNvPicPr/>
          <p:nvPr/>
        </p:nvPicPr>
        <p:blipFill>
          <a:blip r:embed="rId2"/>
          <a:stretch/>
        </p:blipFill>
        <p:spPr>
          <a:xfrm>
            <a:off x="1219320" y="1447920"/>
            <a:ext cx="2203200" cy="185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fig7_1" descr=""/>
          <p:cNvPicPr/>
          <p:nvPr/>
        </p:nvPicPr>
        <p:blipFill>
          <a:blip r:embed="rId2"/>
          <a:stretch/>
        </p:blipFill>
        <p:spPr>
          <a:xfrm>
            <a:off x="790560" y="254160"/>
            <a:ext cx="2943360" cy="1206360"/>
          </a:xfrm>
          <a:prstGeom prst="rect">
            <a:avLst/>
          </a:prstGeom>
          <a:ln w="0">
            <a:noFill/>
          </a:ln>
        </p:spPr>
      </p:pic>
      <p:pic>
        <p:nvPicPr>
          <p:cNvPr id="198" name="exp_scale" descr=""/>
          <p:cNvPicPr/>
          <p:nvPr/>
        </p:nvPicPr>
        <p:blipFill>
          <a:blip r:embed="rId3"/>
          <a:stretch/>
        </p:blipFill>
        <p:spPr>
          <a:xfrm>
            <a:off x="1676520" y="1676520"/>
            <a:ext cx="1288800" cy="122868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533520" y="2971800"/>
            <a:ext cx="365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ale-free Net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666880" y="14479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eferential Attach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66200" y="222120"/>
            <a:ext cx="4257720" cy="36360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23400" bIns="23400" anchor="t">
            <a:no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Verdana"/>
              </a:rPr>
              <a:t>Producers &amp; Consumers</a:t>
            </a:r>
            <a:endParaRPr b="1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"/>
          <p:cNvSpPr/>
          <p:nvPr/>
        </p:nvSpPr>
        <p:spPr>
          <a:xfrm>
            <a:off x="1803240" y="1263600"/>
            <a:ext cx="119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063800" y="1355760"/>
            <a:ext cx="12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266840" y="1260360"/>
            <a:ext cx="10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266840" y="1455840"/>
            <a:ext cx="10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NVTech_busi0394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366920" y="1405080"/>
            <a:ext cx="152280" cy="102960"/>
          </a:xfrm>
          <a:prstGeom prst="rect">
            <a:avLst/>
          </a:prstGeom>
          <a:ln w="0">
            <a:noFill/>
          </a:ln>
        </p:spPr>
      </p:pic>
      <p:pic>
        <p:nvPicPr>
          <p:cNvPr id="207" name="NVTech_busi0133" descr="Computer card clipart"/>
          <p:cNvPicPr/>
          <p:nvPr/>
        </p:nvPicPr>
        <p:blipFill>
          <a:blip r:embed="rId4"/>
          <a:stretch/>
        </p:blipFill>
        <p:spPr>
          <a:xfrm>
            <a:off x="1341360" y="1203480"/>
            <a:ext cx="203400" cy="141120"/>
          </a:xfrm>
          <a:prstGeom prst="rect">
            <a:avLst/>
          </a:prstGeom>
          <a:ln w="0">
            <a:noFill/>
          </a:ln>
        </p:spPr>
      </p:pic>
      <p:pic>
        <p:nvPicPr>
          <p:cNvPr id="208" name="lan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544760" y="1077840"/>
            <a:ext cx="303120" cy="30312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1494000" y="1455840"/>
            <a:ext cx="428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023920" y="1355760"/>
            <a:ext cx="12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149560" y="1044720"/>
            <a:ext cx="691920" cy="623880"/>
          </a:xfrm>
          <a:prstGeom prst="cloudCallout">
            <a:avLst>
              <a:gd name="adj1" fmla="val 2180"/>
              <a:gd name="adj2" fmla="val -11402"/>
            </a:avLst>
          </a:prstGeom>
          <a:noFill/>
          <a:ln w="1260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fakevbns-shot2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281320" y="1241280"/>
            <a:ext cx="361800" cy="26532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3579840" y="1263600"/>
            <a:ext cx="12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841480" y="1355760"/>
            <a:ext cx="12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043080" y="1260360"/>
            <a:ext cx="10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043080" y="1455840"/>
            <a:ext cx="35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NVTech_busi0394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3400560" y="1405080"/>
            <a:ext cx="150840" cy="102960"/>
          </a:xfrm>
          <a:prstGeom prst="rect">
            <a:avLst/>
          </a:prstGeom>
          <a:ln w="0">
            <a:noFill/>
          </a:ln>
        </p:spPr>
      </p:pic>
      <p:pic>
        <p:nvPicPr>
          <p:cNvPr id="218" name="NVTech_busi0133" descr="Computer card clipart"/>
          <p:cNvPicPr/>
          <p:nvPr/>
        </p:nvPicPr>
        <p:blipFill>
          <a:blip r:embed="rId11"/>
          <a:stretch/>
        </p:blipFill>
        <p:spPr>
          <a:xfrm>
            <a:off x="3460680" y="1209600"/>
            <a:ext cx="203400" cy="139680"/>
          </a:xfrm>
          <a:prstGeom prst="rect">
            <a:avLst/>
          </a:prstGeom>
          <a:ln w="0">
            <a:noFill/>
          </a:ln>
        </p:spPr>
      </p:pic>
      <p:pic>
        <p:nvPicPr>
          <p:cNvPr id="219" name="lan" descr="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3164040" y="1077840"/>
            <a:ext cx="301320" cy="30312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3565440" y="1455840"/>
            <a:ext cx="133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800520" y="1355760"/>
            <a:ext cx="12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servers" descr="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2479680" y="1109520"/>
            <a:ext cx="262080" cy="168480"/>
          </a:xfrm>
          <a:prstGeom prst="rect">
            <a:avLst/>
          </a:prstGeom>
          <a:ln w="0">
            <a:noFill/>
          </a:ln>
        </p:spPr>
      </p:pic>
      <p:grpSp>
        <p:nvGrpSpPr>
          <p:cNvPr id="223" name=""/>
          <p:cNvGrpSpPr/>
          <p:nvPr/>
        </p:nvGrpSpPr>
        <p:grpSpPr>
          <a:xfrm>
            <a:off x="636480" y="1143000"/>
            <a:ext cx="505080" cy="529920"/>
            <a:chOff x="636480" y="1143000"/>
            <a:chExt cx="505080" cy="529920"/>
          </a:xfrm>
        </p:grpSpPr>
        <p:pic>
          <p:nvPicPr>
            <p:cNvPr id="224" name="media" descr="">
              <a:hlinkClick r:id="rId16"/>
            </p:cNvPr>
            <p:cNvPicPr/>
            <p:nvPr/>
          </p:nvPicPr>
          <p:blipFill>
            <a:blip r:embed="rId17"/>
            <a:stretch/>
          </p:blipFill>
          <p:spPr>
            <a:xfrm>
              <a:off x="1002960" y="1526400"/>
              <a:ext cx="138600" cy="14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" name="Books" descr="">
              <a:hlinkClick r:id="rId18"/>
            </p:cNvPr>
            <p:cNvPicPr/>
            <p:nvPr/>
          </p:nvPicPr>
          <p:blipFill>
            <a:blip r:embed="rId19"/>
            <a:stretch/>
          </p:blipFill>
          <p:spPr>
            <a:xfrm>
              <a:off x="883800" y="1542600"/>
              <a:ext cx="117720" cy="10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6" name="papers" descr="">
              <a:hlinkClick r:id="rId20"/>
            </p:cNvPr>
            <p:cNvPicPr/>
            <p:nvPr/>
          </p:nvPicPr>
          <p:blipFill>
            <a:blip r:embed="rId21"/>
            <a:stretch/>
          </p:blipFill>
          <p:spPr>
            <a:xfrm>
              <a:off x="780480" y="1516680"/>
              <a:ext cx="147240" cy="12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" name="MasterBasics01" descr="">
              <a:hlinkClick r:id="rId22"/>
            </p:cNvPr>
            <p:cNvPicPr/>
            <p:nvPr/>
          </p:nvPicPr>
          <p:blipFill>
            <a:blip r:embed="rId23"/>
            <a:stretch/>
          </p:blipFill>
          <p:spPr>
            <a:xfrm>
              <a:off x="636480" y="1143000"/>
              <a:ext cx="495360" cy="38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883800" y="1394280"/>
              <a:ext cx="58680" cy="132120"/>
            </a:xfrm>
            <a:prstGeom prst="upArrow">
              <a:avLst>
                <a:gd name="adj1" fmla="val 50000"/>
                <a:gd name="adj2" fmla="val 56288"/>
              </a:avLst>
            </a:prstGeom>
            <a:gradFill rotWithShape="0">
              <a:gsLst>
                <a:gs pos="0">
                  <a:srgbClr val="ffff99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19594800">
              <a:off x="993240" y="1366920"/>
              <a:ext cx="58680" cy="161280"/>
            </a:xfrm>
            <a:prstGeom prst="upArrow">
              <a:avLst>
                <a:gd name="adj1" fmla="val 50000"/>
                <a:gd name="adj2" fmla="val 68712"/>
              </a:avLst>
            </a:prstGeom>
            <a:gradFill rotWithShape="0">
              <a:gsLst>
                <a:gs pos="0">
                  <a:srgbClr val="ffff99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3849840" y="1143000"/>
            <a:ext cx="504360" cy="529920"/>
            <a:chOff x="3849840" y="1143000"/>
            <a:chExt cx="504360" cy="529920"/>
          </a:xfrm>
        </p:grpSpPr>
        <p:pic>
          <p:nvPicPr>
            <p:cNvPr id="231" name="media" descr="">
              <a:hlinkClick r:id="rId24"/>
            </p:cNvPr>
            <p:cNvPicPr/>
            <p:nvPr/>
          </p:nvPicPr>
          <p:blipFill>
            <a:blip r:embed="rId25"/>
            <a:stretch/>
          </p:blipFill>
          <p:spPr>
            <a:xfrm>
              <a:off x="4215960" y="1526400"/>
              <a:ext cx="138240" cy="14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Books" descr="">
              <a:hlinkClick r:id="rId26"/>
            </p:cNvPr>
            <p:cNvPicPr/>
            <p:nvPr/>
          </p:nvPicPr>
          <p:blipFill>
            <a:blip r:embed="rId27"/>
            <a:stretch/>
          </p:blipFill>
          <p:spPr>
            <a:xfrm>
              <a:off x="4097160" y="1542600"/>
              <a:ext cx="117000" cy="10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" name="papers" descr="">
              <a:hlinkClick r:id="rId28"/>
            </p:cNvPr>
            <p:cNvPicPr/>
            <p:nvPr/>
          </p:nvPicPr>
          <p:blipFill>
            <a:blip r:embed="rId29"/>
            <a:stretch/>
          </p:blipFill>
          <p:spPr>
            <a:xfrm>
              <a:off x="3993840" y="1516320"/>
              <a:ext cx="147600" cy="12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" name="MasterBasics01" descr="">
              <a:hlinkClick r:id="rId30"/>
            </p:cNvPr>
            <p:cNvPicPr/>
            <p:nvPr/>
          </p:nvPicPr>
          <p:blipFill>
            <a:blip r:embed="rId31"/>
            <a:stretch/>
          </p:blipFill>
          <p:spPr>
            <a:xfrm>
              <a:off x="3849840" y="1143000"/>
              <a:ext cx="495000" cy="38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"/>
            <p:cNvSpPr/>
            <p:nvPr/>
          </p:nvSpPr>
          <p:spPr>
            <a:xfrm>
              <a:off x="4097160" y="1394280"/>
              <a:ext cx="59040" cy="132120"/>
            </a:xfrm>
            <a:prstGeom prst="upArrow">
              <a:avLst>
                <a:gd name="adj1" fmla="val 50000"/>
                <a:gd name="adj2" fmla="val 55945"/>
              </a:avLst>
            </a:prstGeom>
            <a:gradFill rotWithShape="0">
              <a:gsLst>
                <a:gs pos="0">
                  <a:srgbClr val="ffff99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 rot="19594800">
              <a:off x="4206600" y="1366560"/>
              <a:ext cx="58680" cy="161640"/>
            </a:xfrm>
            <a:prstGeom prst="upArrow">
              <a:avLst>
                <a:gd name="adj1" fmla="val 50000"/>
                <a:gd name="adj2" fmla="val 68865"/>
              </a:avLst>
            </a:prstGeom>
            <a:gradFill rotWithShape="0">
              <a:gsLst>
                <a:gs pos="0">
                  <a:srgbClr val="ffff99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09480" y="762120"/>
            <a:ext cx="3543480" cy="1374120"/>
            <a:chOff x="609480" y="762120"/>
            <a:chExt cx="3543480" cy="1374120"/>
          </a:xfrm>
        </p:grpSpPr>
        <p:grpSp>
          <p:nvGrpSpPr>
            <p:cNvPr id="238" name=""/>
            <p:cNvGrpSpPr/>
            <p:nvPr/>
          </p:nvGrpSpPr>
          <p:grpSpPr>
            <a:xfrm>
              <a:off x="609480" y="1779480"/>
              <a:ext cx="307440" cy="324000"/>
              <a:chOff x="609480" y="1779480"/>
              <a:chExt cx="307440" cy="324000"/>
            </a:xfrm>
          </p:grpSpPr>
          <p:pic>
            <p:nvPicPr>
              <p:cNvPr id="239" name="media" descr="">
                <a:hlinkClick r:id="rId32"/>
              </p:cNvPr>
              <p:cNvPicPr/>
              <p:nvPr/>
            </p:nvPicPr>
            <p:blipFill>
              <a:blip r:embed="rId33"/>
              <a:stretch/>
            </p:blipFill>
            <p:spPr>
              <a:xfrm>
                <a:off x="832680" y="2013840"/>
                <a:ext cx="84240" cy="89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0" name="Books" descr="">
                <a:hlinkClick r:id="rId34"/>
              </p:cNvPr>
              <p:cNvPicPr/>
              <p:nvPr/>
            </p:nvPicPr>
            <p:blipFill>
              <a:blip r:embed="rId35"/>
              <a:stretch/>
            </p:blipFill>
            <p:spPr>
              <a:xfrm>
                <a:off x="759960" y="2023920"/>
                <a:ext cx="71640" cy="64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1" name="papers" descr="">
                <a:hlinkClick r:id="rId36"/>
              </p:cNvPr>
              <p:cNvPicPr/>
              <p:nvPr/>
            </p:nvPicPr>
            <p:blipFill>
              <a:blip r:embed="rId37"/>
              <a:stretch/>
            </p:blipFill>
            <p:spPr>
              <a:xfrm>
                <a:off x="697320" y="2007720"/>
                <a:ext cx="89640" cy="77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2" name="MasterBasics01" descr="">
                <a:hlinkClick r:id="rId38"/>
              </p:cNvPr>
              <p:cNvPicPr/>
              <p:nvPr/>
            </p:nvPicPr>
            <p:blipFill>
              <a:blip r:embed="rId39"/>
              <a:stretch/>
            </p:blipFill>
            <p:spPr>
              <a:xfrm>
                <a:off x="609480" y="1779480"/>
                <a:ext cx="301680" cy="235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3" name=""/>
              <p:cNvSpPr/>
              <p:nvPr/>
            </p:nvSpPr>
            <p:spPr>
              <a:xfrm>
                <a:off x="759960" y="1933200"/>
                <a:ext cx="35640" cy="80640"/>
              </a:xfrm>
              <a:prstGeom prst="upArrow">
                <a:avLst>
                  <a:gd name="adj1" fmla="val 50000"/>
                  <a:gd name="adj2" fmla="val 56566"/>
                </a:avLst>
              </a:prstGeom>
              <a:gradFill rotWithShape="0">
                <a:gsLst>
                  <a:gs pos="0">
                    <a:srgbClr val="ffff99"/>
                  </a:gs>
                  <a:gs pos="100000">
                    <a:srgbClr val="ffff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19594800">
                <a:off x="826920" y="1916280"/>
                <a:ext cx="35640" cy="98640"/>
              </a:xfrm>
              <a:prstGeom prst="upArrow">
                <a:avLst>
                  <a:gd name="adj1" fmla="val 50000"/>
                  <a:gd name="adj2" fmla="val 69192"/>
                </a:avLst>
              </a:prstGeom>
              <a:gradFill rotWithShape="0">
                <a:gsLst>
                  <a:gs pos="0">
                    <a:srgbClr val="ffff99"/>
                  </a:gs>
                  <a:gs pos="100000">
                    <a:srgbClr val="ffff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1002960" y="1713960"/>
              <a:ext cx="307440" cy="324000"/>
              <a:chOff x="1002960" y="1713960"/>
              <a:chExt cx="307440" cy="324000"/>
            </a:xfrm>
          </p:grpSpPr>
          <p:pic>
            <p:nvPicPr>
              <p:cNvPr id="246" name="media" descr="">
                <a:hlinkClick r:id="rId40"/>
              </p:cNvPr>
              <p:cNvPicPr/>
              <p:nvPr/>
            </p:nvPicPr>
            <p:blipFill>
              <a:blip r:embed="rId41"/>
              <a:stretch/>
            </p:blipFill>
            <p:spPr>
              <a:xfrm>
                <a:off x="1226160" y="1948320"/>
                <a:ext cx="84240" cy="89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7" name="Books" descr="">
                <a:hlinkClick r:id="rId42"/>
              </p:cNvPr>
              <p:cNvPicPr/>
              <p:nvPr/>
            </p:nvPicPr>
            <p:blipFill>
              <a:blip r:embed="rId43"/>
              <a:stretch/>
            </p:blipFill>
            <p:spPr>
              <a:xfrm>
                <a:off x="1153440" y="1958400"/>
                <a:ext cx="71640" cy="64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8" name="papers" descr="">
                <a:hlinkClick r:id="rId44"/>
              </p:cNvPr>
              <p:cNvPicPr/>
              <p:nvPr/>
            </p:nvPicPr>
            <p:blipFill>
              <a:blip r:embed="rId45"/>
              <a:stretch/>
            </p:blipFill>
            <p:spPr>
              <a:xfrm>
                <a:off x="1090800" y="1942200"/>
                <a:ext cx="89640" cy="77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9" name="MasterBasics01" descr="">
                <a:hlinkClick r:id="rId46"/>
              </p:cNvPr>
              <p:cNvPicPr/>
              <p:nvPr/>
            </p:nvPicPr>
            <p:blipFill>
              <a:blip r:embed="rId47"/>
              <a:stretch/>
            </p:blipFill>
            <p:spPr>
              <a:xfrm>
                <a:off x="1002960" y="1713960"/>
                <a:ext cx="301680" cy="235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0" name=""/>
              <p:cNvSpPr/>
              <p:nvPr/>
            </p:nvSpPr>
            <p:spPr>
              <a:xfrm>
                <a:off x="1153440" y="1867680"/>
                <a:ext cx="35640" cy="80640"/>
              </a:xfrm>
              <a:prstGeom prst="upArrow">
                <a:avLst>
                  <a:gd name="adj1" fmla="val 50000"/>
                  <a:gd name="adj2" fmla="val 56566"/>
                </a:avLst>
              </a:prstGeom>
              <a:gradFill rotWithShape="0">
                <a:gsLst>
                  <a:gs pos="0">
                    <a:srgbClr val="ffff99"/>
                  </a:gs>
                  <a:gs pos="100000">
                    <a:srgbClr val="ffff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19594800">
                <a:off x="1220400" y="1850760"/>
                <a:ext cx="35640" cy="98640"/>
              </a:xfrm>
              <a:prstGeom prst="upArrow">
                <a:avLst>
                  <a:gd name="adj1" fmla="val 50000"/>
                  <a:gd name="adj2" fmla="val 69192"/>
                </a:avLst>
              </a:prstGeom>
              <a:gradFill rotWithShape="0">
                <a:gsLst>
                  <a:gs pos="0">
                    <a:srgbClr val="ffff99"/>
                  </a:gs>
                  <a:gs pos="100000">
                    <a:srgbClr val="ffff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2" name=""/>
            <p:cNvGrpSpPr/>
            <p:nvPr/>
          </p:nvGrpSpPr>
          <p:grpSpPr>
            <a:xfrm>
              <a:off x="642240" y="827640"/>
              <a:ext cx="307440" cy="324000"/>
              <a:chOff x="642240" y="827640"/>
              <a:chExt cx="307440" cy="324000"/>
            </a:xfrm>
          </p:grpSpPr>
          <p:pic>
            <p:nvPicPr>
              <p:cNvPr id="253" name="media" descr="">
                <a:hlinkClick r:id="rId48"/>
              </p:cNvPr>
              <p:cNvPicPr/>
              <p:nvPr/>
            </p:nvPicPr>
            <p:blipFill>
              <a:blip r:embed="rId49"/>
              <a:stretch/>
            </p:blipFill>
            <p:spPr>
              <a:xfrm>
                <a:off x="865440" y="1062000"/>
                <a:ext cx="84240" cy="89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4" name="Books" descr="">
                <a:hlinkClick r:id="rId50"/>
              </p:cNvPr>
              <p:cNvPicPr/>
              <p:nvPr/>
            </p:nvPicPr>
            <p:blipFill>
              <a:blip r:embed="rId51"/>
              <a:stretch/>
            </p:blipFill>
            <p:spPr>
              <a:xfrm>
                <a:off x="792720" y="1072080"/>
                <a:ext cx="71640" cy="64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5" name="papers" descr="">
                <a:hlinkClick r:id="rId52"/>
              </p:cNvPr>
              <p:cNvPicPr/>
              <p:nvPr/>
            </p:nvPicPr>
            <p:blipFill>
              <a:blip r:embed="rId53"/>
              <a:stretch/>
            </p:blipFill>
            <p:spPr>
              <a:xfrm>
                <a:off x="730080" y="1055880"/>
                <a:ext cx="89640" cy="77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6" name="MasterBasics01" descr="">
                <a:hlinkClick r:id="rId54"/>
              </p:cNvPr>
              <p:cNvPicPr/>
              <p:nvPr/>
            </p:nvPicPr>
            <p:blipFill>
              <a:blip r:embed="rId55"/>
              <a:stretch/>
            </p:blipFill>
            <p:spPr>
              <a:xfrm>
                <a:off x="642240" y="827640"/>
                <a:ext cx="301680" cy="235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7" name=""/>
              <p:cNvSpPr/>
              <p:nvPr/>
            </p:nvSpPr>
            <p:spPr>
              <a:xfrm>
                <a:off x="792720" y="981360"/>
                <a:ext cx="35640" cy="80640"/>
              </a:xfrm>
              <a:prstGeom prst="upArrow">
                <a:avLst>
                  <a:gd name="adj1" fmla="val 50000"/>
                  <a:gd name="adj2" fmla="val 56566"/>
                </a:avLst>
              </a:prstGeom>
              <a:gradFill rotWithShape="0">
                <a:gsLst>
                  <a:gs pos="0">
                    <a:srgbClr val="ffff99"/>
                  </a:gs>
                  <a:gs pos="100000">
                    <a:srgbClr val="ffff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19594800">
                <a:off x="859680" y="964440"/>
                <a:ext cx="35640" cy="98640"/>
              </a:xfrm>
              <a:prstGeom prst="upArrow">
                <a:avLst>
                  <a:gd name="adj1" fmla="val 50000"/>
                  <a:gd name="adj2" fmla="val 69192"/>
                </a:avLst>
              </a:prstGeom>
              <a:gradFill rotWithShape="0">
                <a:gsLst>
                  <a:gs pos="0">
                    <a:srgbClr val="ffff99"/>
                  </a:gs>
                  <a:gs pos="100000">
                    <a:srgbClr val="ffff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9" name=""/>
            <p:cNvGrpSpPr/>
            <p:nvPr/>
          </p:nvGrpSpPr>
          <p:grpSpPr>
            <a:xfrm>
              <a:off x="1002960" y="762120"/>
              <a:ext cx="307440" cy="324000"/>
              <a:chOff x="1002960" y="762120"/>
              <a:chExt cx="307440" cy="324000"/>
            </a:xfrm>
          </p:grpSpPr>
          <p:pic>
            <p:nvPicPr>
              <p:cNvPr id="260" name="media" descr="">
                <a:hlinkClick r:id="rId56"/>
              </p:cNvPr>
              <p:cNvPicPr/>
              <p:nvPr/>
            </p:nvPicPr>
            <p:blipFill>
              <a:blip r:embed="rId57"/>
              <a:stretch/>
            </p:blipFill>
            <p:spPr>
              <a:xfrm>
                <a:off x="1226160" y="996480"/>
                <a:ext cx="84240" cy="89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1" name="Books" descr="">
                <a:hlinkClick r:id="rId58"/>
              </p:cNvPr>
              <p:cNvPicPr/>
              <p:nvPr/>
            </p:nvPicPr>
            <p:blipFill>
              <a:blip r:embed="rId59"/>
              <a:stretch/>
            </p:blipFill>
            <p:spPr>
              <a:xfrm>
                <a:off x="1153440" y="1006560"/>
                <a:ext cx="71640" cy="64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2" name="papers" descr="">
                <a:hlinkClick r:id="rId60"/>
              </p:cNvPr>
              <p:cNvPicPr/>
              <p:nvPr/>
            </p:nvPicPr>
            <p:blipFill>
              <a:blip r:embed="rId61"/>
              <a:stretch/>
            </p:blipFill>
            <p:spPr>
              <a:xfrm>
                <a:off x="1090800" y="990360"/>
                <a:ext cx="89640" cy="77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3" name="MasterBasics01" descr="">
                <a:hlinkClick r:id="rId62"/>
              </p:cNvPr>
              <p:cNvPicPr/>
              <p:nvPr/>
            </p:nvPicPr>
            <p:blipFill>
              <a:blip r:embed="rId63"/>
              <a:stretch/>
            </p:blipFill>
            <p:spPr>
              <a:xfrm>
                <a:off x="1002960" y="762120"/>
                <a:ext cx="301680" cy="235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4" name=""/>
              <p:cNvSpPr/>
              <p:nvPr/>
            </p:nvSpPr>
            <p:spPr>
              <a:xfrm>
                <a:off x="1153440" y="915840"/>
                <a:ext cx="35640" cy="80640"/>
              </a:xfrm>
              <a:prstGeom prst="upArrow">
                <a:avLst>
                  <a:gd name="adj1" fmla="val 50000"/>
                  <a:gd name="adj2" fmla="val 56566"/>
                </a:avLst>
              </a:prstGeom>
              <a:gradFill rotWithShape="0">
                <a:gsLst>
                  <a:gs pos="0">
                    <a:srgbClr val="ffff99"/>
                  </a:gs>
                  <a:gs pos="100000">
                    <a:srgbClr val="ffff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594800">
                <a:off x="1220400" y="898920"/>
                <a:ext cx="35640" cy="98640"/>
              </a:xfrm>
              <a:prstGeom prst="upArrow">
                <a:avLst>
                  <a:gd name="adj1" fmla="val 50000"/>
                  <a:gd name="adj2" fmla="val 69192"/>
                </a:avLst>
              </a:prstGeom>
              <a:gradFill rotWithShape="0">
                <a:gsLst>
                  <a:gs pos="0">
                    <a:srgbClr val="ffff99"/>
                  </a:gs>
                  <a:gs pos="100000">
                    <a:srgbClr val="ffff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3451680" y="1812240"/>
              <a:ext cx="307440" cy="324000"/>
              <a:chOff x="3451680" y="1812240"/>
              <a:chExt cx="307440" cy="324000"/>
            </a:xfrm>
          </p:grpSpPr>
          <p:pic>
            <p:nvPicPr>
              <p:cNvPr id="267" name="media" descr="">
                <a:hlinkClick r:id="rId64"/>
              </p:cNvPr>
              <p:cNvPicPr/>
              <p:nvPr/>
            </p:nvPicPr>
            <p:blipFill>
              <a:blip r:embed="rId65"/>
              <a:stretch/>
            </p:blipFill>
            <p:spPr>
              <a:xfrm>
                <a:off x="3674880" y="2046600"/>
                <a:ext cx="84240" cy="89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8" name="Books" descr="">
                <a:hlinkClick r:id="rId66"/>
              </p:cNvPr>
              <p:cNvPicPr/>
              <p:nvPr/>
            </p:nvPicPr>
            <p:blipFill>
              <a:blip r:embed="rId67"/>
              <a:stretch/>
            </p:blipFill>
            <p:spPr>
              <a:xfrm>
                <a:off x="3602160" y="2056680"/>
                <a:ext cx="71640" cy="64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9" name="papers" descr="">
                <a:hlinkClick r:id="rId68"/>
              </p:cNvPr>
              <p:cNvPicPr/>
              <p:nvPr/>
            </p:nvPicPr>
            <p:blipFill>
              <a:blip r:embed="rId69"/>
              <a:stretch/>
            </p:blipFill>
            <p:spPr>
              <a:xfrm>
                <a:off x="3539520" y="2040480"/>
                <a:ext cx="89640" cy="77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0" name="MasterBasics01" descr="">
                <a:hlinkClick r:id="rId70"/>
              </p:cNvPr>
              <p:cNvPicPr/>
              <p:nvPr/>
            </p:nvPicPr>
            <p:blipFill>
              <a:blip r:embed="rId71"/>
              <a:stretch/>
            </p:blipFill>
            <p:spPr>
              <a:xfrm>
                <a:off x="3451680" y="1812240"/>
                <a:ext cx="301680" cy="235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1" name=""/>
              <p:cNvSpPr/>
              <p:nvPr/>
            </p:nvSpPr>
            <p:spPr>
              <a:xfrm>
                <a:off x="3602160" y="1965960"/>
                <a:ext cx="35640" cy="80640"/>
              </a:xfrm>
              <a:prstGeom prst="upArrow">
                <a:avLst>
                  <a:gd name="adj1" fmla="val 50000"/>
                  <a:gd name="adj2" fmla="val 56566"/>
                </a:avLst>
              </a:prstGeom>
              <a:gradFill rotWithShape="0">
                <a:gsLst>
                  <a:gs pos="0">
                    <a:srgbClr val="ffff99"/>
                  </a:gs>
                  <a:gs pos="100000">
                    <a:srgbClr val="ffff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19594800">
                <a:off x="3669120" y="1949040"/>
                <a:ext cx="35640" cy="98640"/>
              </a:xfrm>
              <a:prstGeom prst="upArrow">
                <a:avLst>
                  <a:gd name="adj1" fmla="val 50000"/>
                  <a:gd name="adj2" fmla="val 69192"/>
                </a:avLst>
              </a:prstGeom>
              <a:gradFill rotWithShape="0">
                <a:gsLst>
                  <a:gs pos="0">
                    <a:srgbClr val="ffff99"/>
                  </a:gs>
                  <a:gs pos="100000">
                    <a:srgbClr val="ffff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3845520" y="1746720"/>
              <a:ext cx="307440" cy="324000"/>
              <a:chOff x="3845520" y="1746720"/>
              <a:chExt cx="307440" cy="324000"/>
            </a:xfrm>
          </p:grpSpPr>
          <p:pic>
            <p:nvPicPr>
              <p:cNvPr id="274" name="media" descr="">
                <a:hlinkClick r:id="rId72"/>
              </p:cNvPr>
              <p:cNvPicPr/>
              <p:nvPr/>
            </p:nvPicPr>
            <p:blipFill>
              <a:blip r:embed="rId73"/>
              <a:stretch/>
            </p:blipFill>
            <p:spPr>
              <a:xfrm>
                <a:off x="4068720" y="1981080"/>
                <a:ext cx="84240" cy="89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5" name="Books" descr="">
                <a:hlinkClick r:id="rId74"/>
              </p:cNvPr>
              <p:cNvPicPr/>
              <p:nvPr/>
            </p:nvPicPr>
            <p:blipFill>
              <a:blip r:embed="rId75"/>
              <a:stretch/>
            </p:blipFill>
            <p:spPr>
              <a:xfrm>
                <a:off x="3996000" y="1991160"/>
                <a:ext cx="71640" cy="64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6" name="papers" descr="">
                <a:hlinkClick r:id="rId76"/>
              </p:cNvPr>
              <p:cNvPicPr/>
              <p:nvPr/>
            </p:nvPicPr>
            <p:blipFill>
              <a:blip r:embed="rId77"/>
              <a:stretch/>
            </p:blipFill>
            <p:spPr>
              <a:xfrm>
                <a:off x="3933360" y="1974960"/>
                <a:ext cx="89640" cy="77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7" name="MasterBasics01" descr="">
                <a:hlinkClick r:id="rId78"/>
              </p:cNvPr>
              <p:cNvPicPr/>
              <p:nvPr/>
            </p:nvPicPr>
            <p:blipFill>
              <a:blip r:embed="rId79"/>
              <a:stretch/>
            </p:blipFill>
            <p:spPr>
              <a:xfrm>
                <a:off x="3845520" y="1746720"/>
                <a:ext cx="301680" cy="235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8" name=""/>
              <p:cNvSpPr/>
              <p:nvPr/>
            </p:nvSpPr>
            <p:spPr>
              <a:xfrm>
                <a:off x="3996000" y="1900440"/>
                <a:ext cx="35640" cy="80640"/>
              </a:xfrm>
              <a:prstGeom prst="upArrow">
                <a:avLst>
                  <a:gd name="adj1" fmla="val 50000"/>
                  <a:gd name="adj2" fmla="val 56566"/>
                </a:avLst>
              </a:prstGeom>
              <a:gradFill rotWithShape="0">
                <a:gsLst>
                  <a:gs pos="0">
                    <a:srgbClr val="ffff99"/>
                  </a:gs>
                  <a:gs pos="100000">
                    <a:srgbClr val="ffff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594800">
                <a:off x="4062960" y="1883520"/>
                <a:ext cx="35640" cy="98640"/>
              </a:xfrm>
              <a:prstGeom prst="upArrow">
                <a:avLst>
                  <a:gd name="adj1" fmla="val 50000"/>
                  <a:gd name="adj2" fmla="val 69192"/>
                </a:avLst>
              </a:prstGeom>
              <a:gradFill rotWithShape="0">
                <a:gsLst>
                  <a:gs pos="0">
                    <a:srgbClr val="ffff99"/>
                  </a:gs>
                  <a:gs pos="100000">
                    <a:srgbClr val="ffff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0" name=""/>
            <p:cNvGrpSpPr/>
            <p:nvPr/>
          </p:nvGrpSpPr>
          <p:grpSpPr>
            <a:xfrm>
              <a:off x="3484440" y="860400"/>
              <a:ext cx="307440" cy="324000"/>
              <a:chOff x="3484440" y="860400"/>
              <a:chExt cx="307440" cy="324000"/>
            </a:xfrm>
          </p:grpSpPr>
          <p:pic>
            <p:nvPicPr>
              <p:cNvPr id="281" name="media" descr="">
                <a:hlinkClick r:id="rId80"/>
              </p:cNvPr>
              <p:cNvPicPr/>
              <p:nvPr/>
            </p:nvPicPr>
            <p:blipFill>
              <a:blip r:embed="rId81"/>
              <a:stretch/>
            </p:blipFill>
            <p:spPr>
              <a:xfrm>
                <a:off x="3707640" y="1094760"/>
                <a:ext cx="84240" cy="89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2" name="Books" descr="">
                <a:hlinkClick r:id="rId82"/>
              </p:cNvPr>
              <p:cNvPicPr/>
              <p:nvPr/>
            </p:nvPicPr>
            <p:blipFill>
              <a:blip r:embed="rId83"/>
              <a:stretch/>
            </p:blipFill>
            <p:spPr>
              <a:xfrm>
                <a:off x="3634920" y="1104840"/>
                <a:ext cx="71640" cy="64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3" name="papers" descr="">
                <a:hlinkClick r:id="rId84"/>
              </p:cNvPr>
              <p:cNvPicPr/>
              <p:nvPr/>
            </p:nvPicPr>
            <p:blipFill>
              <a:blip r:embed="rId85"/>
              <a:stretch/>
            </p:blipFill>
            <p:spPr>
              <a:xfrm>
                <a:off x="3572280" y="1088640"/>
                <a:ext cx="89640" cy="77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4" name="MasterBasics01" descr="">
                <a:hlinkClick r:id="rId86"/>
              </p:cNvPr>
              <p:cNvPicPr/>
              <p:nvPr/>
            </p:nvPicPr>
            <p:blipFill>
              <a:blip r:embed="rId87"/>
              <a:stretch/>
            </p:blipFill>
            <p:spPr>
              <a:xfrm>
                <a:off x="3484440" y="860400"/>
                <a:ext cx="301680" cy="235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5" name=""/>
              <p:cNvSpPr/>
              <p:nvPr/>
            </p:nvSpPr>
            <p:spPr>
              <a:xfrm>
                <a:off x="3634920" y="1014120"/>
                <a:ext cx="35640" cy="80640"/>
              </a:xfrm>
              <a:prstGeom prst="upArrow">
                <a:avLst>
                  <a:gd name="adj1" fmla="val 50000"/>
                  <a:gd name="adj2" fmla="val 56566"/>
                </a:avLst>
              </a:prstGeom>
              <a:gradFill rotWithShape="0">
                <a:gsLst>
                  <a:gs pos="0">
                    <a:srgbClr val="ffff99"/>
                  </a:gs>
                  <a:gs pos="100000">
                    <a:srgbClr val="ffff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9594800">
                <a:off x="3701880" y="997200"/>
                <a:ext cx="35640" cy="98640"/>
              </a:xfrm>
              <a:prstGeom prst="upArrow">
                <a:avLst>
                  <a:gd name="adj1" fmla="val 50000"/>
                  <a:gd name="adj2" fmla="val 69192"/>
                </a:avLst>
              </a:prstGeom>
              <a:gradFill rotWithShape="0">
                <a:gsLst>
                  <a:gs pos="0">
                    <a:srgbClr val="ffff99"/>
                  </a:gs>
                  <a:gs pos="100000">
                    <a:srgbClr val="ffff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7" name=""/>
            <p:cNvGrpSpPr/>
            <p:nvPr/>
          </p:nvGrpSpPr>
          <p:grpSpPr>
            <a:xfrm>
              <a:off x="3845520" y="794880"/>
              <a:ext cx="307440" cy="324000"/>
              <a:chOff x="3845520" y="794880"/>
              <a:chExt cx="307440" cy="324000"/>
            </a:xfrm>
          </p:grpSpPr>
          <p:pic>
            <p:nvPicPr>
              <p:cNvPr id="288" name="media" descr="">
                <a:hlinkClick r:id="rId88"/>
              </p:cNvPr>
              <p:cNvPicPr/>
              <p:nvPr/>
            </p:nvPicPr>
            <p:blipFill>
              <a:blip r:embed="rId89"/>
              <a:stretch/>
            </p:blipFill>
            <p:spPr>
              <a:xfrm>
                <a:off x="4068720" y="1029240"/>
                <a:ext cx="84240" cy="89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9" name="Books" descr="">
                <a:hlinkClick r:id="rId90"/>
              </p:cNvPr>
              <p:cNvPicPr/>
              <p:nvPr/>
            </p:nvPicPr>
            <p:blipFill>
              <a:blip r:embed="rId91"/>
              <a:stretch/>
            </p:blipFill>
            <p:spPr>
              <a:xfrm>
                <a:off x="3996000" y="1039320"/>
                <a:ext cx="71640" cy="64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0" name="papers" descr="">
                <a:hlinkClick r:id="rId92"/>
              </p:cNvPr>
              <p:cNvPicPr/>
              <p:nvPr/>
            </p:nvPicPr>
            <p:blipFill>
              <a:blip r:embed="rId93"/>
              <a:stretch/>
            </p:blipFill>
            <p:spPr>
              <a:xfrm>
                <a:off x="3933360" y="1023120"/>
                <a:ext cx="89640" cy="77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1" name="MasterBasics01" descr="">
                <a:hlinkClick r:id="rId94"/>
              </p:cNvPr>
              <p:cNvPicPr/>
              <p:nvPr/>
            </p:nvPicPr>
            <p:blipFill>
              <a:blip r:embed="rId95"/>
              <a:stretch/>
            </p:blipFill>
            <p:spPr>
              <a:xfrm>
                <a:off x="3845520" y="794880"/>
                <a:ext cx="301680" cy="235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2" name=""/>
              <p:cNvSpPr/>
              <p:nvPr/>
            </p:nvSpPr>
            <p:spPr>
              <a:xfrm>
                <a:off x="3996000" y="948600"/>
                <a:ext cx="35640" cy="80640"/>
              </a:xfrm>
              <a:prstGeom prst="upArrow">
                <a:avLst>
                  <a:gd name="adj1" fmla="val 50000"/>
                  <a:gd name="adj2" fmla="val 56566"/>
                </a:avLst>
              </a:prstGeom>
              <a:gradFill rotWithShape="0">
                <a:gsLst>
                  <a:gs pos="0">
                    <a:srgbClr val="ffff99"/>
                  </a:gs>
                  <a:gs pos="100000">
                    <a:srgbClr val="ffff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9594800">
                <a:off x="4062960" y="931680"/>
                <a:ext cx="35640" cy="98640"/>
              </a:xfrm>
              <a:prstGeom prst="upArrow">
                <a:avLst>
                  <a:gd name="adj1" fmla="val 50000"/>
                  <a:gd name="adj2" fmla="val 69192"/>
                </a:avLst>
              </a:prstGeom>
              <a:gradFill rotWithShape="0">
                <a:gsLst>
                  <a:gs pos="0">
                    <a:srgbClr val="ffff99"/>
                  </a:gs>
                  <a:gs pos="100000">
                    <a:srgbClr val="ffff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94" name=""/>
          <p:cNvSpPr/>
          <p:nvPr/>
        </p:nvSpPr>
        <p:spPr>
          <a:xfrm>
            <a:off x="1371600" y="2438280"/>
            <a:ext cx="2819520" cy="85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More Consumers than Produce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umbersome to produ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Easier to form network amongst Consume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Examples: Scientific Community, Buyers-Selle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1192320" y="1236600"/>
            <a:ext cx="91800" cy="12240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192320" y="1359000"/>
            <a:ext cx="91800" cy="12204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905120" y="1247760"/>
            <a:ext cx="122040" cy="11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1905120" y="1358640"/>
            <a:ext cx="122040" cy="12204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V="1">
            <a:off x="2967120" y="1236600"/>
            <a:ext cx="92160" cy="12240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967120" y="1359000"/>
            <a:ext cx="92160" cy="12204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679920" y="1247760"/>
            <a:ext cx="122040" cy="11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3679920" y="1358640"/>
            <a:ext cx="122040" cy="12204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66200" y="222120"/>
            <a:ext cx="4257720" cy="36360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23400" bIns="23400" anchor="t">
            <a:no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Verdana"/>
              </a:rPr>
              <a:t>A Solution</a:t>
            </a:r>
            <a:endParaRPr b="1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1808280" y="1454040"/>
            <a:ext cx="11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068480" y="1546200"/>
            <a:ext cx="12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271520" y="1450800"/>
            <a:ext cx="10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271520" y="1646280"/>
            <a:ext cx="10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NVTech_busi0394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371600" y="1595520"/>
            <a:ext cx="152280" cy="102960"/>
          </a:xfrm>
          <a:prstGeom prst="rect">
            <a:avLst/>
          </a:prstGeom>
          <a:ln w="0">
            <a:noFill/>
          </a:ln>
        </p:spPr>
      </p:pic>
      <p:pic>
        <p:nvPicPr>
          <p:cNvPr id="309" name="NVTech_busi0133" descr="Computer card clipart"/>
          <p:cNvPicPr/>
          <p:nvPr/>
        </p:nvPicPr>
        <p:blipFill>
          <a:blip r:embed="rId4"/>
          <a:stretch/>
        </p:blipFill>
        <p:spPr>
          <a:xfrm>
            <a:off x="1346040" y="1393920"/>
            <a:ext cx="203400" cy="141120"/>
          </a:xfrm>
          <a:prstGeom prst="rect">
            <a:avLst/>
          </a:prstGeom>
          <a:ln w="0">
            <a:noFill/>
          </a:ln>
        </p:spPr>
      </p:pic>
      <p:pic>
        <p:nvPicPr>
          <p:cNvPr id="310" name="lan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549440" y="1268280"/>
            <a:ext cx="303120" cy="30348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1498680" y="1646280"/>
            <a:ext cx="428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028960" y="1546200"/>
            <a:ext cx="12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154240" y="1235160"/>
            <a:ext cx="692280" cy="623880"/>
          </a:xfrm>
          <a:prstGeom prst="cloudCallout">
            <a:avLst>
              <a:gd name="adj1" fmla="val 2180"/>
              <a:gd name="adj2" fmla="val -11402"/>
            </a:avLst>
          </a:prstGeom>
          <a:noFill/>
          <a:ln w="1260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fakevbns-shot2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286000" y="1432080"/>
            <a:ext cx="361800" cy="26496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3584520" y="1454040"/>
            <a:ext cx="12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846520" y="1546200"/>
            <a:ext cx="12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048120" y="1450800"/>
            <a:ext cx="99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048120" y="1646280"/>
            <a:ext cx="357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NVTech_busi0394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3405240" y="1595520"/>
            <a:ext cx="150840" cy="102960"/>
          </a:xfrm>
          <a:prstGeom prst="rect">
            <a:avLst/>
          </a:prstGeom>
          <a:ln w="0">
            <a:noFill/>
          </a:ln>
        </p:spPr>
      </p:pic>
      <p:pic>
        <p:nvPicPr>
          <p:cNvPr id="320" name="NVTech_busi0133" descr="Computer card clipart"/>
          <p:cNvPicPr/>
          <p:nvPr/>
        </p:nvPicPr>
        <p:blipFill>
          <a:blip r:embed="rId11"/>
          <a:stretch/>
        </p:blipFill>
        <p:spPr>
          <a:xfrm>
            <a:off x="3465360" y="1400040"/>
            <a:ext cx="203400" cy="139680"/>
          </a:xfrm>
          <a:prstGeom prst="rect">
            <a:avLst/>
          </a:prstGeom>
          <a:ln w="0">
            <a:noFill/>
          </a:ln>
        </p:spPr>
      </p:pic>
      <p:pic>
        <p:nvPicPr>
          <p:cNvPr id="321" name="lan" descr="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3168720" y="1268280"/>
            <a:ext cx="301680" cy="30348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3570120" y="1646280"/>
            <a:ext cx="133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805200" y="1546200"/>
            <a:ext cx="12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servers" descr="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2484360" y="1300320"/>
            <a:ext cx="262080" cy="168120"/>
          </a:xfrm>
          <a:prstGeom prst="rect">
            <a:avLst/>
          </a:prstGeom>
          <a:ln w="0">
            <a:noFill/>
          </a:ln>
        </p:spPr>
      </p:pic>
      <p:grpSp>
        <p:nvGrpSpPr>
          <p:cNvPr id="325" name=""/>
          <p:cNvGrpSpPr/>
          <p:nvPr/>
        </p:nvGrpSpPr>
        <p:grpSpPr>
          <a:xfrm>
            <a:off x="641520" y="1333440"/>
            <a:ext cx="504720" cy="529920"/>
            <a:chOff x="641520" y="1333440"/>
            <a:chExt cx="504720" cy="529920"/>
          </a:xfrm>
        </p:grpSpPr>
        <p:pic>
          <p:nvPicPr>
            <p:cNvPr id="326" name="media" descr="">
              <a:hlinkClick r:id="rId16"/>
            </p:cNvPr>
            <p:cNvPicPr/>
            <p:nvPr/>
          </p:nvPicPr>
          <p:blipFill>
            <a:blip r:embed="rId17"/>
            <a:stretch/>
          </p:blipFill>
          <p:spPr>
            <a:xfrm>
              <a:off x="1007640" y="1716840"/>
              <a:ext cx="138600" cy="14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7" name="Books" descr="">
              <a:hlinkClick r:id="rId18"/>
            </p:cNvPr>
            <p:cNvPicPr/>
            <p:nvPr/>
          </p:nvPicPr>
          <p:blipFill>
            <a:blip r:embed="rId19"/>
            <a:stretch/>
          </p:blipFill>
          <p:spPr>
            <a:xfrm>
              <a:off x="888840" y="1733040"/>
              <a:ext cx="117720" cy="10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8" name="papers" descr="">
              <a:hlinkClick r:id="rId20"/>
            </p:cNvPr>
            <p:cNvPicPr/>
            <p:nvPr/>
          </p:nvPicPr>
          <p:blipFill>
            <a:blip r:embed="rId21"/>
            <a:stretch/>
          </p:blipFill>
          <p:spPr>
            <a:xfrm>
              <a:off x="785520" y="1707120"/>
              <a:ext cx="147240" cy="12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9" name="MasterBasics01" descr="">
              <a:hlinkClick r:id="rId22"/>
            </p:cNvPr>
            <p:cNvPicPr/>
            <p:nvPr/>
          </p:nvPicPr>
          <p:blipFill>
            <a:blip r:embed="rId23"/>
            <a:stretch/>
          </p:blipFill>
          <p:spPr>
            <a:xfrm>
              <a:off x="641520" y="1333440"/>
              <a:ext cx="495000" cy="38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" name=""/>
            <p:cNvSpPr/>
            <p:nvPr/>
          </p:nvSpPr>
          <p:spPr>
            <a:xfrm>
              <a:off x="888840" y="1584720"/>
              <a:ext cx="58680" cy="132120"/>
            </a:xfrm>
            <a:prstGeom prst="upArrow">
              <a:avLst>
                <a:gd name="adj1" fmla="val 50000"/>
                <a:gd name="adj2" fmla="val 56288"/>
              </a:avLst>
            </a:prstGeom>
            <a:gradFill rotWithShape="0">
              <a:gsLst>
                <a:gs pos="0">
                  <a:srgbClr val="ffff99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 rot="19594800">
              <a:off x="997920" y="1557360"/>
              <a:ext cx="58680" cy="161280"/>
            </a:xfrm>
            <a:prstGeom prst="upArrow">
              <a:avLst>
                <a:gd name="adj1" fmla="val 50000"/>
                <a:gd name="adj2" fmla="val 68712"/>
              </a:avLst>
            </a:prstGeom>
            <a:gradFill rotWithShape="0">
              <a:gsLst>
                <a:gs pos="0">
                  <a:srgbClr val="ffff99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3854520" y="1333440"/>
            <a:ext cx="504360" cy="529920"/>
            <a:chOff x="3854520" y="1333440"/>
            <a:chExt cx="504360" cy="529920"/>
          </a:xfrm>
        </p:grpSpPr>
        <p:pic>
          <p:nvPicPr>
            <p:cNvPr id="333" name="media" descr="">
              <a:hlinkClick r:id="rId24"/>
            </p:cNvPr>
            <p:cNvPicPr/>
            <p:nvPr/>
          </p:nvPicPr>
          <p:blipFill>
            <a:blip r:embed="rId25"/>
            <a:stretch/>
          </p:blipFill>
          <p:spPr>
            <a:xfrm>
              <a:off x="4220640" y="1716840"/>
              <a:ext cx="138240" cy="14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4" name="Books" descr="">
              <a:hlinkClick r:id="rId26"/>
            </p:cNvPr>
            <p:cNvPicPr/>
            <p:nvPr/>
          </p:nvPicPr>
          <p:blipFill>
            <a:blip r:embed="rId27"/>
            <a:stretch/>
          </p:blipFill>
          <p:spPr>
            <a:xfrm>
              <a:off x="4101840" y="1733040"/>
              <a:ext cx="117000" cy="10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5" name="papers" descr="">
              <a:hlinkClick r:id="rId28"/>
            </p:cNvPr>
            <p:cNvPicPr/>
            <p:nvPr/>
          </p:nvPicPr>
          <p:blipFill>
            <a:blip r:embed="rId29"/>
            <a:stretch/>
          </p:blipFill>
          <p:spPr>
            <a:xfrm>
              <a:off x="3998520" y="1706760"/>
              <a:ext cx="147600" cy="12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6" name="MasterBasics01" descr="">
              <a:hlinkClick r:id="rId30"/>
            </p:cNvPr>
            <p:cNvPicPr/>
            <p:nvPr/>
          </p:nvPicPr>
          <p:blipFill>
            <a:blip r:embed="rId31"/>
            <a:stretch/>
          </p:blipFill>
          <p:spPr>
            <a:xfrm>
              <a:off x="3854520" y="1333440"/>
              <a:ext cx="495000" cy="38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"/>
            <p:cNvSpPr/>
            <p:nvPr/>
          </p:nvSpPr>
          <p:spPr>
            <a:xfrm>
              <a:off x="4101840" y="1584720"/>
              <a:ext cx="59040" cy="132120"/>
            </a:xfrm>
            <a:prstGeom prst="upArrow">
              <a:avLst>
                <a:gd name="adj1" fmla="val 50000"/>
                <a:gd name="adj2" fmla="val 55945"/>
              </a:avLst>
            </a:prstGeom>
            <a:gradFill rotWithShape="0">
              <a:gsLst>
                <a:gs pos="0">
                  <a:srgbClr val="ffff99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 rot="19594800">
              <a:off x="4211280" y="1557000"/>
              <a:ext cx="58680" cy="161640"/>
            </a:xfrm>
            <a:prstGeom prst="upArrow">
              <a:avLst>
                <a:gd name="adj1" fmla="val 50000"/>
                <a:gd name="adj2" fmla="val 68865"/>
              </a:avLst>
            </a:prstGeom>
            <a:gradFill rotWithShape="0">
              <a:gsLst>
                <a:gs pos="0">
                  <a:srgbClr val="ffff99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614520" y="952560"/>
            <a:ext cx="3543120" cy="1374840"/>
            <a:chOff x="614520" y="952560"/>
            <a:chExt cx="3543120" cy="1374840"/>
          </a:xfrm>
        </p:grpSpPr>
        <p:grpSp>
          <p:nvGrpSpPr>
            <p:cNvPr id="340" name=""/>
            <p:cNvGrpSpPr/>
            <p:nvPr/>
          </p:nvGrpSpPr>
          <p:grpSpPr>
            <a:xfrm>
              <a:off x="614520" y="1970280"/>
              <a:ext cx="307440" cy="324000"/>
              <a:chOff x="614520" y="1970280"/>
              <a:chExt cx="307440" cy="324000"/>
            </a:xfrm>
          </p:grpSpPr>
          <p:pic>
            <p:nvPicPr>
              <p:cNvPr id="341" name="media" descr="">
                <a:hlinkClick r:id="rId32"/>
              </p:cNvPr>
              <p:cNvPicPr/>
              <p:nvPr/>
            </p:nvPicPr>
            <p:blipFill>
              <a:blip r:embed="rId33"/>
              <a:stretch/>
            </p:blipFill>
            <p:spPr>
              <a:xfrm>
                <a:off x="837720" y="2204640"/>
                <a:ext cx="84240" cy="89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42" name="Books" descr="">
                <a:hlinkClick r:id="rId34"/>
              </p:cNvPr>
              <p:cNvPicPr/>
              <p:nvPr/>
            </p:nvPicPr>
            <p:blipFill>
              <a:blip r:embed="rId35"/>
              <a:stretch/>
            </p:blipFill>
            <p:spPr>
              <a:xfrm>
                <a:off x="765000" y="2214720"/>
                <a:ext cx="71640" cy="64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43" name="papers" descr="">
                <a:hlinkClick r:id="rId36"/>
              </p:cNvPr>
              <p:cNvPicPr/>
              <p:nvPr/>
            </p:nvPicPr>
            <p:blipFill>
              <a:blip r:embed="rId37"/>
              <a:stretch/>
            </p:blipFill>
            <p:spPr>
              <a:xfrm>
                <a:off x="702360" y="2198520"/>
                <a:ext cx="89640" cy="77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44" name="MasterBasics01" descr="">
                <a:hlinkClick r:id="rId38"/>
              </p:cNvPr>
              <p:cNvPicPr/>
              <p:nvPr/>
            </p:nvPicPr>
            <p:blipFill>
              <a:blip r:embed="rId39"/>
              <a:stretch/>
            </p:blipFill>
            <p:spPr>
              <a:xfrm>
                <a:off x="614520" y="1970280"/>
                <a:ext cx="301680" cy="235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5" name=""/>
              <p:cNvSpPr/>
              <p:nvPr/>
            </p:nvSpPr>
            <p:spPr>
              <a:xfrm>
                <a:off x="765000" y="2124000"/>
                <a:ext cx="35640" cy="80640"/>
              </a:xfrm>
              <a:prstGeom prst="upArrow">
                <a:avLst>
                  <a:gd name="adj1" fmla="val 50000"/>
                  <a:gd name="adj2" fmla="val 56566"/>
                </a:avLst>
              </a:prstGeom>
              <a:gradFill rotWithShape="0">
                <a:gsLst>
                  <a:gs pos="0">
                    <a:srgbClr val="ffff99"/>
                  </a:gs>
                  <a:gs pos="100000">
                    <a:srgbClr val="ffff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rot="19594800">
                <a:off x="831960" y="2107080"/>
                <a:ext cx="35640" cy="98640"/>
              </a:xfrm>
              <a:prstGeom prst="upArrow">
                <a:avLst>
                  <a:gd name="adj1" fmla="val 50000"/>
                  <a:gd name="adj2" fmla="val 69192"/>
                </a:avLst>
              </a:prstGeom>
              <a:gradFill rotWithShape="0">
                <a:gsLst>
                  <a:gs pos="0">
                    <a:srgbClr val="ffff99"/>
                  </a:gs>
                  <a:gs pos="100000">
                    <a:srgbClr val="ffff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7" name=""/>
            <p:cNvGrpSpPr/>
            <p:nvPr/>
          </p:nvGrpSpPr>
          <p:grpSpPr>
            <a:xfrm>
              <a:off x="1008000" y="1904400"/>
              <a:ext cx="307440" cy="324360"/>
              <a:chOff x="1008000" y="1904400"/>
              <a:chExt cx="307440" cy="324360"/>
            </a:xfrm>
          </p:grpSpPr>
          <p:pic>
            <p:nvPicPr>
              <p:cNvPr id="348" name="media" descr="">
                <a:hlinkClick r:id="rId40"/>
              </p:cNvPr>
              <p:cNvPicPr/>
              <p:nvPr/>
            </p:nvPicPr>
            <p:blipFill>
              <a:blip r:embed="rId41"/>
              <a:stretch/>
            </p:blipFill>
            <p:spPr>
              <a:xfrm>
                <a:off x="1231200" y="2139120"/>
                <a:ext cx="84240" cy="89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49" name="Books" descr="">
                <a:hlinkClick r:id="rId42"/>
              </p:cNvPr>
              <p:cNvPicPr/>
              <p:nvPr/>
            </p:nvPicPr>
            <p:blipFill>
              <a:blip r:embed="rId43"/>
              <a:stretch/>
            </p:blipFill>
            <p:spPr>
              <a:xfrm>
                <a:off x="1158480" y="2148840"/>
                <a:ext cx="71640" cy="64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0" name="papers" descr="">
                <a:hlinkClick r:id="rId44"/>
              </p:cNvPr>
              <p:cNvPicPr/>
              <p:nvPr/>
            </p:nvPicPr>
            <p:blipFill>
              <a:blip r:embed="rId45"/>
              <a:stretch/>
            </p:blipFill>
            <p:spPr>
              <a:xfrm>
                <a:off x="1095840" y="2133000"/>
                <a:ext cx="89640" cy="77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1" name="MasterBasics01" descr="">
                <a:hlinkClick r:id="rId46"/>
              </p:cNvPr>
              <p:cNvPicPr/>
              <p:nvPr/>
            </p:nvPicPr>
            <p:blipFill>
              <a:blip r:embed="rId47"/>
              <a:stretch/>
            </p:blipFill>
            <p:spPr>
              <a:xfrm>
                <a:off x="1008000" y="1904400"/>
                <a:ext cx="301680" cy="235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2" name=""/>
              <p:cNvSpPr/>
              <p:nvPr/>
            </p:nvSpPr>
            <p:spPr>
              <a:xfrm>
                <a:off x="1158480" y="2058120"/>
                <a:ext cx="35640" cy="80640"/>
              </a:xfrm>
              <a:prstGeom prst="upArrow">
                <a:avLst>
                  <a:gd name="adj1" fmla="val 50000"/>
                  <a:gd name="adj2" fmla="val 56566"/>
                </a:avLst>
              </a:prstGeom>
              <a:gradFill rotWithShape="0">
                <a:gsLst>
                  <a:gs pos="0">
                    <a:srgbClr val="ffff99"/>
                  </a:gs>
                  <a:gs pos="100000">
                    <a:srgbClr val="ffff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rot="19594800">
                <a:off x="1225440" y="2041560"/>
                <a:ext cx="35640" cy="98640"/>
              </a:xfrm>
              <a:prstGeom prst="upArrow">
                <a:avLst>
                  <a:gd name="adj1" fmla="val 50000"/>
                  <a:gd name="adj2" fmla="val 69192"/>
                </a:avLst>
              </a:prstGeom>
              <a:gradFill rotWithShape="0">
                <a:gsLst>
                  <a:gs pos="0">
                    <a:srgbClr val="ffff99"/>
                  </a:gs>
                  <a:gs pos="100000">
                    <a:srgbClr val="ffff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4" name=""/>
            <p:cNvGrpSpPr/>
            <p:nvPr/>
          </p:nvGrpSpPr>
          <p:grpSpPr>
            <a:xfrm>
              <a:off x="647280" y="1018080"/>
              <a:ext cx="307440" cy="324360"/>
              <a:chOff x="647280" y="1018080"/>
              <a:chExt cx="307440" cy="324360"/>
            </a:xfrm>
          </p:grpSpPr>
          <p:pic>
            <p:nvPicPr>
              <p:cNvPr id="355" name="media" descr="">
                <a:hlinkClick r:id="rId48"/>
              </p:cNvPr>
              <p:cNvPicPr/>
              <p:nvPr/>
            </p:nvPicPr>
            <p:blipFill>
              <a:blip r:embed="rId49"/>
              <a:stretch/>
            </p:blipFill>
            <p:spPr>
              <a:xfrm>
                <a:off x="870480" y="1252800"/>
                <a:ext cx="84240" cy="89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6" name="Books" descr="">
                <a:hlinkClick r:id="rId50"/>
              </p:cNvPr>
              <p:cNvPicPr/>
              <p:nvPr/>
            </p:nvPicPr>
            <p:blipFill>
              <a:blip r:embed="rId51"/>
              <a:stretch/>
            </p:blipFill>
            <p:spPr>
              <a:xfrm>
                <a:off x="797760" y="1262520"/>
                <a:ext cx="71640" cy="64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7" name="papers" descr="">
                <a:hlinkClick r:id="rId52"/>
              </p:cNvPr>
              <p:cNvPicPr/>
              <p:nvPr/>
            </p:nvPicPr>
            <p:blipFill>
              <a:blip r:embed="rId53"/>
              <a:stretch/>
            </p:blipFill>
            <p:spPr>
              <a:xfrm>
                <a:off x="735120" y="1246680"/>
                <a:ext cx="89640" cy="77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8" name="MasterBasics01" descr="">
                <a:hlinkClick r:id="rId54"/>
              </p:cNvPr>
              <p:cNvPicPr/>
              <p:nvPr/>
            </p:nvPicPr>
            <p:blipFill>
              <a:blip r:embed="rId55"/>
              <a:stretch/>
            </p:blipFill>
            <p:spPr>
              <a:xfrm>
                <a:off x="647280" y="1018080"/>
                <a:ext cx="301680" cy="235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9" name=""/>
              <p:cNvSpPr/>
              <p:nvPr/>
            </p:nvSpPr>
            <p:spPr>
              <a:xfrm>
                <a:off x="797760" y="1171800"/>
                <a:ext cx="35640" cy="80640"/>
              </a:xfrm>
              <a:prstGeom prst="upArrow">
                <a:avLst>
                  <a:gd name="adj1" fmla="val 50000"/>
                  <a:gd name="adj2" fmla="val 56566"/>
                </a:avLst>
              </a:prstGeom>
              <a:gradFill rotWithShape="0">
                <a:gsLst>
                  <a:gs pos="0">
                    <a:srgbClr val="ffff99"/>
                  </a:gs>
                  <a:gs pos="100000">
                    <a:srgbClr val="ffff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rot="19594800">
                <a:off x="864720" y="1155240"/>
                <a:ext cx="35640" cy="98640"/>
              </a:xfrm>
              <a:prstGeom prst="upArrow">
                <a:avLst>
                  <a:gd name="adj1" fmla="val 50000"/>
                  <a:gd name="adj2" fmla="val 69192"/>
                </a:avLst>
              </a:prstGeom>
              <a:gradFill rotWithShape="0">
                <a:gsLst>
                  <a:gs pos="0">
                    <a:srgbClr val="ffff99"/>
                  </a:gs>
                  <a:gs pos="100000">
                    <a:srgbClr val="ffff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1" name=""/>
            <p:cNvGrpSpPr/>
            <p:nvPr/>
          </p:nvGrpSpPr>
          <p:grpSpPr>
            <a:xfrm>
              <a:off x="1008000" y="952560"/>
              <a:ext cx="307440" cy="324000"/>
              <a:chOff x="1008000" y="952560"/>
              <a:chExt cx="307440" cy="324000"/>
            </a:xfrm>
          </p:grpSpPr>
          <p:pic>
            <p:nvPicPr>
              <p:cNvPr id="362" name="media" descr="">
                <a:hlinkClick r:id="rId56"/>
              </p:cNvPr>
              <p:cNvPicPr/>
              <p:nvPr/>
            </p:nvPicPr>
            <p:blipFill>
              <a:blip r:embed="rId57"/>
              <a:stretch/>
            </p:blipFill>
            <p:spPr>
              <a:xfrm>
                <a:off x="1231200" y="1186920"/>
                <a:ext cx="84240" cy="89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3" name="Books" descr="">
                <a:hlinkClick r:id="rId58"/>
              </p:cNvPr>
              <p:cNvPicPr/>
              <p:nvPr/>
            </p:nvPicPr>
            <p:blipFill>
              <a:blip r:embed="rId59"/>
              <a:stretch/>
            </p:blipFill>
            <p:spPr>
              <a:xfrm>
                <a:off x="1158480" y="1197000"/>
                <a:ext cx="71640" cy="64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4" name="papers" descr="">
                <a:hlinkClick r:id="rId60"/>
              </p:cNvPr>
              <p:cNvPicPr/>
              <p:nvPr/>
            </p:nvPicPr>
            <p:blipFill>
              <a:blip r:embed="rId61"/>
              <a:stretch/>
            </p:blipFill>
            <p:spPr>
              <a:xfrm>
                <a:off x="1095840" y="1180800"/>
                <a:ext cx="89640" cy="77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5" name="MasterBasics01" descr="">
                <a:hlinkClick r:id="rId62"/>
              </p:cNvPr>
              <p:cNvPicPr/>
              <p:nvPr/>
            </p:nvPicPr>
            <p:blipFill>
              <a:blip r:embed="rId63"/>
              <a:stretch/>
            </p:blipFill>
            <p:spPr>
              <a:xfrm>
                <a:off x="1008000" y="952560"/>
                <a:ext cx="301680" cy="235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6" name=""/>
              <p:cNvSpPr/>
              <p:nvPr/>
            </p:nvSpPr>
            <p:spPr>
              <a:xfrm>
                <a:off x="1158480" y="1106280"/>
                <a:ext cx="35640" cy="80640"/>
              </a:xfrm>
              <a:prstGeom prst="upArrow">
                <a:avLst>
                  <a:gd name="adj1" fmla="val 50000"/>
                  <a:gd name="adj2" fmla="val 56566"/>
                </a:avLst>
              </a:prstGeom>
              <a:gradFill rotWithShape="0">
                <a:gsLst>
                  <a:gs pos="0">
                    <a:srgbClr val="ffff99"/>
                  </a:gs>
                  <a:gs pos="100000">
                    <a:srgbClr val="ffff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rot="19594800">
                <a:off x="1225440" y="1089360"/>
                <a:ext cx="35640" cy="98640"/>
              </a:xfrm>
              <a:prstGeom prst="upArrow">
                <a:avLst>
                  <a:gd name="adj1" fmla="val 50000"/>
                  <a:gd name="adj2" fmla="val 69192"/>
                </a:avLst>
              </a:prstGeom>
              <a:gradFill rotWithShape="0">
                <a:gsLst>
                  <a:gs pos="0">
                    <a:srgbClr val="ffff99"/>
                  </a:gs>
                  <a:gs pos="100000">
                    <a:srgbClr val="ffff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8" name=""/>
            <p:cNvGrpSpPr/>
            <p:nvPr/>
          </p:nvGrpSpPr>
          <p:grpSpPr>
            <a:xfrm>
              <a:off x="3456360" y="2003040"/>
              <a:ext cx="307440" cy="324360"/>
              <a:chOff x="3456360" y="2003040"/>
              <a:chExt cx="307440" cy="324360"/>
            </a:xfrm>
          </p:grpSpPr>
          <p:pic>
            <p:nvPicPr>
              <p:cNvPr id="369" name="media" descr="">
                <a:hlinkClick r:id="rId64"/>
              </p:cNvPr>
              <p:cNvPicPr/>
              <p:nvPr/>
            </p:nvPicPr>
            <p:blipFill>
              <a:blip r:embed="rId65"/>
              <a:stretch/>
            </p:blipFill>
            <p:spPr>
              <a:xfrm>
                <a:off x="3679560" y="2237760"/>
                <a:ext cx="84240" cy="89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70" name="Books" descr="">
                <a:hlinkClick r:id="rId66"/>
              </p:cNvPr>
              <p:cNvPicPr/>
              <p:nvPr/>
            </p:nvPicPr>
            <p:blipFill>
              <a:blip r:embed="rId67"/>
              <a:stretch/>
            </p:blipFill>
            <p:spPr>
              <a:xfrm>
                <a:off x="3606840" y="2247480"/>
                <a:ext cx="71640" cy="64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71" name="papers" descr="">
                <a:hlinkClick r:id="rId68"/>
              </p:cNvPr>
              <p:cNvPicPr/>
              <p:nvPr/>
            </p:nvPicPr>
            <p:blipFill>
              <a:blip r:embed="rId69"/>
              <a:stretch/>
            </p:blipFill>
            <p:spPr>
              <a:xfrm>
                <a:off x="3544200" y="2231640"/>
                <a:ext cx="89640" cy="77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72" name="MasterBasics01" descr="">
                <a:hlinkClick r:id="rId70"/>
              </p:cNvPr>
              <p:cNvPicPr/>
              <p:nvPr/>
            </p:nvPicPr>
            <p:blipFill>
              <a:blip r:embed="rId71"/>
              <a:stretch/>
            </p:blipFill>
            <p:spPr>
              <a:xfrm>
                <a:off x="3456360" y="2003040"/>
                <a:ext cx="301680" cy="235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3" name=""/>
              <p:cNvSpPr/>
              <p:nvPr/>
            </p:nvSpPr>
            <p:spPr>
              <a:xfrm>
                <a:off x="3606840" y="2156760"/>
                <a:ext cx="35640" cy="80640"/>
              </a:xfrm>
              <a:prstGeom prst="upArrow">
                <a:avLst>
                  <a:gd name="adj1" fmla="val 50000"/>
                  <a:gd name="adj2" fmla="val 56566"/>
                </a:avLst>
              </a:prstGeom>
              <a:gradFill rotWithShape="0">
                <a:gsLst>
                  <a:gs pos="0">
                    <a:srgbClr val="ffff99"/>
                  </a:gs>
                  <a:gs pos="100000">
                    <a:srgbClr val="ffff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rot="19594800">
                <a:off x="3673800" y="2140200"/>
                <a:ext cx="35640" cy="98640"/>
              </a:xfrm>
              <a:prstGeom prst="upArrow">
                <a:avLst>
                  <a:gd name="adj1" fmla="val 50000"/>
                  <a:gd name="adj2" fmla="val 69192"/>
                </a:avLst>
              </a:prstGeom>
              <a:gradFill rotWithShape="0">
                <a:gsLst>
                  <a:gs pos="0">
                    <a:srgbClr val="ffff99"/>
                  </a:gs>
                  <a:gs pos="100000">
                    <a:srgbClr val="ffff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5" name=""/>
            <p:cNvGrpSpPr/>
            <p:nvPr/>
          </p:nvGrpSpPr>
          <p:grpSpPr>
            <a:xfrm>
              <a:off x="3850200" y="1937520"/>
              <a:ext cx="307440" cy="324000"/>
              <a:chOff x="3850200" y="1937520"/>
              <a:chExt cx="307440" cy="324000"/>
            </a:xfrm>
          </p:grpSpPr>
          <p:pic>
            <p:nvPicPr>
              <p:cNvPr id="376" name="media" descr="">
                <a:hlinkClick r:id="rId72"/>
              </p:cNvPr>
              <p:cNvPicPr/>
              <p:nvPr/>
            </p:nvPicPr>
            <p:blipFill>
              <a:blip r:embed="rId73"/>
              <a:stretch/>
            </p:blipFill>
            <p:spPr>
              <a:xfrm>
                <a:off x="4073400" y="2171880"/>
                <a:ext cx="84240" cy="89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77" name="Books" descr="">
                <a:hlinkClick r:id="rId74"/>
              </p:cNvPr>
              <p:cNvPicPr/>
              <p:nvPr/>
            </p:nvPicPr>
            <p:blipFill>
              <a:blip r:embed="rId75"/>
              <a:stretch/>
            </p:blipFill>
            <p:spPr>
              <a:xfrm>
                <a:off x="4000680" y="2181960"/>
                <a:ext cx="71640" cy="64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78" name="papers" descr="">
                <a:hlinkClick r:id="rId76"/>
              </p:cNvPr>
              <p:cNvPicPr/>
              <p:nvPr/>
            </p:nvPicPr>
            <p:blipFill>
              <a:blip r:embed="rId77"/>
              <a:stretch/>
            </p:blipFill>
            <p:spPr>
              <a:xfrm>
                <a:off x="3938040" y="2165760"/>
                <a:ext cx="89640" cy="77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79" name="MasterBasics01" descr="">
                <a:hlinkClick r:id="rId78"/>
              </p:cNvPr>
              <p:cNvPicPr/>
              <p:nvPr/>
            </p:nvPicPr>
            <p:blipFill>
              <a:blip r:embed="rId79"/>
              <a:stretch/>
            </p:blipFill>
            <p:spPr>
              <a:xfrm>
                <a:off x="3850200" y="1937520"/>
                <a:ext cx="301680" cy="235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0" name=""/>
              <p:cNvSpPr/>
              <p:nvPr/>
            </p:nvSpPr>
            <p:spPr>
              <a:xfrm>
                <a:off x="4000680" y="2091240"/>
                <a:ext cx="35640" cy="80640"/>
              </a:xfrm>
              <a:prstGeom prst="upArrow">
                <a:avLst>
                  <a:gd name="adj1" fmla="val 50000"/>
                  <a:gd name="adj2" fmla="val 56566"/>
                </a:avLst>
              </a:prstGeom>
              <a:gradFill rotWithShape="0">
                <a:gsLst>
                  <a:gs pos="0">
                    <a:srgbClr val="ffff99"/>
                  </a:gs>
                  <a:gs pos="100000">
                    <a:srgbClr val="ffff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rot="19594800">
                <a:off x="4067640" y="2074320"/>
                <a:ext cx="35640" cy="98640"/>
              </a:xfrm>
              <a:prstGeom prst="upArrow">
                <a:avLst>
                  <a:gd name="adj1" fmla="val 50000"/>
                  <a:gd name="adj2" fmla="val 69192"/>
                </a:avLst>
              </a:prstGeom>
              <a:gradFill rotWithShape="0">
                <a:gsLst>
                  <a:gs pos="0">
                    <a:srgbClr val="ffff99"/>
                  </a:gs>
                  <a:gs pos="100000">
                    <a:srgbClr val="ffff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2" name=""/>
            <p:cNvGrpSpPr/>
            <p:nvPr/>
          </p:nvGrpSpPr>
          <p:grpSpPr>
            <a:xfrm>
              <a:off x="3489480" y="1050840"/>
              <a:ext cx="307440" cy="324000"/>
              <a:chOff x="3489480" y="1050840"/>
              <a:chExt cx="307440" cy="324000"/>
            </a:xfrm>
          </p:grpSpPr>
          <p:pic>
            <p:nvPicPr>
              <p:cNvPr id="383" name="media" descr="">
                <a:hlinkClick r:id="rId80"/>
              </p:cNvPr>
              <p:cNvPicPr/>
              <p:nvPr/>
            </p:nvPicPr>
            <p:blipFill>
              <a:blip r:embed="rId81"/>
              <a:stretch/>
            </p:blipFill>
            <p:spPr>
              <a:xfrm>
                <a:off x="3712680" y="1285200"/>
                <a:ext cx="84240" cy="89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4" name="Books" descr="">
                <a:hlinkClick r:id="rId82"/>
              </p:cNvPr>
              <p:cNvPicPr/>
              <p:nvPr/>
            </p:nvPicPr>
            <p:blipFill>
              <a:blip r:embed="rId83"/>
              <a:stretch/>
            </p:blipFill>
            <p:spPr>
              <a:xfrm>
                <a:off x="3639960" y="1295280"/>
                <a:ext cx="71640" cy="64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5" name="papers" descr="">
                <a:hlinkClick r:id="rId84"/>
              </p:cNvPr>
              <p:cNvPicPr/>
              <p:nvPr/>
            </p:nvPicPr>
            <p:blipFill>
              <a:blip r:embed="rId85"/>
              <a:stretch/>
            </p:blipFill>
            <p:spPr>
              <a:xfrm>
                <a:off x="3577320" y="1279080"/>
                <a:ext cx="89640" cy="77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6" name="MasterBasics01" descr=""/>
              <p:cNvPicPr/>
              <p:nvPr/>
            </p:nvPicPr>
            <p:blipFill>
              <a:blip r:embed="rId86"/>
              <a:stretch/>
            </p:blipFill>
            <p:spPr>
              <a:xfrm>
                <a:off x="3489480" y="1050840"/>
                <a:ext cx="301680" cy="235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7" name=""/>
              <p:cNvSpPr/>
              <p:nvPr/>
            </p:nvSpPr>
            <p:spPr>
              <a:xfrm>
                <a:off x="3639960" y="1204560"/>
                <a:ext cx="35640" cy="80640"/>
              </a:xfrm>
              <a:prstGeom prst="upArrow">
                <a:avLst>
                  <a:gd name="adj1" fmla="val 50000"/>
                  <a:gd name="adj2" fmla="val 56566"/>
                </a:avLst>
              </a:prstGeom>
              <a:gradFill rotWithShape="0">
                <a:gsLst>
                  <a:gs pos="0">
                    <a:srgbClr val="ffff99"/>
                  </a:gs>
                  <a:gs pos="100000">
                    <a:srgbClr val="ffff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 rot="19594800">
                <a:off x="3706920" y="1187640"/>
                <a:ext cx="35640" cy="98640"/>
              </a:xfrm>
              <a:prstGeom prst="upArrow">
                <a:avLst>
                  <a:gd name="adj1" fmla="val 50000"/>
                  <a:gd name="adj2" fmla="val 69192"/>
                </a:avLst>
              </a:prstGeom>
              <a:gradFill rotWithShape="0">
                <a:gsLst>
                  <a:gs pos="0">
                    <a:srgbClr val="ffff99"/>
                  </a:gs>
                  <a:gs pos="100000">
                    <a:srgbClr val="ffff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9" name=""/>
            <p:cNvGrpSpPr/>
            <p:nvPr/>
          </p:nvGrpSpPr>
          <p:grpSpPr>
            <a:xfrm>
              <a:off x="3850200" y="985320"/>
              <a:ext cx="307440" cy="324000"/>
              <a:chOff x="3850200" y="985320"/>
              <a:chExt cx="307440" cy="324000"/>
            </a:xfrm>
          </p:grpSpPr>
          <p:pic>
            <p:nvPicPr>
              <p:cNvPr id="390" name="media" descr=""/>
              <p:cNvPicPr/>
              <p:nvPr/>
            </p:nvPicPr>
            <p:blipFill>
              <a:blip r:embed="rId87"/>
              <a:stretch/>
            </p:blipFill>
            <p:spPr>
              <a:xfrm>
                <a:off x="4073400" y="1219680"/>
                <a:ext cx="84240" cy="89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91" name="Books" descr=""/>
              <p:cNvPicPr/>
              <p:nvPr/>
            </p:nvPicPr>
            <p:blipFill>
              <a:blip r:embed="rId88"/>
              <a:stretch/>
            </p:blipFill>
            <p:spPr>
              <a:xfrm>
                <a:off x="4000680" y="1229760"/>
                <a:ext cx="71640" cy="64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92" name="papers" descr=""/>
              <p:cNvPicPr/>
              <p:nvPr/>
            </p:nvPicPr>
            <p:blipFill>
              <a:blip r:embed="rId89"/>
              <a:stretch/>
            </p:blipFill>
            <p:spPr>
              <a:xfrm>
                <a:off x="3938040" y="1213560"/>
                <a:ext cx="89640" cy="77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93" name="MasterBasics01" descr=""/>
              <p:cNvPicPr/>
              <p:nvPr/>
            </p:nvPicPr>
            <p:blipFill>
              <a:blip r:embed="rId90"/>
              <a:stretch/>
            </p:blipFill>
            <p:spPr>
              <a:xfrm>
                <a:off x="3850200" y="985320"/>
                <a:ext cx="301680" cy="235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4" name=""/>
              <p:cNvSpPr/>
              <p:nvPr/>
            </p:nvSpPr>
            <p:spPr>
              <a:xfrm>
                <a:off x="4000680" y="1139040"/>
                <a:ext cx="35640" cy="80640"/>
              </a:xfrm>
              <a:prstGeom prst="upArrow">
                <a:avLst>
                  <a:gd name="adj1" fmla="val 50000"/>
                  <a:gd name="adj2" fmla="val 56566"/>
                </a:avLst>
              </a:prstGeom>
              <a:gradFill rotWithShape="0">
                <a:gsLst>
                  <a:gs pos="0">
                    <a:srgbClr val="ffff99"/>
                  </a:gs>
                  <a:gs pos="100000">
                    <a:srgbClr val="ffff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rot="19594800">
                <a:off x="4067640" y="1122120"/>
                <a:ext cx="35640" cy="98640"/>
              </a:xfrm>
              <a:prstGeom prst="upArrow">
                <a:avLst>
                  <a:gd name="adj1" fmla="val 50000"/>
                  <a:gd name="adj2" fmla="val 69192"/>
                </a:avLst>
              </a:prstGeom>
              <a:gradFill rotWithShape="0">
                <a:gsLst>
                  <a:gs pos="0">
                    <a:srgbClr val="ffff99"/>
                  </a:gs>
                  <a:gs pos="100000">
                    <a:srgbClr val="ffff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96" name=""/>
          <p:cNvSpPr/>
          <p:nvPr/>
        </p:nvSpPr>
        <p:spPr>
          <a:xfrm flipV="1">
            <a:off x="1197000" y="1427040"/>
            <a:ext cx="92160" cy="12240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1197000" y="1549440"/>
            <a:ext cx="92160" cy="12204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1909800" y="1438200"/>
            <a:ext cx="122040" cy="11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1909800" y="1549080"/>
            <a:ext cx="122040" cy="12204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V="1">
            <a:off x="2971800" y="1427040"/>
            <a:ext cx="92160" cy="12240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2971800" y="1549440"/>
            <a:ext cx="92160" cy="12204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684600" y="1438200"/>
            <a:ext cx="122400" cy="11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 flipV="1">
            <a:off x="3684600" y="1549080"/>
            <a:ext cx="122400" cy="12204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525600" y="925560"/>
            <a:ext cx="3822120" cy="1339560"/>
            <a:chOff x="525600" y="925560"/>
            <a:chExt cx="3822120" cy="1339560"/>
          </a:xfrm>
        </p:grpSpPr>
        <p:sp>
          <p:nvSpPr>
            <p:cNvPr id="405" name=""/>
            <p:cNvSpPr/>
            <p:nvPr/>
          </p:nvSpPr>
          <p:spPr>
            <a:xfrm>
              <a:off x="3720960" y="1304280"/>
              <a:ext cx="626760" cy="527040"/>
            </a:xfrm>
            <a:prstGeom prst="ellipse">
              <a:avLst/>
            </a:prstGeom>
            <a:solidFill>
              <a:srgbClr val="ff33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6" name=""/>
            <p:cNvGrpSpPr/>
            <p:nvPr/>
          </p:nvGrpSpPr>
          <p:grpSpPr>
            <a:xfrm>
              <a:off x="525600" y="925560"/>
              <a:ext cx="3714120" cy="1339560"/>
              <a:chOff x="525600" y="925560"/>
              <a:chExt cx="3714120" cy="1339560"/>
            </a:xfrm>
          </p:grpSpPr>
          <p:sp>
            <p:nvSpPr>
              <p:cNvPr id="407" name=""/>
              <p:cNvSpPr/>
              <p:nvPr/>
            </p:nvSpPr>
            <p:spPr>
              <a:xfrm>
                <a:off x="3880440" y="925560"/>
                <a:ext cx="359280" cy="301680"/>
              </a:xfrm>
              <a:prstGeom prst="ellipse">
                <a:avLst/>
              </a:prstGeom>
              <a:solidFill>
                <a:srgbClr val="ff33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3495600" y="1007640"/>
                <a:ext cx="359280" cy="302040"/>
              </a:xfrm>
              <a:prstGeom prst="ellipse">
                <a:avLst/>
              </a:prstGeom>
              <a:solidFill>
                <a:srgbClr val="ff33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3863880" y="1902960"/>
                <a:ext cx="359640" cy="301680"/>
              </a:xfrm>
              <a:prstGeom prst="ellipse">
                <a:avLst/>
              </a:prstGeom>
              <a:solidFill>
                <a:srgbClr val="ff33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3457080" y="1963440"/>
                <a:ext cx="359280" cy="301680"/>
              </a:xfrm>
              <a:prstGeom prst="ellipse">
                <a:avLst/>
              </a:prstGeom>
              <a:solidFill>
                <a:srgbClr val="ff33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1009440" y="1859040"/>
                <a:ext cx="359280" cy="302040"/>
              </a:xfrm>
              <a:prstGeom prst="ellipse">
                <a:avLst/>
              </a:prstGeom>
              <a:solidFill>
                <a:srgbClr val="ff33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602280" y="1936080"/>
                <a:ext cx="359280" cy="302040"/>
              </a:xfrm>
              <a:prstGeom prst="ellipse">
                <a:avLst/>
              </a:prstGeom>
              <a:solidFill>
                <a:srgbClr val="ff33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1004040" y="930960"/>
                <a:ext cx="359280" cy="302040"/>
              </a:xfrm>
              <a:prstGeom prst="ellipse">
                <a:avLst/>
              </a:prstGeom>
              <a:solidFill>
                <a:srgbClr val="ff33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613440" y="969120"/>
                <a:ext cx="359280" cy="302040"/>
              </a:xfrm>
              <a:prstGeom prst="ellipse">
                <a:avLst/>
              </a:prstGeom>
              <a:solidFill>
                <a:srgbClr val="ff33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525600" y="1320840"/>
                <a:ext cx="626760" cy="527040"/>
              </a:xfrm>
              <a:prstGeom prst="ellipse">
                <a:avLst/>
              </a:prstGeom>
              <a:solidFill>
                <a:srgbClr val="ff33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16" name=""/>
          <p:cNvSpPr/>
          <p:nvPr/>
        </p:nvSpPr>
        <p:spPr>
          <a:xfrm>
            <a:off x="1389240" y="1486080"/>
            <a:ext cx="2349360" cy="560160"/>
          </a:xfrm>
          <a:custGeom>
            <a:avLst/>
            <a:gdLst/>
            <a:ahLst/>
            <a:rect l="l" t="t" r="r" b="b"/>
            <a:pathLst>
              <a:path w="3288" h="1264">
                <a:moveTo>
                  <a:pt x="0" y="1264"/>
                </a:moveTo>
                <a:cubicBezTo>
                  <a:pt x="426" y="816"/>
                  <a:pt x="852" y="368"/>
                  <a:pt x="1400" y="184"/>
                </a:cubicBezTo>
                <a:cubicBezTo>
                  <a:pt x="1948" y="0"/>
                  <a:pt x="2618" y="80"/>
                  <a:pt x="3288" y="160"/>
                </a:cubicBezTo>
              </a:path>
            </a:pathLst>
          </a:custGeom>
          <a:noFill/>
          <a:ln w="38160">
            <a:solidFill>
              <a:srgbClr val="0099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510000" y="1257480"/>
            <a:ext cx="181080" cy="696600"/>
          </a:xfrm>
          <a:custGeom>
            <a:avLst/>
            <a:gdLst/>
            <a:ahLst/>
            <a:rect l="l" t="t" r="r" b="b"/>
            <a:pathLst>
              <a:path w="327" h="1128">
                <a:moveTo>
                  <a:pt x="239" y="1128"/>
                </a:moveTo>
                <a:cubicBezTo>
                  <a:pt x="119" y="982"/>
                  <a:pt x="0" y="836"/>
                  <a:pt x="15" y="648"/>
                </a:cubicBezTo>
                <a:cubicBezTo>
                  <a:pt x="30" y="460"/>
                  <a:pt x="178" y="230"/>
                  <a:pt x="327" y="0"/>
                </a:cubicBezTo>
              </a:path>
            </a:pathLst>
          </a:custGeom>
          <a:noFill/>
          <a:ln w="38160">
            <a:solidFill>
              <a:srgbClr val="0099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86080" y="1989000"/>
            <a:ext cx="2019240" cy="136800"/>
          </a:xfrm>
          <a:custGeom>
            <a:avLst/>
            <a:gdLst/>
            <a:ahLst/>
            <a:rect l="l" t="t" r="r" b="b"/>
            <a:pathLst>
              <a:path w="3672" h="249">
                <a:moveTo>
                  <a:pt x="3672" y="241"/>
                </a:moveTo>
                <a:cubicBezTo>
                  <a:pt x="3226" y="120"/>
                  <a:pt x="2780" y="0"/>
                  <a:pt x="2168" y="1"/>
                </a:cubicBezTo>
                <a:cubicBezTo>
                  <a:pt x="1556" y="2"/>
                  <a:pt x="778" y="125"/>
                  <a:pt x="0" y="249"/>
                </a:cubicBezTo>
              </a:path>
            </a:pathLst>
          </a:custGeom>
          <a:noFill/>
          <a:ln w="38160">
            <a:solidFill>
              <a:srgbClr val="0099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966960" y="2284560"/>
            <a:ext cx="365040" cy="255600"/>
          </a:xfrm>
          <a:custGeom>
            <a:avLst/>
            <a:gdLst/>
            <a:ahLst/>
            <a:rect l="l" t="t" r="r" b="b"/>
            <a:pathLst>
              <a:path w="664" h="465">
                <a:moveTo>
                  <a:pt x="0" y="104"/>
                </a:moveTo>
                <a:cubicBezTo>
                  <a:pt x="88" y="284"/>
                  <a:pt x="177" y="465"/>
                  <a:pt x="288" y="448"/>
                </a:cubicBezTo>
                <a:cubicBezTo>
                  <a:pt x="399" y="431"/>
                  <a:pt x="600" y="73"/>
                  <a:pt x="664" y="0"/>
                </a:cubicBezTo>
              </a:path>
            </a:pathLst>
          </a:custGeom>
          <a:noFill/>
          <a:ln w="38160">
            <a:solidFill>
              <a:srgbClr val="0099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1066680" y="1066680"/>
            <a:ext cx="2535480" cy="262080"/>
          </a:xfrm>
          <a:custGeom>
            <a:avLst/>
            <a:gdLst/>
            <a:ahLst/>
            <a:rect l="l" t="t" r="r" b="b"/>
            <a:pathLst>
              <a:path w="4611" h="476">
                <a:moveTo>
                  <a:pt x="3" y="476"/>
                </a:moveTo>
                <a:cubicBezTo>
                  <a:pt x="1" y="323"/>
                  <a:pt x="0" y="171"/>
                  <a:pt x="531" y="100"/>
                </a:cubicBezTo>
                <a:cubicBezTo>
                  <a:pt x="1062" y="29"/>
                  <a:pt x="2507" y="0"/>
                  <a:pt x="3187" y="52"/>
                </a:cubicBezTo>
                <a:cubicBezTo>
                  <a:pt x="3867" y="104"/>
                  <a:pt x="4239" y="258"/>
                  <a:pt x="4611" y="412"/>
                </a:cubicBezTo>
              </a:path>
            </a:pathLst>
          </a:custGeom>
          <a:noFill/>
          <a:ln w="38160">
            <a:solidFill>
              <a:srgbClr val="0099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 flipH="1">
            <a:off x="4195800" y="1486080"/>
            <a:ext cx="263520" cy="569880"/>
          </a:xfrm>
          <a:custGeom>
            <a:avLst/>
            <a:gdLst/>
            <a:ahLst/>
            <a:rect l="l" t="t" r="r" b="b"/>
            <a:pathLst>
              <a:path w="491" h="344">
                <a:moveTo>
                  <a:pt x="235" y="0"/>
                </a:moveTo>
                <a:cubicBezTo>
                  <a:pt x="117" y="43"/>
                  <a:pt x="0" y="87"/>
                  <a:pt x="43" y="144"/>
                </a:cubicBezTo>
                <a:cubicBezTo>
                  <a:pt x="86" y="201"/>
                  <a:pt x="288" y="272"/>
                  <a:pt x="491" y="344"/>
                </a:cubicBezTo>
              </a:path>
            </a:pathLst>
          </a:custGeom>
          <a:noFill/>
          <a:ln w="38160">
            <a:solidFill>
              <a:srgbClr val="0099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071720" y="723960"/>
            <a:ext cx="2895480" cy="689040"/>
          </a:xfrm>
          <a:custGeom>
            <a:avLst/>
            <a:gdLst/>
            <a:ahLst/>
            <a:rect l="l" t="t" r="r" b="b"/>
            <a:pathLst>
              <a:path w="3352" h="281">
                <a:moveTo>
                  <a:pt x="0" y="281"/>
                </a:moveTo>
                <a:cubicBezTo>
                  <a:pt x="816" y="157"/>
                  <a:pt x="1633" y="34"/>
                  <a:pt x="2192" y="17"/>
                </a:cubicBezTo>
                <a:cubicBezTo>
                  <a:pt x="2751" y="0"/>
                  <a:pt x="3051" y="88"/>
                  <a:pt x="3352" y="177"/>
                </a:cubicBezTo>
              </a:path>
            </a:pathLst>
          </a:custGeom>
          <a:noFill/>
          <a:ln w="38160">
            <a:solidFill>
              <a:srgbClr val="0099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47680" y="1104840"/>
            <a:ext cx="630360" cy="566640"/>
          </a:xfrm>
          <a:custGeom>
            <a:avLst/>
            <a:gdLst/>
            <a:ahLst/>
            <a:rect l="l" t="t" r="r" b="b"/>
            <a:pathLst>
              <a:path w="1144" h="733">
                <a:moveTo>
                  <a:pt x="384" y="125"/>
                </a:moveTo>
                <a:cubicBezTo>
                  <a:pt x="764" y="62"/>
                  <a:pt x="1144" y="0"/>
                  <a:pt x="1080" y="101"/>
                </a:cubicBezTo>
                <a:cubicBezTo>
                  <a:pt x="1016" y="202"/>
                  <a:pt x="508" y="467"/>
                  <a:pt x="0" y="733"/>
                </a:cubicBezTo>
              </a:path>
            </a:pathLst>
          </a:custGeom>
          <a:noFill/>
          <a:ln w="38160">
            <a:solidFill>
              <a:srgbClr val="0099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47920" y="2590920"/>
            <a:ext cx="198108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Overlay network of Consume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Links are between known entiti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66200" y="222120"/>
            <a:ext cx="4257720" cy="36360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23400" bIns="23400" anchor="t">
            <a:no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Verdana"/>
              </a:rPr>
              <a:t>Peer-to-Peer?</a:t>
            </a:r>
            <a:endParaRPr b="1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66200" y="1828800"/>
            <a:ext cx="4257720" cy="118800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23400" bIns="23400" anchor="t">
            <a:normAutofit fontScale="99000"/>
          </a:bodyPr>
          <a:p>
            <a:pPr marL="227520" indent="-227520">
              <a:lnSpc>
                <a:spcPct val="90000"/>
              </a:lnSpc>
              <a:spcBef>
                <a:spcPts val="488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P2P systems are</a:t>
            </a:r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34880" indent="-205560">
              <a:lnSpc>
                <a:spcPct val="90000"/>
              </a:lnSpc>
              <a:spcBef>
                <a:spcPts val="414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1" lang="en-US" sz="1100" spc="-1" strike="noStrike">
                <a:solidFill>
                  <a:srgbClr val="0099ff"/>
                </a:solidFill>
                <a:latin typeface="Times New Roman"/>
              </a:rPr>
              <a:t>distributed systems</a:t>
            </a:r>
            <a:endParaRPr b="1" lang="en-US" sz="1100" spc="-1" strike="noStrike">
              <a:solidFill>
                <a:srgbClr val="0099ff"/>
              </a:solidFill>
              <a:latin typeface="Verdana"/>
            </a:endParaRPr>
          </a:p>
          <a:p>
            <a:pPr lvl="1" marL="434880" indent="-205560">
              <a:lnSpc>
                <a:spcPct val="90000"/>
              </a:lnSpc>
              <a:spcBef>
                <a:spcPts val="414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1" lang="en-US" sz="1100" spc="-1" strike="noStrike">
                <a:solidFill>
                  <a:srgbClr val="0099ff"/>
                </a:solidFill>
                <a:latin typeface="Times New Roman"/>
              </a:rPr>
              <a:t>logically distinct computing elements called peers</a:t>
            </a:r>
            <a:endParaRPr b="1" lang="en-US" sz="1100" spc="-1" strike="noStrike">
              <a:solidFill>
                <a:srgbClr val="0099ff"/>
              </a:solidFill>
              <a:latin typeface="Verdana"/>
            </a:endParaRPr>
          </a:p>
          <a:p>
            <a:pPr lvl="1" marL="434880" indent="-205560">
              <a:lnSpc>
                <a:spcPct val="90000"/>
              </a:lnSpc>
              <a:spcBef>
                <a:spcPts val="414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1" lang="en-US" sz="1100" spc="-1" strike="noStrike">
                <a:solidFill>
                  <a:srgbClr val="0099ff"/>
                </a:solidFill>
                <a:latin typeface="Times New Roman"/>
              </a:rPr>
              <a:t>comparable roles and responsibilities,</a:t>
            </a:r>
            <a:endParaRPr b="1" lang="en-US" sz="1100" spc="-1" strike="noStrike">
              <a:solidFill>
                <a:srgbClr val="0099ff"/>
              </a:solidFill>
              <a:latin typeface="Verdana"/>
            </a:endParaRPr>
          </a:p>
          <a:p>
            <a:pPr lvl="1" marL="434880" indent="-205560">
              <a:lnSpc>
                <a:spcPct val="90000"/>
              </a:lnSpc>
              <a:spcBef>
                <a:spcPts val="414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1" lang="en-US" sz="1100" spc="-1" strike="noStrike">
                <a:solidFill>
                  <a:srgbClr val="0099ff"/>
                </a:solidFill>
                <a:latin typeface="Times New Roman"/>
              </a:rPr>
              <a:t>communicate, share or consume services &amp; resources amongst each other</a:t>
            </a:r>
            <a:endParaRPr b="1" lang="en-US" sz="1100" spc="-1" strike="noStrike">
              <a:solidFill>
                <a:srgbClr val="0099ff"/>
              </a:solidFill>
              <a:latin typeface="Verdana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685800" y="838080"/>
            <a:ext cx="2037960" cy="745920"/>
            <a:chOff x="685800" y="838080"/>
            <a:chExt cx="2037960" cy="745920"/>
          </a:xfrm>
        </p:grpSpPr>
        <p:sp>
          <p:nvSpPr>
            <p:cNvPr id="428" name=""/>
            <p:cNvSpPr/>
            <p:nvPr/>
          </p:nvSpPr>
          <p:spPr>
            <a:xfrm>
              <a:off x="957600" y="905400"/>
              <a:ext cx="68040" cy="6768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093320" y="1041480"/>
              <a:ext cx="68040" cy="6732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229400" y="1177200"/>
              <a:ext cx="67680" cy="6768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229400" y="905400"/>
              <a:ext cx="67680" cy="6768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025640" y="1177200"/>
              <a:ext cx="67680" cy="6768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093320" y="838080"/>
              <a:ext cx="68040" cy="6732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957600" y="1041480"/>
              <a:ext cx="68040" cy="6732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433160" y="973440"/>
              <a:ext cx="67680" cy="6768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161360" y="1312560"/>
              <a:ext cx="68040" cy="6768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297080" y="1041480"/>
              <a:ext cx="68040" cy="6732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500840" y="1041480"/>
              <a:ext cx="68040" cy="6732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957600" y="1312560"/>
              <a:ext cx="68040" cy="6768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773000" y="1312560"/>
              <a:ext cx="68040" cy="6768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773000" y="905400"/>
              <a:ext cx="68040" cy="6768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568880" y="1312560"/>
              <a:ext cx="68040" cy="6768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568880" y="838080"/>
              <a:ext cx="68040" cy="6732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500840" y="1177200"/>
              <a:ext cx="68040" cy="6768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229400" y="1516320"/>
              <a:ext cx="67680" cy="6768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433160" y="1448640"/>
              <a:ext cx="67680" cy="6732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704960" y="1109160"/>
              <a:ext cx="68040" cy="6768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452320" y="1041480"/>
              <a:ext cx="67680" cy="6732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316240" y="1109160"/>
              <a:ext cx="68040" cy="6768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53840" y="1380600"/>
              <a:ext cx="68040" cy="6768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636920" y="1516320"/>
              <a:ext cx="67680" cy="6768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821880" y="1109160"/>
              <a:ext cx="67680" cy="6768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248560" y="973440"/>
              <a:ext cx="67680" cy="6768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384280" y="1177200"/>
              <a:ext cx="68040" cy="6768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85800" y="905400"/>
              <a:ext cx="68040" cy="6768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365120" y="1244880"/>
              <a:ext cx="68040" cy="6732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452320" y="905400"/>
              <a:ext cx="67680" cy="6768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044800" y="1109160"/>
              <a:ext cx="67680" cy="6768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452320" y="1312560"/>
              <a:ext cx="67680" cy="6768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248560" y="1244880"/>
              <a:ext cx="67680" cy="6732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588040" y="1380600"/>
              <a:ext cx="68040" cy="6768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520000" y="1177200"/>
              <a:ext cx="68040" cy="6768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316240" y="1380600"/>
              <a:ext cx="68040" cy="6768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588040" y="1041480"/>
              <a:ext cx="68040" cy="6732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656080" y="905400"/>
              <a:ext cx="67680" cy="6768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365120" y="838080"/>
              <a:ext cx="68040" cy="6732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656080" y="1244880"/>
              <a:ext cx="67680" cy="6732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45200" y="967680"/>
              <a:ext cx="98640" cy="14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 flipH="1">
              <a:off x="790560" y="1177200"/>
              <a:ext cx="5904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 flipH="1">
              <a:off x="1268640" y="1106640"/>
              <a:ext cx="45000" cy="7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 flipH="1" flipV="1">
              <a:off x="1158120" y="1072080"/>
              <a:ext cx="144360" cy="1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 flipH="1" flipV="1">
              <a:off x="1271520" y="964800"/>
              <a:ext cx="4788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345320" y="1106640"/>
              <a:ext cx="42480" cy="14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 flipH="1">
              <a:off x="1093320" y="1100880"/>
              <a:ext cx="212400" cy="9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 flipV="1">
              <a:off x="1356840" y="1027440"/>
              <a:ext cx="81720" cy="2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 flipV="1">
              <a:off x="1353960" y="899640"/>
              <a:ext cx="39240" cy="14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 flipV="1">
              <a:off x="1144440" y="902520"/>
              <a:ext cx="1612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 flipH="1">
              <a:off x="1017000" y="888480"/>
              <a:ext cx="79200" cy="2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 flipH="1" flipV="1">
              <a:off x="1008360" y="961920"/>
              <a:ext cx="93240" cy="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 flipH="1">
              <a:off x="1019880" y="1066680"/>
              <a:ext cx="7344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 flipV="1">
              <a:off x="881280" y="1095120"/>
              <a:ext cx="84600" cy="3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884160" y="1157040"/>
              <a:ext cx="141480" cy="4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 flipH="1">
              <a:off x="1011600" y="1236240"/>
              <a:ext cx="228960" cy="8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 flipV="1">
              <a:off x="985680" y="1106640"/>
              <a:ext cx="11160" cy="20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 flipV="1">
              <a:off x="1212480" y="1244520"/>
              <a:ext cx="4212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 flipV="1">
              <a:off x="1424520" y="891360"/>
              <a:ext cx="152640" cy="1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1361880" y="1075320"/>
              <a:ext cx="141480" cy="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 flipH="1">
              <a:off x="1424160" y="1205280"/>
              <a:ext cx="73800" cy="4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 flipH="1" flipV="1">
              <a:off x="1614240" y="902880"/>
              <a:ext cx="113040" cy="20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 flipH="1" flipV="1">
              <a:off x="1433160" y="1284480"/>
              <a:ext cx="149760" cy="3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 flipH="1" flipV="1">
              <a:off x="1356480" y="1100520"/>
              <a:ext cx="158040" cy="8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 flipH="1" flipV="1">
              <a:off x="1404360" y="1309680"/>
              <a:ext cx="59400" cy="14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 flipH="1" flipV="1">
              <a:off x="1206360" y="1377720"/>
              <a:ext cx="50760" cy="13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 flipH="1" flipV="1">
              <a:off x="1492560" y="1496520"/>
              <a:ext cx="14688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 flipH="1">
              <a:off x="1636560" y="1343880"/>
              <a:ext cx="13572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 flipH="1" flipV="1">
              <a:off x="1630800" y="885600"/>
              <a:ext cx="141480" cy="6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 flipH="1">
              <a:off x="1492200" y="905400"/>
              <a:ext cx="96120" cy="7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 flipH="1">
              <a:off x="1248840" y="970560"/>
              <a:ext cx="11520" cy="20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 flipV="1">
              <a:off x="1294560" y="1091880"/>
              <a:ext cx="214920" cy="12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416240" y="900000"/>
              <a:ext cx="39240" cy="7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 flipH="1">
              <a:off x="1229400" y="1298520"/>
              <a:ext cx="144000" cy="4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031040" y="945360"/>
              <a:ext cx="195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535040" y="1103760"/>
              <a:ext cx="169560" cy="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551960" y="1247760"/>
              <a:ext cx="47880" cy="6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492560" y="1024560"/>
              <a:ext cx="30960" cy="2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 flipH="1" flipV="1">
              <a:off x="1296720" y="1227600"/>
              <a:ext cx="68040" cy="4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1127160" y="1109160"/>
              <a:ext cx="107280" cy="81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 flipV="1">
              <a:off x="1090800" y="1213560"/>
              <a:ext cx="138600" cy="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 flipV="1">
              <a:off x="1141560" y="967320"/>
              <a:ext cx="10188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2483640" y="1106640"/>
              <a:ext cx="53280" cy="7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 flipH="1">
              <a:off x="2378520" y="1098000"/>
              <a:ext cx="84960" cy="3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 flipH="1">
              <a:off x="2432160" y="1109160"/>
              <a:ext cx="42120" cy="6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 flipH="1" flipV="1">
              <a:off x="2519640" y="1074960"/>
              <a:ext cx="68040" cy="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 flipH="1">
              <a:off x="2576520" y="1112040"/>
              <a:ext cx="36360" cy="6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 flipV="1">
              <a:off x="2452320" y="1094760"/>
              <a:ext cx="144000" cy="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489040" y="970560"/>
              <a:ext cx="864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 flipH="1">
              <a:off x="2636280" y="965160"/>
              <a:ext cx="36720" cy="7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 flipH="1">
              <a:off x="2387160" y="1377720"/>
              <a:ext cx="79200" cy="3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 flipH="1" flipV="1">
              <a:off x="2517480" y="1357920"/>
              <a:ext cx="76320" cy="4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 flipH="1" flipV="1">
              <a:off x="2585160" y="1230480"/>
              <a:ext cx="73440" cy="4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 flipH="1">
              <a:off x="2500200" y="1236240"/>
              <a:ext cx="33480" cy="7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 flipH="1">
              <a:off x="2452320" y="1208160"/>
              <a:ext cx="6768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 flipH="1">
              <a:off x="2315880" y="1233360"/>
              <a:ext cx="73800" cy="2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112480" y="1137600"/>
              <a:ext cx="209520" cy="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299320" y="1035720"/>
              <a:ext cx="3384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313720" y="1021680"/>
              <a:ext cx="146880" cy="3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367360" y="1168920"/>
              <a:ext cx="22680" cy="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316240" y="1281600"/>
              <a:ext cx="138600" cy="5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 flipH="1" flipV="1">
              <a:off x="2440800" y="1235880"/>
              <a:ext cx="3096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 flipV="1">
              <a:off x="2364480" y="967320"/>
              <a:ext cx="93240" cy="13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829520" y="970560"/>
              <a:ext cx="215280" cy="15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66200" y="222120"/>
            <a:ext cx="4257720" cy="36360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23400" bIns="23400" anchor="t">
            <a:no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Verdana"/>
              </a:rPr>
              <a:t>Character. &amp; Challenges</a:t>
            </a:r>
            <a:endParaRPr b="1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66200" y="837720"/>
            <a:ext cx="4257720" cy="2530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23400" bIns="23400" anchor="t">
            <a:normAutofit/>
          </a:bodyPr>
          <a:p>
            <a:pPr marL="230040" indent="-230040">
              <a:lnSpc>
                <a:spcPct val="90000"/>
              </a:lnSpc>
              <a:spcBef>
                <a:spcPts val="638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Characteristics</a:t>
            </a:r>
            <a:endParaRPr b="1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439560" indent="-207720">
              <a:lnSpc>
                <a:spcPct val="90000"/>
              </a:lnSpc>
              <a:spcBef>
                <a:spcPts val="561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1" lang="en-US" sz="1500" spc="-1" strike="noStrike">
                <a:solidFill>
                  <a:srgbClr val="0099ff"/>
                </a:solidFill>
                <a:latin typeface="Verdana"/>
              </a:rPr>
              <a:t>Massive storage</a:t>
            </a:r>
            <a:endParaRPr b="1" lang="en-US" sz="1500" spc="-1" strike="noStrike">
              <a:solidFill>
                <a:srgbClr val="0099ff"/>
              </a:solidFill>
              <a:latin typeface="Verdana"/>
            </a:endParaRPr>
          </a:p>
          <a:p>
            <a:pPr lvl="1" marL="439560" indent="-207720">
              <a:lnSpc>
                <a:spcPct val="90000"/>
              </a:lnSpc>
              <a:spcBef>
                <a:spcPts val="561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1" lang="en-US" sz="1500" spc="-1" strike="noStrike">
                <a:solidFill>
                  <a:srgbClr val="0099ff"/>
                </a:solidFill>
                <a:latin typeface="Verdana"/>
              </a:rPr>
              <a:t>Scalable system</a:t>
            </a:r>
            <a:endParaRPr b="1" lang="en-US" sz="1500" spc="-1" strike="noStrike">
              <a:solidFill>
                <a:srgbClr val="0099ff"/>
              </a:solidFill>
              <a:latin typeface="Verdana"/>
            </a:endParaRPr>
          </a:p>
          <a:p>
            <a:pPr lvl="1" marL="439560" indent="-207720">
              <a:lnSpc>
                <a:spcPct val="90000"/>
              </a:lnSpc>
              <a:spcBef>
                <a:spcPts val="561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1" lang="en-US" sz="1500" spc="-1" strike="noStrike">
                <a:solidFill>
                  <a:srgbClr val="0099ff"/>
                </a:solidFill>
                <a:latin typeface="Verdana"/>
              </a:rPr>
              <a:t>No central administration</a:t>
            </a:r>
            <a:endParaRPr b="1" lang="en-US" sz="1500" spc="-1" strike="noStrike">
              <a:solidFill>
                <a:srgbClr val="0099ff"/>
              </a:solidFill>
              <a:latin typeface="Verdana"/>
            </a:endParaRPr>
          </a:p>
          <a:p>
            <a:pPr lvl="1" marL="439560" indent="-207720">
              <a:lnSpc>
                <a:spcPct val="90000"/>
              </a:lnSpc>
              <a:spcBef>
                <a:spcPts val="561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1" lang="en-US" sz="1500" spc="-1" strike="noStrike">
                <a:solidFill>
                  <a:srgbClr val="0099ff"/>
                </a:solidFill>
                <a:latin typeface="Verdana"/>
              </a:rPr>
              <a:t>Self-organized behavior</a:t>
            </a:r>
            <a:endParaRPr b="1" lang="en-US" sz="1500" spc="-1" strike="noStrike">
              <a:solidFill>
                <a:srgbClr val="0099ff"/>
              </a:solidFill>
              <a:latin typeface="Verdana"/>
            </a:endParaRPr>
          </a:p>
          <a:p>
            <a:pPr marL="230040" indent="-230040">
              <a:lnSpc>
                <a:spcPct val="90000"/>
              </a:lnSpc>
              <a:spcBef>
                <a:spcPts val="638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Challenges</a:t>
            </a:r>
            <a:endParaRPr b="1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439560" indent="-207720">
              <a:lnSpc>
                <a:spcPct val="90000"/>
              </a:lnSpc>
              <a:spcBef>
                <a:spcPts val="561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1" lang="en-US" sz="1500" spc="-1" strike="noStrike">
                <a:solidFill>
                  <a:srgbClr val="0099ff"/>
                </a:solidFill>
                <a:latin typeface="Verdana"/>
              </a:rPr>
              <a:t>Searching</a:t>
            </a:r>
            <a:endParaRPr b="1" lang="en-US" sz="1500" spc="-1" strike="noStrike">
              <a:solidFill>
                <a:srgbClr val="0099ff"/>
              </a:solidFill>
              <a:latin typeface="Verdana"/>
            </a:endParaRPr>
          </a:p>
          <a:p>
            <a:pPr lvl="1" marL="439560" indent="-207720">
              <a:lnSpc>
                <a:spcPct val="90000"/>
              </a:lnSpc>
              <a:spcBef>
                <a:spcPts val="561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1" lang="en-US" sz="1500" spc="-1" strike="noStrike">
                <a:solidFill>
                  <a:srgbClr val="0099ff"/>
                </a:solidFill>
                <a:latin typeface="Verdana"/>
              </a:rPr>
              <a:t>Trust, Authentication, …</a:t>
            </a:r>
            <a:endParaRPr b="1" lang="en-US" sz="1500" spc="-1" strike="noStrike">
              <a:solidFill>
                <a:srgbClr val="0099ff"/>
              </a:solidFill>
              <a:latin typeface="Verdana"/>
            </a:endParaRPr>
          </a:p>
          <a:p>
            <a:pPr lvl="1" marL="439560" indent="-207720">
              <a:lnSpc>
                <a:spcPct val="90000"/>
              </a:lnSpc>
              <a:spcBef>
                <a:spcPts val="561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1" lang="en-US" sz="1500" spc="-1" strike="noStrike">
                <a:solidFill>
                  <a:srgbClr val="0099ff"/>
                </a:solidFill>
                <a:latin typeface="Verdana"/>
              </a:rPr>
              <a:t>Manageability</a:t>
            </a:r>
            <a:endParaRPr b="1" lang="en-US" sz="1500" spc="-1" strike="noStrike">
              <a:solidFill>
                <a:srgbClr val="0099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j0299029(p)" descr="Click To Download"/>
          <p:cNvPicPr/>
          <p:nvPr/>
        </p:nvPicPr>
        <p:blipFill>
          <a:blip r:embed="rId2"/>
          <a:stretch/>
        </p:blipFill>
        <p:spPr>
          <a:xfrm>
            <a:off x="1676520" y="1143000"/>
            <a:ext cx="1168200" cy="1168560"/>
          </a:xfrm>
          <a:prstGeom prst="rect">
            <a:avLst/>
          </a:prstGeom>
          <a:ln w="0">
            <a:noFill/>
          </a:ln>
        </p:spPr>
      </p:pic>
      <p:pic>
        <p:nvPicPr>
          <p:cNvPr id="79" name="j0212043(p)" descr="Click To Download"/>
          <p:cNvPicPr/>
          <p:nvPr/>
        </p:nvPicPr>
        <p:blipFill>
          <a:blip r:embed="rId3"/>
          <a:stretch/>
        </p:blipFill>
        <p:spPr>
          <a:xfrm>
            <a:off x="685800" y="152280"/>
            <a:ext cx="822240" cy="8226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600200" y="38088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ebruary 7, 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m6v9" descr="Yahoo!"/>
          <p:cNvPicPr/>
          <p:nvPr/>
        </p:nvPicPr>
        <p:blipFill>
          <a:blip r:embed="rId4"/>
          <a:srcRect l="34149" t="0" r="34149" b="0"/>
          <a:stretch/>
        </p:blipFill>
        <p:spPr>
          <a:xfrm>
            <a:off x="1905120" y="1066680"/>
            <a:ext cx="990360" cy="2034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685800" y="1219320"/>
            <a:ext cx="1295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85800" y="16765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685800" y="1828800"/>
            <a:ext cx="12193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2819160" y="838080"/>
            <a:ext cx="10666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2819520" y="16765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 flipV="1">
            <a:off x="2742840" y="190512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1447920" y="2286000"/>
          <a:ext cx="1944720" cy="1111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47920" y="2286000"/>
                    <a:ext cx="1944720" cy="111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66200" y="222120"/>
            <a:ext cx="4257720" cy="36360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23400" bIns="23400" anchor="t">
            <a:no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Verdana"/>
              </a:rPr>
              <a:t>Terminology</a:t>
            </a:r>
            <a:endParaRPr b="1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66200" y="837720"/>
            <a:ext cx="4257720" cy="27226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23400" bIns="23400" anchor="t">
            <a:normAutofit/>
          </a:bodyPr>
          <a:p>
            <a:pPr marL="230040" indent="-230040">
              <a:lnSpc>
                <a:spcPct val="90000"/>
              </a:lnSpc>
              <a:spcBef>
                <a:spcPts val="488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eers</a:t>
            </a:r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39560" indent="-207720">
              <a:lnSpc>
                <a:spcPct val="90000"/>
              </a:lnSpc>
              <a:spcBef>
                <a:spcPts val="414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1" lang="en-US" sz="1100" spc="-1" strike="noStrike">
                <a:solidFill>
                  <a:srgbClr val="0099ff"/>
                </a:solidFill>
                <a:latin typeface="Verdana"/>
              </a:rPr>
              <a:t>Logically distinct Computing Element</a:t>
            </a:r>
            <a:endParaRPr b="1" lang="en-US" sz="1100" spc="-1" strike="noStrike">
              <a:solidFill>
                <a:srgbClr val="0099ff"/>
              </a:solidFill>
              <a:latin typeface="Verdana"/>
            </a:endParaRPr>
          </a:p>
          <a:p>
            <a:pPr marL="230040" indent="-230040">
              <a:lnSpc>
                <a:spcPct val="90000"/>
              </a:lnSpc>
              <a:spcBef>
                <a:spcPts val="488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Interest Attributes</a:t>
            </a:r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39560" indent="-207720">
              <a:lnSpc>
                <a:spcPct val="90000"/>
              </a:lnSpc>
              <a:spcBef>
                <a:spcPts val="414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1" lang="en-US" sz="1100" spc="-1" strike="noStrike">
                <a:solidFill>
                  <a:srgbClr val="0099ff"/>
                </a:solidFill>
                <a:latin typeface="Verdana"/>
              </a:rPr>
              <a:t>Describe the interests of the user</a:t>
            </a:r>
            <a:endParaRPr b="1" lang="en-US" sz="1100" spc="-1" strike="noStrike">
              <a:solidFill>
                <a:srgbClr val="0099ff"/>
              </a:solidFill>
              <a:latin typeface="Verdana"/>
            </a:endParaRPr>
          </a:p>
          <a:p>
            <a:pPr lvl="1" marL="439560" indent="0">
              <a:lnSpc>
                <a:spcPct val="90000"/>
              </a:lnSpc>
              <a:spcBef>
                <a:spcPts val="414"/>
              </a:spcBef>
              <a:buNone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endParaRPr b="1" lang="en-US" sz="1100" spc="-1" strike="noStrike">
              <a:solidFill>
                <a:srgbClr val="0099ff"/>
              </a:solidFill>
              <a:latin typeface="Verdana"/>
            </a:endParaRPr>
          </a:p>
          <a:p>
            <a:pPr lvl="1" marL="439560" indent="0">
              <a:lnSpc>
                <a:spcPct val="90000"/>
              </a:lnSpc>
              <a:spcBef>
                <a:spcPts val="414"/>
              </a:spcBef>
              <a:buNone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endParaRPr b="1" lang="en-US" sz="1100" spc="-1" strike="noStrike">
              <a:solidFill>
                <a:srgbClr val="0099ff"/>
              </a:solidFill>
              <a:latin typeface="Verdana"/>
            </a:endParaRPr>
          </a:p>
          <a:p>
            <a:pPr marL="230040" indent="0">
              <a:lnSpc>
                <a:spcPct val="90000"/>
              </a:lnSpc>
              <a:spcBef>
                <a:spcPts val="488"/>
              </a:spcBef>
              <a:buNone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39560" indent="0">
              <a:lnSpc>
                <a:spcPct val="90000"/>
              </a:lnSpc>
              <a:spcBef>
                <a:spcPts val="414"/>
              </a:spcBef>
              <a:buNone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endParaRPr b="1" lang="en-US" sz="1100" spc="-1" strike="noStrike">
              <a:solidFill>
                <a:srgbClr val="0099ff"/>
              </a:solidFill>
              <a:latin typeface="Verdana"/>
            </a:endParaRPr>
          </a:p>
          <a:p>
            <a:pPr marL="230040" indent="-230040">
              <a:lnSpc>
                <a:spcPct val="90000"/>
              </a:lnSpc>
              <a:spcBef>
                <a:spcPts val="488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Links</a:t>
            </a:r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39560" indent="-207720">
              <a:lnSpc>
                <a:spcPct val="90000"/>
              </a:lnSpc>
              <a:spcBef>
                <a:spcPts val="414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1" lang="en-US" sz="1100" spc="-1" strike="noStrike">
                <a:solidFill>
                  <a:srgbClr val="0099ff"/>
                </a:solidFill>
                <a:latin typeface="Verdana"/>
              </a:rPr>
              <a:t>Overlay connections to known peers</a:t>
            </a:r>
            <a:endParaRPr b="1" lang="en-US" sz="1100" spc="-1" strike="noStrike">
              <a:solidFill>
                <a:srgbClr val="0099ff"/>
              </a:solidFill>
              <a:latin typeface="Verdana"/>
            </a:endParaRPr>
          </a:p>
          <a:p>
            <a:pPr lvl="2" marL="625320" indent="-183960">
              <a:lnSpc>
                <a:spcPct val="90000"/>
              </a:lnSpc>
              <a:spcBef>
                <a:spcPts val="374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  <a:tab algn="l" pos="98344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Regular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625320" indent="-183960">
              <a:lnSpc>
                <a:spcPct val="90000"/>
              </a:lnSpc>
              <a:spcBef>
                <a:spcPts val="374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  <a:tab algn="l" pos="98344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Random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43956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endParaRPr b="1" lang="en-US" sz="1000" spc="-1" strike="noStrike">
              <a:solidFill>
                <a:srgbClr val="0099ff"/>
              </a:solidFill>
              <a:latin typeface="Verdana"/>
            </a:endParaRPr>
          </a:p>
        </p:txBody>
      </p:sp>
      <p:pic>
        <p:nvPicPr>
          <p:cNvPr id="536" name="j0237851(p)" descr="Click To Download"/>
          <p:cNvPicPr/>
          <p:nvPr/>
        </p:nvPicPr>
        <p:blipFill>
          <a:blip r:embed="rId2"/>
          <a:stretch/>
        </p:blipFill>
        <p:spPr>
          <a:xfrm>
            <a:off x="1523880" y="685800"/>
            <a:ext cx="355680" cy="355680"/>
          </a:xfrm>
          <a:prstGeom prst="rect">
            <a:avLst/>
          </a:prstGeom>
          <a:ln w="0">
            <a:noFill/>
          </a:ln>
        </p:spPr>
      </p:pic>
      <p:pic>
        <p:nvPicPr>
          <p:cNvPr id="537" name="j0285778(p)" descr="Click To Download"/>
          <p:cNvPicPr/>
          <p:nvPr/>
        </p:nvPicPr>
        <p:blipFill>
          <a:blip r:embed="rId3"/>
          <a:stretch/>
        </p:blipFill>
        <p:spPr>
          <a:xfrm>
            <a:off x="1905120" y="609480"/>
            <a:ext cx="507960" cy="507960"/>
          </a:xfrm>
          <a:prstGeom prst="rect">
            <a:avLst/>
          </a:prstGeom>
          <a:ln w="0">
            <a:noFill/>
          </a:ln>
        </p:spPr>
      </p:pic>
      <p:pic>
        <p:nvPicPr>
          <p:cNvPr id="538" name="j0215816(p)" descr="Click To Download"/>
          <p:cNvPicPr/>
          <p:nvPr/>
        </p:nvPicPr>
        <p:blipFill>
          <a:blip r:embed="rId4"/>
          <a:stretch/>
        </p:blipFill>
        <p:spPr>
          <a:xfrm>
            <a:off x="2590920" y="609480"/>
            <a:ext cx="507960" cy="507960"/>
          </a:xfrm>
          <a:prstGeom prst="rect">
            <a:avLst/>
          </a:prstGeom>
          <a:ln w="0">
            <a:noFill/>
          </a:ln>
        </p:spPr>
      </p:pic>
      <p:pic>
        <p:nvPicPr>
          <p:cNvPr id="539" name="j0285770(p)" descr="Click To Download"/>
          <p:cNvPicPr/>
          <p:nvPr/>
        </p:nvPicPr>
        <p:blipFill>
          <a:blip r:embed="rId5"/>
          <a:stretch/>
        </p:blipFill>
        <p:spPr>
          <a:xfrm>
            <a:off x="3200400" y="609480"/>
            <a:ext cx="507960" cy="507960"/>
          </a:xfrm>
          <a:prstGeom prst="rect">
            <a:avLst/>
          </a:prstGeom>
          <a:ln w="0">
            <a:noFill/>
          </a:ln>
        </p:spPr>
      </p:pic>
      <p:sp>
        <p:nvSpPr>
          <p:cNvPr id="540" name=""/>
          <p:cNvSpPr/>
          <p:nvPr/>
        </p:nvSpPr>
        <p:spPr>
          <a:xfrm>
            <a:off x="2666880" y="170172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4114800" y="2082960"/>
            <a:ext cx="3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743200" y="1778040"/>
            <a:ext cx="131616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3736800" y="1973160"/>
            <a:ext cx="24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2971800" y="1854360"/>
            <a:ext cx="72720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3040200" y="1849320"/>
            <a:ext cx="347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3567240" y="2187720"/>
            <a:ext cx="85680" cy="85680"/>
          </a:xfrm>
          <a:prstGeom prst="ellipse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581280" y="2158920"/>
            <a:ext cx="250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417840" y="1971720"/>
            <a:ext cx="85680" cy="85680"/>
          </a:xfrm>
          <a:prstGeom prst="ellipse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3429000" y="1930320"/>
            <a:ext cx="249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914400" y="1914480"/>
            <a:ext cx="195120" cy="19548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1" name=""/>
          <p:cNvGrpSpPr/>
          <p:nvPr/>
        </p:nvGrpSpPr>
        <p:grpSpPr>
          <a:xfrm>
            <a:off x="1533600" y="1701720"/>
            <a:ext cx="822240" cy="825480"/>
            <a:chOff x="1533600" y="1701720"/>
            <a:chExt cx="822240" cy="825480"/>
          </a:xfrm>
        </p:grpSpPr>
        <p:sp>
          <p:nvSpPr>
            <p:cNvPr id="552" name=""/>
            <p:cNvSpPr/>
            <p:nvPr/>
          </p:nvSpPr>
          <p:spPr>
            <a:xfrm>
              <a:off x="1535040" y="1701720"/>
              <a:ext cx="820800" cy="804240"/>
            </a:xfrm>
            <a:prstGeom prst="foldedCorner">
              <a:avLst>
                <a:gd name="adj" fmla="val 125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533600" y="1703160"/>
              <a:ext cx="8172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X-BO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“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Road Rage”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MSFT share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Learn Frenc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Claude Mone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4" name=""/>
          <p:cNvSpPr/>
          <p:nvPr/>
        </p:nvSpPr>
        <p:spPr>
          <a:xfrm>
            <a:off x="1138320" y="1971720"/>
            <a:ext cx="384120" cy="74520"/>
          </a:xfrm>
          <a:prstGeom prst="rightArrow">
            <a:avLst>
              <a:gd name="adj1" fmla="val 50000"/>
              <a:gd name="adj2" fmla="val 128865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360" bIns="-9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66200" y="222120"/>
            <a:ext cx="4257720" cy="36360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23400" bIns="23400" anchor="t">
            <a:no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Verdana"/>
              </a:rPr>
              <a:t>P2P Communities</a:t>
            </a:r>
            <a:endParaRPr b="1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56" name="colored2" descr=""/>
          <p:cNvPicPr/>
          <p:nvPr/>
        </p:nvPicPr>
        <p:blipFill>
          <a:blip r:embed="rId2"/>
          <a:stretch/>
        </p:blipFill>
        <p:spPr>
          <a:xfrm>
            <a:off x="609480" y="609480"/>
            <a:ext cx="2610000" cy="2743200"/>
          </a:xfrm>
          <a:prstGeom prst="rect">
            <a:avLst/>
          </a:prstGeom>
          <a:ln w="0">
            <a:noFill/>
          </a:ln>
        </p:spPr>
      </p:pic>
      <p:sp>
        <p:nvSpPr>
          <p:cNvPr id="557" name=""/>
          <p:cNvSpPr/>
          <p:nvPr/>
        </p:nvSpPr>
        <p:spPr>
          <a:xfrm>
            <a:off x="3276720" y="1066680"/>
            <a:ext cx="144756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 community is a non-empty set of peers that share a non-empty set of common interest attribu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66200" y="222120"/>
            <a:ext cx="4257720" cy="36360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23400" bIns="23400" anchor="t">
            <a:no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Verdana"/>
              </a:rPr>
              <a:t>Formation &amp; Discovery</a:t>
            </a:r>
            <a:endParaRPr b="1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66200" y="837720"/>
            <a:ext cx="4257720" cy="2811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23400" bIns="23400" anchor="t">
            <a:normAutofit/>
          </a:bodyPr>
          <a:p>
            <a:pPr marL="230040" indent="-230040">
              <a:lnSpc>
                <a:spcPct val="90000"/>
              </a:lnSpc>
              <a:spcBef>
                <a:spcPts val="638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A centralized approach</a:t>
            </a:r>
            <a:endParaRPr b="1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60" name="" descr=""/>
          <p:cNvPicPr/>
          <p:nvPr/>
        </p:nvPicPr>
        <p:blipFill>
          <a:blip r:embed="rId2"/>
          <a:stretch/>
        </p:blipFill>
        <p:spPr>
          <a:xfrm>
            <a:off x="2602080" y="1219320"/>
            <a:ext cx="448920" cy="377640"/>
          </a:xfrm>
          <a:prstGeom prst="rect">
            <a:avLst/>
          </a:prstGeom>
          <a:ln w="0">
            <a:noFill/>
          </a:ln>
        </p:spPr>
      </p:pic>
      <p:pic>
        <p:nvPicPr>
          <p:cNvPr id="561" name="" descr=""/>
          <p:cNvPicPr/>
          <p:nvPr/>
        </p:nvPicPr>
        <p:blipFill>
          <a:blip r:embed="rId3"/>
          <a:stretch/>
        </p:blipFill>
        <p:spPr>
          <a:xfrm>
            <a:off x="892080" y="1619280"/>
            <a:ext cx="522360" cy="739800"/>
          </a:xfrm>
          <a:prstGeom prst="rect">
            <a:avLst/>
          </a:prstGeom>
          <a:ln w="0">
            <a:noFill/>
          </a:ln>
        </p:spPr>
      </p:pic>
      <p:pic>
        <p:nvPicPr>
          <p:cNvPr id="562" name="" descr=""/>
          <p:cNvPicPr/>
          <p:nvPr/>
        </p:nvPicPr>
        <p:blipFill>
          <a:blip r:embed="rId4"/>
          <a:stretch/>
        </p:blipFill>
        <p:spPr>
          <a:xfrm>
            <a:off x="2776680" y="1755720"/>
            <a:ext cx="449280" cy="378000"/>
          </a:xfrm>
          <a:prstGeom prst="rect">
            <a:avLst/>
          </a:prstGeom>
          <a:ln w="0">
            <a:noFill/>
          </a:ln>
        </p:spPr>
      </p:pic>
      <p:pic>
        <p:nvPicPr>
          <p:cNvPr id="563" name="" descr=""/>
          <p:cNvPicPr/>
          <p:nvPr/>
        </p:nvPicPr>
        <p:blipFill>
          <a:blip r:embed="rId5"/>
          <a:stretch/>
        </p:blipFill>
        <p:spPr>
          <a:xfrm>
            <a:off x="2567160" y="2270160"/>
            <a:ext cx="448920" cy="377640"/>
          </a:xfrm>
          <a:prstGeom prst="rect">
            <a:avLst/>
          </a:prstGeom>
          <a:ln w="0">
            <a:noFill/>
          </a:ln>
        </p:spPr>
      </p:pic>
      <p:pic>
        <p:nvPicPr>
          <p:cNvPr id="564" name="" descr=""/>
          <p:cNvPicPr/>
          <p:nvPr/>
        </p:nvPicPr>
        <p:blipFill>
          <a:blip r:embed="rId6"/>
          <a:stretch/>
        </p:blipFill>
        <p:spPr>
          <a:xfrm>
            <a:off x="3151080" y="2152800"/>
            <a:ext cx="449280" cy="377640"/>
          </a:xfrm>
          <a:prstGeom prst="rect">
            <a:avLst/>
          </a:prstGeom>
          <a:ln w="0">
            <a:noFill/>
          </a:ln>
        </p:spPr>
      </p:pic>
      <p:pic>
        <p:nvPicPr>
          <p:cNvPr id="565" name="" descr=""/>
          <p:cNvPicPr/>
          <p:nvPr/>
        </p:nvPicPr>
        <p:blipFill>
          <a:blip r:embed="rId7"/>
          <a:stretch/>
        </p:blipFill>
        <p:spPr>
          <a:xfrm>
            <a:off x="2998800" y="2625840"/>
            <a:ext cx="449280" cy="377640"/>
          </a:xfrm>
          <a:prstGeom prst="rect">
            <a:avLst/>
          </a:prstGeom>
          <a:ln w="0">
            <a:noFill/>
          </a:ln>
        </p:spPr>
      </p:pic>
      <p:pic>
        <p:nvPicPr>
          <p:cNvPr id="566" name="" descr=""/>
          <p:cNvPicPr/>
          <p:nvPr/>
        </p:nvPicPr>
        <p:blipFill>
          <a:blip r:embed="rId8"/>
          <a:stretch/>
        </p:blipFill>
        <p:spPr>
          <a:xfrm>
            <a:off x="3216240" y="1808280"/>
            <a:ext cx="449280" cy="379440"/>
          </a:xfrm>
          <a:prstGeom prst="rect">
            <a:avLst/>
          </a:prstGeom>
          <a:ln w="0">
            <a:noFill/>
          </a:ln>
        </p:spPr>
      </p:pic>
      <p:sp>
        <p:nvSpPr>
          <p:cNvPr id="567" name=""/>
          <p:cNvSpPr/>
          <p:nvPr/>
        </p:nvSpPr>
        <p:spPr>
          <a:xfrm flipH="1" flipV="1">
            <a:off x="1378080" y="1811160"/>
            <a:ext cx="1420560" cy="74880"/>
          </a:xfrm>
          <a:prstGeom prst="line">
            <a:avLst/>
          </a:prstGeom>
          <a:ln w="25560">
            <a:solidFill>
              <a:srgbClr val="0099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 flipH="1" flipV="1">
            <a:off x="1352160" y="1922400"/>
            <a:ext cx="1236600" cy="455760"/>
          </a:xfrm>
          <a:prstGeom prst="line">
            <a:avLst/>
          </a:prstGeom>
          <a:ln w="25560">
            <a:solidFill>
              <a:srgbClr val="0099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 flipH="1" flipV="1">
            <a:off x="1393560" y="1897200"/>
            <a:ext cx="1779480" cy="358560"/>
          </a:xfrm>
          <a:prstGeom prst="line">
            <a:avLst/>
          </a:prstGeom>
          <a:ln w="25560">
            <a:solidFill>
              <a:srgbClr val="0099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1362240" y="1969920"/>
            <a:ext cx="1635120" cy="836640"/>
          </a:xfrm>
          <a:custGeom>
            <a:avLst/>
            <a:gdLst/>
            <a:ahLst/>
            <a:rect l="l" t="t" r="r" b="b"/>
            <a:pathLst>
              <a:path w="2213" h="1131">
                <a:moveTo>
                  <a:pt x="0" y="0"/>
                </a:moveTo>
                <a:cubicBezTo>
                  <a:pt x="559" y="380"/>
                  <a:pt x="1119" y="761"/>
                  <a:pt x="1488" y="946"/>
                </a:cubicBezTo>
                <a:cubicBezTo>
                  <a:pt x="1857" y="1131"/>
                  <a:pt x="2035" y="1120"/>
                  <a:pt x="2213" y="1109"/>
                </a:cubicBezTo>
              </a:path>
            </a:pathLst>
          </a:custGeom>
          <a:noFill/>
          <a:ln w="25560">
            <a:solidFill>
              <a:srgbClr val="0099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1393920" y="1863720"/>
            <a:ext cx="1876320" cy="301680"/>
          </a:xfrm>
          <a:custGeom>
            <a:avLst/>
            <a:gdLst/>
            <a:ahLst/>
            <a:rect l="l" t="t" r="r" b="b"/>
            <a:pathLst>
              <a:path w="2539" h="407">
                <a:moveTo>
                  <a:pt x="0" y="0"/>
                </a:moveTo>
                <a:cubicBezTo>
                  <a:pt x="806" y="146"/>
                  <a:pt x="1612" y="293"/>
                  <a:pt x="2035" y="350"/>
                </a:cubicBezTo>
                <a:cubicBezTo>
                  <a:pt x="2458" y="407"/>
                  <a:pt x="2498" y="374"/>
                  <a:pt x="2539" y="341"/>
                </a:cubicBezTo>
              </a:path>
            </a:pathLst>
          </a:custGeom>
          <a:noFill/>
          <a:ln w="25560">
            <a:solidFill>
              <a:srgbClr val="0099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838080" y="2443320"/>
            <a:ext cx="681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738600" y="2239920"/>
            <a:ext cx="68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li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178080" y="1273320"/>
            <a:ext cx="9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ff"/>
                </a:solidFill>
                <a:latin typeface="Arial"/>
              </a:rPr>
              <a:t>New Cli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66200" y="222120"/>
            <a:ext cx="4257720" cy="36360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23400" bIns="23400" anchor="t">
            <a:no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Verdana"/>
              </a:rPr>
              <a:t>Formation &amp; Discovery</a:t>
            </a:r>
            <a:endParaRPr b="1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66200" y="837720"/>
            <a:ext cx="4257720" cy="2811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23400" bIns="23400" anchor="t">
            <a:normAutofit/>
          </a:bodyPr>
          <a:p>
            <a:pPr marL="230040" indent="-230040">
              <a:lnSpc>
                <a:spcPct val="90000"/>
              </a:lnSpc>
              <a:spcBef>
                <a:spcPts val="638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A P2P approach</a:t>
            </a:r>
            <a:endParaRPr b="1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77" name="" descr=""/>
          <p:cNvPicPr/>
          <p:nvPr/>
        </p:nvPicPr>
        <p:blipFill>
          <a:blip r:embed="rId2"/>
          <a:stretch/>
        </p:blipFill>
        <p:spPr>
          <a:xfrm>
            <a:off x="1824120" y="1316160"/>
            <a:ext cx="449280" cy="377640"/>
          </a:xfrm>
          <a:prstGeom prst="rect">
            <a:avLst/>
          </a:prstGeom>
          <a:ln w="0">
            <a:noFill/>
          </a:ln>
        </p:spPr>
      </p:pic>
      <p:pic>
        <p:nvPicPr>
          <p:cNvPr id="578" name="" descr=""/>
          <p:cNvPicPr/>
          <p:nvPr/>
        </p:nvPicPr>
        <p:blipFill>
          <a:blip r:embed="rId3"/>
          <a:stretch/>
        </p:blipFill>
        <p:spPr>
          <a:xfrm>
            <a:off x="1998720" y="1852560"/>
            <a:ext cx="449280" cy="378000"/>
          </a:xfrm>
          <a:prstGeom prst="rect">
            <a:avLst/>
          </a:prstGeom>
          <a:ln w="0">
            <a:noFill/>
          </a:ln>
        </p:spPr>
      </p:pic>
      <p:pic>
        <p:nvPicPr>
          <p:cNvPr id="579" name="" descr=""/>
          <p:cNvPicPr/>
          <p:nvPr/>
        </p:nvPicPr>
        <p:blipFill>
          <a:blip r:embed="rId4"/>
          <a:stretch/>
        </p:blipFill>
        <p:spPr>
          <a:xfrm>
            <a:off x="1789200" y="2367000"/>
            <a:ext cx="449280" cy="377640"/>
          </a:xfrm>
          <a:prstGeom prst="rect">
            <a:avLst/>
          </a:prstGeom>
          <a:ln w="0">
            <a:noFill/>
          </a:ln>
        </p:spPr>
      </p:pic>
      <p:pic>
        <p:nvPicPr>
          <p:cNvPr id="580" name="" descr=""/>
          <p:cNvPicPr/>
          <p:nvPr/>
        </p:nvPicPr>
        <p:blipFill>
          <a:blip r:embed="rId5"/>
          <a:stretch/>
        </p:blipFill>
        <p:spPr>
          <a:xfrm>
            <a:off x="2373480" y="2249640"/>
            <a:ext cx="448920" cy="377640"/>
          </a:xfrm>
          <a:prstGeom prst="rect">
            <a:avLst/>
          </a:prstGeom>
          <a:ln w="0">
            <a:noFill/>
          </a:ln>
        </p:spPr>
      </p:pic>
      <p:pic>
        <p:nvPicPr>
          <p:cNvPr id="581" name="" descr=""/>
          <p:cNvPicPr/>
          <p:nvPr/>
        </p:nvPicPr>
        <p:blipFill>
          <a:blip r:embed="rId6"/>
          <a:stretch/>
        </p:blipFill>
        <p:spPr>
          <a:xfrm>
            <a:off x="2220840" y="2722680"/>
            <a:ext cx="449280" cy="377640"/>
          </a:xfrm>
          <a:prstGeom prst="rect">
            <a:avLst/>
          </a:prstGeom>
          <a:ln w="0">
            <a:noFill/>
          </a:ln>
        </p:spPr>
      </p:pic>
      <p:pic>
        <p:nvPicPr>
          <p:cNvPr id="582" name="" descr=""/>
          <p:cNvPicPr/>
          <p:nvPr/>
        </p:nvPicPr>
        <p:blipFill>
          <a:blip r:embed="rId7"/>
          <a:stretch/>
        </p:blipFill>
        <p:spPr>
          <a:xfrm>
            <a:off x="2438280" y="1905120"/>
            <a:ext cx="449280" cy="379440"/>
          </a:xfrm>
          <a:prstGeom prst="rect">
            <a:avLst/>
          </a:prstGeom>
          <a:ln w="0">
            <a:noFill/>
          </a:ln>
        </p:spPr>
      </p:pic>
      <p:sp>
        <p:nvSpPr>
          <p:cNvPr id="583" name=""/>
          <p:cNvSpPr/>
          <p:nvPr/>
        </p:nvSpPr>
        <p:spPr>
          <a:xfrm>
            <a:off x="2960640" y="2336760"/>
            <a:ext cx="68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li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2400480" y="1370160"/>
            <a:ext cx="9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ff"/>
                </a:solidFill>
                <a:latin typeface="Arial"/>
              </a:rPr>
              <a:t>New Cli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1981080" y="1905120"/>
            <a:ext cx="596160" cy="1092240"/>
            <a:chOff x="1981080" y="1905120"/>
            <a:chExt cx="596160" cy="1092240"/>
          </a:xfrm>
        </p:grpSpPr>
        <p:sp>
          <p:nvSpPr>
            <p:cNvPr id="586" name=""/>
            <p:cNvSpPr/>
            <p:nvPr/>
          </p:nvSpPr>
          <p:spPr>
            <a:xfrm flipH="1" flipV="1">
              <a:off x="2319120" y="1905120"/>
              <a:ext cx="208800" cy="28800"/>
            </a:xfrm>
            <a:prstGeom prst="line">
              <a:avLst/>
            </a:prstGeom>
            <a:ln w="25560">
              <a:solidFill>
                <a:srgbClr val="0099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 flipV="1">
              <a:off x="2039760" y="2172240"/>
              <a:ext cx="153360" cy="174960"/>
            </a:xfrm>
            <a:prstGeom prst="line">
              <a:avLst/>
            </a:prstGeom>
            <a:ln w="25560">
              <a:solidFill>
                <a:srgbClr val="0099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 flipH="1">
              <a:off x="2159640" y="2331360"/>
              <a:ext cx="231480" cy="136440"/>
            </a:xfrm>
            <a:prstGeom prst="line">
              <a:avLst/>
            </a:prstGeom>
            <a:ln w="25560">
              <a:solidFill>
                <a:srgbClr val="0099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981080" y="2654280"/>
              <a:ext cx="331920" cy="343080"/>
            </a:xfrm>
            <a:custGeom>
              <a:avLst/>
              <a:gdLst/>
              <a:ahLst/>
              <a:rect l="l" t="t" r="r" b="b"/>
              <a:pathLst>
                <a:path w="2213" h="1131">
                  <a:moveTo>
                    <a:pt x="0" y="0"/>
                  </a:moveTo>
                  <a:cubicBezTo>
                    <a:pt x="559" y="380"/>
                    <a:pt x="1119" y="761"/>
                    <a:pt x="1488" y="946"/>
                  </a:cubicBezTo>
                  <a:cubicBezTo>
                    <a:pt x="1857" y="1131"/>
                    <a:pt x="2035" y="1120"/>
                    <a:pt x="2213" y="1109"/>
                  </a:cubicBezTo>
                </a:path>
              </a:pathLst>
            </a:custGeom>
            <a:noFill/>
            <a:ln w="25560">
              <a:solidFill>
                <a:srgbClr val="0099ff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 flipH="1">
              <a:off x="2558880" y="2562480"/>
              <a:ext cx="18360" cy="245880"/>
            </a:xfrm>
            <a:prstGeom prst="line">
              <a:avLst/>
            </a:prstGeom>
            <a:ln w="25560">
              <a:solidFill>
                <a:srgbClr val="0099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66200" y="222120"/>
            <a:ext cx="4257720" cy="36360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23400" bIns="23400" anchor="t">
            <a:no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Verdana"/>
              </a:rPr>
              <a:t>P2P Formation</a:t>
            </a:r>
            <a:endParaRPr b="1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66200" y="837720"/>
            <a:ext cx="4257720" cy="11476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23400" bIns="23400" anchor="t">
            <a:normAutofit/>
          </a:bodyPr>
          <a:p>
            <a:pPr marL="230040" indent="-230040">
              <a:lnSpc>
                <a:spcPct val="90000"/>
              </a:lnSpc>
              <a:spcBef>
                <a:spcPts val="638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Approaches</a:t>
            </a:r>
            <a:endParaRPr b="1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439560" indent="-207720">
              <a:lnSpc>
                <a:spcPct val="90000"/>
              </a:lnSpc>
              <a:spcBef>
                <a:spcPts val="561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1" lang="en-US" sz="1500" spc="-1" strike="noStrike">
                <a:solidFill>
                  <a:srgbClr val="0099ff"/>
                </a:solidFill>
                <a:latin typeface="Verdana"/>
              </a:rPr>
              <a:t>Active approach</a:t>
            </a:r>
            <a:endParaRPr b="1" lang="en-US" sz="1500" spc="-1" strike="noStrike">
              <a:solidFill>
                <a:srgbClr val="0099ff"/>
              </a:solidFill>
              <a:latin typeface="Verdana"/>
            </a:endParaRPr>
          </a:p>
          <a:p>
            <a:pPr lvl="1" marL="439560" indent="-207720">
              <a:lnSpc>
                <a:spcPct val="90000"/>
              </a:lnSpc>
              <a:spcBef>
                <a:spcPts val="561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1" lang="en-US" sz="1500" spc="-1" strike="noStrike">
                <a:solidFill>
                  <a:srgbClr val="0099ff"/>
                </a:solidFill>
                <a:latin typeface="Verdana"/>
              </a:rPr>
              <a:t>Passive approach</a:t>
            </a:r>
            <a:endParaRPr b="1" lang="en-US" sz="1500" spc="-1" strike="noStrike">
              <a:solidFill>
                <a:srgbClr val="0099ff"/>
              </a:solidFill>
              <a:latin typeface="Verdana"/>
            </a:endParaRPr>
          </a:p>
          <a:p>
            <a:pPr marL="230040" indent="-230040">
              <a:lnSpc>
                <a:spcPct val="90000"/>
              </a:lnSpc>
              <a:spcBef>
                <a:spcPts val="638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Need for escalation</a:t>
            </a:r>
            <a:endParaRPr b="1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3" name=""/>
          <p:cNvSpPr/>
          <p:nvPr/>
        </p:nvSpPr>
        <p:spPr>
          <a:xfrm>
            <a:off x="2043000" y="1951200"/>
            <a:ext cx="1065240" cy="901440"/>
          </a:xfrm>
          <a:prstGeom prst="cloudCallout">
            <a:avLst>
              <a:gd name="adj1" fmla="val 14532"/>
              <a:gd name="adj2" fmla="val -17782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mmunity for ‘Golf’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3505320" y="1901160"/>
            <a:ext cx="635040" cy="468360"/>
          </a:xfrm>
          <a:prstGeom prst="foldedCorner">
            <a:avLst>
              <a:gd name="adj" fmla="val 125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Claimed: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99ff"/>
                </a:solidFill>
                <a:latin typeface="Arial"/>
              </a:rPr>
              <a:t>Financ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99ff"/>
                </a:solidFill>
                <a:latin typeface="Arial"/>
              </a:rPr>
              <a:t>Cincinnati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3505320" y="2450520"/>
            <a:ext cx="635040" cy="830520"/>
          </a:xfrm>
          <a:prstGeom prst="foldedCorner">
            <a:avLst>
              <a:gd name="adj" fmla="val 125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Personal: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99ff"/>
                </a:solidFill>
                <a:latin typeface="Arial"/>
              </a:rPr>
              <a:t>Boxing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99ff"/>
                </a:solidFill>
                <a:latin typeface="Arial"/>
              </a:rPr>
              <a:t>Cincinnati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99ff"/>
                </a:solidFill>
                <a:latin typeface="Arial"/>
              </a:rPr>
              <a:t>Financ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99ff"/>
                </a:solidFill>
                <a:latin typeface="Arial"/>
              </a:rPr>
              <a:t>Golf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99ff"/>
                </a:solidFill>
                <a:latin typeface="Arial"/>
              </a:rPr>
              <a:t>Star War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3435480" y="2941560"/>
            <a:ext cx="755640" cy="10656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0" bIns="28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3260880" y="2027160"/>
            <a:ext cx="299880" cy="979560"/>
          </a:xfrm>
          <a:custGeom>
            <a:avLst/>
            <a:gdLst/>
            <a:ahLst/>
            <a:rect l="l" t="t" r="r" b="b"/>
            <a:pathLst>
              <a:path w="427" h="1395">
                <a:moveTo>
                  <a:pt x="248" y="1395"/>
                </a:moveTo>
                <a:cubicBezTo>
                  <a:pt x="124" y="1178"/>
                  <a:pt x="0" y="962"/>
                  <a:pt x="30" y="730"/>
                </a:cubicBezTo>
                <a:cubicBezTo>
                  <a:pt x="60" y="498"/>
                  <a:pt x="243" y="249"/>
                  <a:pt x="427" y="0"/>
                </a:cubicBezTo>
              </a:path>
            </a:pathLst>
          </a:custGeom>
          <a:noFill/>
          <a:ln w="12600">
            <a:solidFill>
              <a:srgbClr val="ff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66200" y="222120"/>
            <a:ext cx="4257720" cy="36360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23400" bIns="23400" anchor="t">
            <a:no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Verdana"/>
              </a:rPr>
              <a:t>P2P Formation Results</a:t>
            </a:r>
            <a:endParaRPr b="1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66200" y="838080"/>
            <a:ext cx="4257720" cy="11332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23400" bIns="23400" anchor="t">
            <a:normAutofit/>
          </a:bodyPr>
          <a:p>
            <a:pPr lvl="3" marL="800280" indent="-173160">
              <a:lnSpc>
                <a:spcPct val="90000"/>
              </a:lnSpc>
              <a:spcBef>
                <a:spcPts val="224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  <a:tab algn="l" pos="9834480"/>
              </a:tabLst>
            </a:pPr>
            <a:r>
              <a:rPr b="1" lang="en-US" sz="600" spc="-1" strike="noStrike">
                <a:solidFill>
                  <a:srgbClr val="0099ff"/>
                </a:solidFill>
                <a:latin typeface="Verdana"/>
              </a:rPr>
              <a:t>C</a:t>
            </a:r>
            <a:r>
              <a:rPr b="1" lang="en-US" sz="600" spc="-1" strike="noStrike" baseline="-25000">
                <a:solidFill>
                  <a:srgbClr val="0099ff"/>
                </a:solidFill>
                <a:latin typeface="Verdana"/>
              </a:rPr>
              <a:t>p</a:t>
            </a:r>
            <a:r>
              <a:rPr b="1" lang="en-US" sz="600" spc="-1" strike="noStrike">
                <a:solidFill>
                  <a:srgbClr val="0099ff"/>
                </a:solidFill>
                <a:latin typeface="Verdana"/>
              </a:rPr>
              <a:t> = claimed attribute set of Peer P</a:t>
            </a:r>
            <a:endParaRPr b="1" lang="en-US" sz="600" spc="-1" strike="noStrike">
              <a:solidFill>
                <a:srgbClr val="000000"/>
              </a:solidFill>
              <a:latin typeface="Verdana"/>
            </a:endParaRPr>
          </a:p>
          <a:p>
            <a:pPr lvl="3" marL="800280" indent="-173160">
              <a:lnSpc>
                <a:spcPct val="90000"/>
              </a:lnSpc>
              <a:spcBef>
                <a:spcPts val="224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  <a:tab algn="l" pos="9834480"/>
              </a:tabLst>
            </a:pPr>
            <a:r>
              <a:rPr b="1" lang="en-US" sz="600" spc="-1" strike="noStrike">
                <a:solidFill>
                  <a:srgbClr val="0099ff"/>
                </a:solidFill>
                <a:latin typeface="Verdana"/>
              </a:rPr>
              <a:t>P</a:t>
            </a:r>
            <a:r>
              <a:rPr b="1" lang="en-US" sz="600" spc="-1" strike="noStrike" baseline="-25000">
                <a:solidFill>
                  <a:srgbClr val="0099ff"/>
                </a:solidFill>
                <a:latin typeface="Verdana"/>
              </a:rPr>
              <a:t>q</a:t>
            </a:r>
            <a:r>
              <a:rPr b="1" lang="en-US" sz="600" spc="-1" strike="noStrike">
                <a:solidFill>
                  <a:srgbClr val="0099ff"/>
                </a:solidFill>
                <a:latin typeface="Verdana"/>
              </a:rPr>
              <a:t> = personal attribute set of Peer Q</a:t>
            </a:r>
            <a:endParaRPr b="1" lang="en-US" sz="600" spc="-1" strike="noStrike">
              <a:solidFill>
                <a:srgbClr val="000000"/>
              </a:solidFill>
              <a:latin typeface="Verdana"/>
            </a:endParaRPr>
          </a:p>
          <a:p>
            <a:pPr lvl="3" marL="800280" indent="-173160">
              <a:lnSpc>
                <a:spcPct val="90000"/>
              </a:lnSpc>
              <a:spcBef>
                <a:spcPts val="224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  <a:tab algn="l" pos="9834480"/>
              </a:tabLst>
            </a:pPr>
            <a:r>
              <a:rPr b="1" lang="en-US" sz="600" spc="-1" strike="noStrike">
                <a:solidFill>
                  <a:srgbClr val="0099ff"/>
                </a:solidFill>
                <a:latin typeface="Verdana"/>
              </a:rPr>
              <a:t>Remember a set has unique elements</a:t>
            </a:r>
            <a:endParaRPr b="1" lang="en-US" sz="600" spc="-1" strike="noStrike">
              <a:solidFill>
                <a:srgbClr val="000000"/>
              </a:solidFill>
              <a:latin typeface="Verdana"/>
            </a:endParaRPr>
          </a:p>
          <a:p>
            <a:pPr lvl="3" marL="8002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  <a:tab algn="l" pos="9834480"/>
              </a:tabLst>
            </a:pPr>
            <a:endParaRPr b="1" lang="en-US" sz="600" spc="-1" strike="noStrike">
              <a:solidFill>
                <a:srgbClr val="000000"/>
              </a:solidFill>
              <a:latin typeface="Verdana"/>
            </a:endParaRPr>
          </a:p>
          <a:p>
            <a:pPr marL="230040" indent="-230040">
              <a:lnSpc>
                <a:spcPct val="90000"/>
              </a:lnSpc>
              <a:spcBef>
                <a:spcPts val="3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Peer P sends C</a:t>
            </a:r>
            <a:r>
              <a:rPr b="1" lang="en-US" sz="800" spc="-1" strike="noStrike" baseline="-25000">
                <a:solidFill>
                  <a:srgbClr val="000000"/>
                </a:solidFill>
                <a:latin typeface="Verdana"/>
              </a:rPr>
              <a:t>p</a:t>
            </a: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 to 2 levels of neighbors</a:t>
            </a:r>
            <a:endParaRPr b="1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30040" indent="-230040">
              <a:lnSpc>
                <a:spcPct val="90000"/>
              </a:lnSpc>
              <a:spcBef>
                <a:spcPts val="3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Receiving peer Q finds 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 = C</a:t>
            </a:r>
            <a:r>
              <a:rPr b="1" lang="en-US" sz="800" spc="-1" strike="noStrike" baseline="-25000">
                <a:solidFill>
                  <a:srgbClr val="000000"/>
                </a:solidFill>
                <a:latin typeface="Verdana"/>
              </a:rPr>
              <a:t>p</a:t>
            </a: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 ∩ P</a:t>
            </a:r>
            <a:r>
              <a:rPr b="1" lang="en-US" sz="800" spc="-1" strike="noStrike" baseline="-25000">
                <a:solidFill>
                  <a:srgbClr val="000000"/>
                </a:solidFill>
                <a:latin typeface="Verdana"/>
              </a:rPr>
              <a:t>q</a:t>
            </a:r>
            <a:endParaRPr b="1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30040" indent="-230040">
              <a:lnSpc>
                <a:spcPct val="90000"/>
              </a:lnSpc>
              <a:spcBef>
                <a:spcPts val="3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All elements of 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 are added to C</a:t>
            </a:r>
            <a:r>
              <a:rPr b="1" lang="en-US" sz="800" spc="-1" strike="noStrike" baseline="-25000">
                <a:solidFill>
                  <a:srgbClr val="000000"/>
                </a:solidFill>
                <a:latin typeface="Verdana"/>
              </a:rPr>
              <a:t>q</a:t>
            </a:r>
            <a:endParaRPr b="1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30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endParaRPr b="1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600" name=""/>
          <p:cNvGraphicFramePr/>
          <p:nvPr/>
        </p:nvGraphicFramePr>
        <p:xfrm>
          <a:off x="1143000" y="1676520"/>
          <a:ext cx="2895480" cy="17715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60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3000" y="1676520"/>
                    <a:ext cx="2895480" cy="17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66200" y="222120"/>
            <a:ext cx="4257720" cy="36360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23400" bIns="23400" anchor="t">
            <a:no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Verdana"/>
              </a:rPr>
              <a:t>P2P Discovery</a:t>
            </a:r>
            <a:endParaRPr b="1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66200" y="837720"/>
            <a:ext cx="4257720" cy="165420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23400" bIns="23400" anchor="t">
            <a:normAutofit/>
          </a:bodyPr>
          <a:p>
            <a:pPr marL="230040" indent="-230040">
              <a:lnSpc>
                <a:spcPct val="90000"/>
              </a:lnSpc>
              <a:spcBef>
                <a:spcPts val="264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Verdana"/>
              </a:rPr>
              <a:t>MEMBERSHIP-DISCOVERY (at each peer)</a:t>
            </a: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230040" indent="0">
              <a:lnSpc>
                <a:spcPct val="90000"/>
              </a:lnSpc>
              <a:spcBef>
                <a:spcPts val="113"/>
              </a:spcBef>
              <a:buNone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endParaRPr b="1" lang="en-US" sz="300" spc="-1" strike="noStrike">
              <a:solidFill>
                <a:srgbClr val="000000"/>
              </a:solidFill>
              <a:latin typeface="Verdana"/>
            </a:endParaRPr>
          </a:p>
          <a:p>
            <a:pPr marL="230040" indent="-230040">
              <a:lnSpc>
                <a:spcPct val="90000"/>
              </a:lnSpc>
              <a:spcBef>
                <a:spcPts val="264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Verdana"/>
              </a:rPr>
              <a:t>for all </a:t>
            </a:r>
            <a:r>
              <a:rPr b="0" lang="en-US" sz="700" spc="-1" strike="noStrike">
                <a:solidFill>
                  <a:srgbClr val="0099ff"/>
                </a:solidFill>
                <a:latin typeface="Verdana"/>
              </a:rPr>
              <a:t>claimed attributes</a:t>
            </a: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  <a:p>
            <a:pPr lvl="1" marL="439560" indent="-207720">
              <a:lnSpc>
                <a:spcPct val="90000"/>
              </a:lnSpc>
              <a:spcBef>
                <a:spcPts val="224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0" lang="en-US" sz="600" spc="-1" strike="noStrike">
                <a:solidFill>
                  <a:srgbClr val="0099ff"/>
                </a:solidFill>
                <a:latin typeface="Verdana"/>
              </a:rPr>
              <a:t>compute outlink weight</a:t>
            </a:r>
            <a:endParaRPr b="1" lang="en-US" sz="600" spc="-1" strike="noStrike">
              <a:solidFill>
                <a:srgbClr val="0099ff"/>
              </a:solidFill>
              <a:latin typeface="Verdana"/>
            </a:endParaRPr>
          </a:p>
          <a:p>
            <a:pPr lvl="1" marL="439560" indent="-207720">
              <a:lnSpc>
                <a:spcPct val="90000"/>
              </a:lnSpc>
              <a:spcBef>
                <a:spcPts val="224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0" lang="en-US" sz="600" spc="-1" strike="noStrike">
                <a:solidFill>
                  <a:srgbClr val="0099ff"/>
                </a:solidFill>
                <a:latin typeface="Verdana"/>
              </a:rPr>
              <a:t>compute inlink weight</a:t>
            </a:r>
            <a:endParaRPr b="1" lang="en-US" sz="600" spc="-1" strike="noStrike">
              <a:solidFill>
                <a:srgbClr val="0099ff"/>
              </a:solidFill>
              <a:latin typeface="Verdana"/>
            </a:endParaRPr>
          </a:p>
          <a:p>
            <a:pPr marL="230040" indent="-230040">
              <a:lnSpc>
                <a:spcPct val="90000"/>
              </a:lnSpc>
              <a:spcBef>
                <a:spcPts val="264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Verdana"/>
              </a:rPr>
              <a:t>end-for</a:t>
            </a: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230040" indent="0">
              <a:lnSpc>
                <a:spcPct val="90000"/>
              </a:lnSpc>
              <a:spcBef>
                <a:spcPts val="113"/>
              </a:spcBef>
              <a:buNone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endParaRPr b="1" lang="en-US" sz="300" spc="-1" strike="noStrike">
              <a:solidFill>
                <a:srgbClr val="000000"/>
              </a:solidFill>
              <a:latin typeface="Verdana"/>
            </a:endParaRPr>
          </a:p>
          <a:p>
            <a:pPr marL="230040" indent="-230040">
              <a:lnSpc>
                <a:spcPct val="90000"/>
              </a:lnSpc>
              <a:spcBef>
                <a:spcPts val="264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Verdana"/>
              </a:rPr>
              <a:t>for all </a:t>
            </a:r>
            <a:r>
              <a:rPr b="0" lang="en-US" sz="700" spc="-1" strike="noStrike">
                <a:solidFill>
                  <a:srgbClr val="0099ff"/>
                </a:solidFill>
                <a:latin typeface="Verdana"/>
              </a:rPr>
              <a:t>subsets S of claimed attributes set</a:t>
            </a: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  <a:p>
            <a:pPr lvl="1" marL="439560" indent="-207720">
              <a:lnSpc>
                <a:spcPct val="90000"/>
              </a:lnSpc>
              <a:spcBef>
                <a:spcPts val="224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Verdana"/>
              </a:rPr>
              <a:t>for all </a:t>
            </a:r>
            <a:r>
              <a:rPr b="0" lang="en-US" sz="600" spc="-1" strike="noStrike">
                <a:solidFill>
                  <a:srgbClr val="0099ff"/>
                </a:solidFill>
                <a:latin typeface="Verdana"/>
              </a:rPr>
              <a:t>attributes in S</a:t>
            </a:r>
            <a:endParaRPr b="1" lang="en-US" sz="600" spc="-1" strike="noStrike">
              <a:solidFill>
                <a:srgbClr val="0099ff"/>
              </a:solidFill>
              <a:latin typeface="Verdana"/>
            </a:endParaRPr>
          </a:p>
          <a:p>
            <a:pPr lvl="2" marL="625320" indent="-183960">
              <a:lnSpc>
                <a:spcPct val="90000"/>
              </a:lnSpc>
              <a:spcBef>
                <a:spcPts val="187"/>
              </a:spcBef>
              <a:buClr>
                <a:srgbClr val="0099ff"/>
              </a:buClr>
              <a:buSzPct val="75000"/>
              <a:buFont typeface="Wingdings" charset="2"/>
              <a:buChar char=""/>
              <a:tabLst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  <a:tab algn="l" pos="983448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Verdana"/>
              </a:rPr>
              <a:t>If </a:t>
            </a:r>
            <a:r>
              <a:rPr b="0" lang="en-US" sz="500" spc="-1" strike="noStrike">
                <a:solidFill>
                  <a:srgbClr val="0099ff"/>
                </a:solidFill>
                <a:latin typeface="Verdana"/>
              </a:rPr>
              <a:t>outlink weight &gt; T</a:t>
            </a:r>
            <a:r>
              <a:rPr b="1" lang="en-US" sz="500" spc="-1" strike="noStrike">
                <a:solidFill>
                  <a:srgbClr val="000000"/>
                </a:solidFill>
                <a:latin typeface="Verdana"/>
              </a:rPr>
              <a:t> then </a:t>
            </a:r>
            <a:r>
              <a:rPr b="0" lang="en-US" sz="500" spc="-1" strike="noStrike">
                <a:solidFill>
                  <a:srgbClr val="0099ff"/>
                </a:solidFill>
                <a:latin typeface="Verdana"/>
              </a:rPr>
              <a:t>check next attribute</a:t>
            </a:r>
            <a:endParaRPr b="1" lang="en-US" sz="500" spc="-1" strike="noStrike">
              <a:solidFill>
                <a:srgbClr val="000000"/>
              </a:solidFill>
              <a:latin typeface="Verdana"/>
            </a:endParaRPr>
          </a:p>
          <a:p>
            <a:pPr lvl="2" marL="625320" indent="-183960">
              <a:lnSpc>
                <a:spcPct val="90000"/>
              </a:lnSpc>
              <a:spcBef>
                <a:spcPts val="187"/>
              </a:spcBef>
              <a:buClr>
                <a:srgbClr val="0099ff"/>
              </a:buClr>
              <a:buSzPct val="75000"/>
              <a:buFont typeface="Wingdings" charset="2"/>
              <a:buChar char=""/>
              <a:tabLst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  <a:tab algn="l" pos="983448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Verdana"/>
              </a:rPr>
              <a:t>Else </a:t>
            </a:r>
            <a:r>
              <a:rPr b="0" lang="en-US" sz="500" spc="-1" strike="noStrike">
                <a:solidFill>
                  <a:srgbClr val="0099ff"/>
                </a:solidFill>
                <a:latin typeface="Verdana"/>
              </a:rPr>
              <a:t>break-for</a:t>
            </a:r>
            <a:endParaRPr b="1" lang="en-US" sz="500" spc="-1" strike="noStrike">
              <a:solidFill>
                <a:srgbClr val="000000"/>
              </a:solidFill>
              <a:latin typeface="Verdana"/>
            </a:endParaRPr>
          </a:p>
          <a:p>
            <a:pPr lvl="1" marL="439560" indent="-207720">
              <a:lnSpc>
                <a:spcPct val="90000"/>
              </a:lnSpc>
              <a:spcBef>
                <a:spcPts val="224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Verdana"/>
              </a:rPr>
              <a:t>end-for</a:t>
            </a:r>
            <a:endParaRPr b="1" lang="en-US" sz="600" spc="-1" strike="noStrike">
              <a:solidFill>
                <a:srgbClr val="0099ff"/>
              </a:solidFill>
              <a:latin typeface="Verdana"/>
            </a:endParaRPr>
          </a:p>
          <a:p>
            <a:pPr lvl="1" marL="439560" indent="0">
              <a:lnSpc>
                <a:spcPct val="90000"/>
              </a:lnSpc>
              <a:spcBef>
                <a:spcPts val="113"/>
              </a:spcBef>
              <a:buNone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endParaRPr b="1" lang="en-US" sz="300" spc="-1" strike="noStrike">
              <a:solidFill>
                <a:srgbClr val="0099ff"/>
              </a:solidFill>
              <a:latin typeface="Verdana"/>
            </a:endParaRPr>
          </a:p>
          <a:p>
            <a:pPr lvl="1" marL="439560" indent="-207720">
              <a:lnSpc>
                <a:spcPct val="90000"/>
              </a:lnSpc>
              <a:spcBef>
                <a:spcPts val="224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Verdana"/>
              </a:rPr>
              <a:t>if </a:t>
            </a:r>
            <a:r>
              <a:rPr b="0" lang="en-US" sz="600" spc="-1" strike="noStrike">
                <a:solidFill>
                  <a:srgbClr val="0099ff"/>
                </a:solidFill>
                <a:latin typeface="Verdana"/>
              </a:rPr>
              <a:t>no break-for was executed</a:t>
            </a:r>
            <a:endParaRPr b="1" lang="en-US" sz="600" spc="-1" strike="noStrike">
              <a:solidFill>
                <a:srgbClr val="0099ff"/>
              </a:solidFill>
              <a:latin typeface="Verdana"/>
            </a:endParaRPr>
          </a:p>
          <a:p>
            <a:pPr lvl="2" marL="625320" indent="-183960">
              <a:lnSpc>
                <a:spcPct val="90000"/>
              </a:lnSpc>
              <a:spcBef>
                <a:spcPts val="187"/>
              </a:spcBef>
              <a:buClr>
                <a:srgbClr val="0099ff"/>
              </a:buClr>
              <a:buSzPct val="75000"/>
              <a:buFont typeface="Wingdings" charset="2"/>
              <a:buChar char=""/>
              <a:tabLst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  <a:tab algn="l" pos="9834480"/>
              </a:tabLst>
            </a:pPr>
            <a:r>
              <a:rPr b="0" lang="en-US" sz="500" spc="-1" strike="noStrike">
                <a:solidFill>
                  <a:srgbClr val="0099ff"/>
                </a:solidFill>
                <a:latin typeface="Verdana"/>
              </a:rPr>
              <a:t>peer is member of community with signature S</a:t>
            </a:r>
            <a:endParaRPr b="1" lang="en-US" sz="500" spc="-1" strike="noStrike">
              <a:solidFill>
                <a:srgbClr val="000000"/>
              </a:solidFill>
              <a:latin typeface="Verdana"/>
            </a:endParaRPr>
          </a:p>
          <a:p>
            <a:pPr marL="230040" indent="-230040">
              <a:lnSpc>
                <a:spcPct val="90000"/>
              </a:lnSpc>
              <a:spcBef>
                <a:spcPts val="264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Verdana"/>
              </a:rPr>
              <a:t>end-for</a:t>
            </a: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04" name="" descr=""/>
          <p:cNvPicPr/>
          <p:nvPr/>
        </p:nvPicPr>
        <p:blipFill>
          <a:blip r:embed="rId2"/>
          <a:stretch/>
        </p:blipFill>
        <p:spPr>
          <a:xfrm>
            <a:off x="3581280" y="838080"/>
            <a:ext cx="905040" cy="854280"/>
          </a:xfrm>
          <a:prstGeom prst="rect">
            <a:avLst/>
          </a:prstGeom>
          <a:ln w="0">
            <a:noFill/>
          </a:ln>
        </p:spPr>
      </p:pic>
      <p:sp>
        <p:nvSpPr>
          <p:cNvPr id="605" name=""/>
          <p:cNvSpPr/>
          <p:nvPr/>
        </p:nvSpPr>
        <p:spPr>
          <a:xfrm>
            <a:off x="3649680" y="1820880"/>
            <a:ext cx="828720" cy="8254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649680" y="2479680"/>
            <a:ext cx="82872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3649680" y="2313000"/>
            <a:ext cx="82872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649680" y="2155680"/>
            <a:ext cx="82872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3649680" y="1987560"/>
            <a:ext cx="82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3649680" y="1820880"/>
            <a:ext cx="82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3649680" y="1820880"/>
            <a:ext cx="828720" cy="825480"/>
          </a:xfrm>
          <a:prstGeom prst="rect">
            <a:avLst/>
          </a:prstGeom>
          <a:noFill/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3649680" y="2509920"/>
            <a:ext cx="828720" cy="136440"/>
          </a:xfrm>
          <a:custGeom>
            <a:avLst/>
            <a:gdLst/>
            <a:ahLst/>
            <a:rect l="l" t="t" r="r" b="b"/>
            <a:pathLst>
              <a:path w="1065" h="176">
                <a:moveTo>
                  <a:pt x="0" y="176"/>
                </a:moveTo>
                <a:lnTo>
                  <a:pt x="0" y="0"/>
                </a:lnTo>
                <a:lnTo>
                  <a:pt x="1065" y="63"/>
                </a:lnTo>
                <a:lnTo>
                  <a:pt x="1065" y="176"/>
                </a:lnTo>
                <a:lnTo>
                  <a:pt x="0" y="176"/>
                </a:lnTo>
                <a:close/>
              </a:path>
            </a:pathLst>
          </a:custGeom>
          <a:solidFill>
            <a:srgbClr val="96969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3649680" y="1820880"/>
            <a:ext cx="828720" cy="738000"/>
          </a:xfrm>
          <a:custGeom>
            <a:avLst/>
            <a:gdLst/>
            <a:ahLst/>
            <a:rect l="l" t="t" r="r" b="b"/>
            <a:pathLst>
              <a:path w="1065" h="945">
                <a:moveTo>
                  <a:pt x="0" y="882"/>
                </a:moveTo>
                <a:lnTo>
                  <a:pt x="0" y="0"/>
                </a:lnTo>
                <a:lnTo>
                  <a:pt x="1065" y="0"/>
                </a:lnTo>
                <a:lnTo>
                  <a:pt x="1065" y="945"/>
                </a:lnTo>
                <a:lnTo>
                  <a:pt x="0" y="88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3649680" y="2509920"/>
            <a:ext cx="828720" cy="136440"/>
          </a:xfrm>
          <a:custGeom>
            <a:avLst/>
            <a:gdLst/>
            <a:ahLst/>
            <a:rect l="l" t="t" r="r" b="b"/>
            <a:pathLst>
              <a:path w="1065" h="176">
                <a:moveTo>
                  <a:pt x="0" y="176"/>
                </a:moveTo>
                <a:lnTo>
                  <a:pt x="0" y="0"/>
                </a:lnTo>
                <a:lnTo>
                  <a:pt x="1065" y="63"/>
                </a:lnTo>
                <a:lnTo>
                  <a:pt x="1065" y="176"/>
                </a:lnTo>
                <a:lnTo>
                  <a:pt x="0" y="176"/>
                </a:lnTo>
              </a:path>
            </a:pathLst>
          </a:custGeom>
          <a:noFill/>
          <a:ln w="20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649680" y="1820880"/>
            <a:ext cx="828720" cy="738000"/>
          </a:xfrm>
          <a:custGeom>
            <a:avLst/>
            <a:gdLst/>
            <a:ahLst/>
            <a:rect l="l" t="t" r="r" b="b"/>
            <a:pathLst>
              <a:path w="1065" h="945">
                <a:moveTo>
                  <a:pt x="0" y="882"/>
                </a:moveTo>
                <a:lnTo>
                  <a:pt x="0" y="0"/>
                </a:lnTo>
                <a:lnTo>
                  <a:pt x="1065" y="0"/>
                </a:lnTo>
                <a:lnTo>
                  <a:pt x="1065" y="945"/>
                </a:lnTo>
                <a:lnTo>
                  <a:pt x="0" y="882"/>
                </a:lnTo>
              </a:path>
            </a:pathLst>
          </a:custGeom>
          <a:noFill/>
          <a:ln w="20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3649680" y="1820880"/>
            <a:ext cx="0" cy="825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3618000" y="2646360"/>
            <a:ext cx="31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618000" y="2479680"/>
            <a:ext cx="316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3618000" y="2313000"/>
            <a:ext cx="316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3618000" y="2155680"/>
            <a:ext cx="316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3618000" y="1987560"/>
            <a:ext cx="31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618000" y="1820880"/>
            <a:ext cx="31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3649680" y="2646360"/>
            <a:ext cx="82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 flipV="1">
            <a:off x="3649680" y="2646360"/>
            <a:ext cx="0" cy="30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 flipV="1">
            <a:off x="4478400" y="2646360"/>
            <a:ext cx="1440" cy="30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3425040" y="2577960"/>
            <a:ext cx="16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%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3362760" y="2411280"/>
            <a:ext cx="23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3362760" y="2244600"/>
            <a:ext cx="23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0%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3362760" y="2085840"/>
            <a:ext cx="23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60%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3362760" y="1919160"/>
            <a:ext cx="23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80%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3299040" y="1752480"/>
            <a:ext cx="294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3551760" y="273384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4346640" y="2733840"/>
            <a:ext cx="32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00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584160" y="3009960"/>
            <a:ext cx="943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Number of nod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 rot="16200000">
            <a:off x="2417400" y="2127960"/>
            <a:ext cx="89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% Communitie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 rot="16200000">
            <a:off x="2712960" y="2143800"/>
            <a:ext cx="607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iscover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2590920" y="2952720"/>
            <a:ext cx="860400" cy="2556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2631960" y="3002040"/>
            <a:ext cx="39960" cy="396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2664720" y="2971800"/>
            <a:ext cx="749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Small Fonts"/>
              </a:rPr>
              <a:t>After adjustment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2631960" y="3129120"/>
            <a:ext cx="39960" cy="3960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2664720" y="3098880"/>
            <a:ext cx="822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Small Fonts"/>
              </a:rPr>
              <a:t>Before adjustment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66200" y="222120"/>
            <a:ext cx="4257720" cy="36360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23400" bIns="23400" anchor="t">
            <a:no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Verdana"/>
              </a:rPr>
              <a:t>Benefit of Community</a:t>
            </a:r>
            <a:endParaRPr b="1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66200" y="837720"/>
            <a:ext cx="4257720" cy="15256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23400" bIns="23400" anchor="t">
            <a:normAutofit/>
          </a:bodyPr>
          <a:p>
            <a:pPr marL="230040" indent="-230040">
              <a:lnSpc>
                <a:spcPct val="90000"/>
              </a:lnSpc>
              <a:spcBef>
                <a:spcPts val="561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Better Dissemination of information</a:t>
            </a:r>
            <a:endParaRPr b="1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439560" indent="-207720">
              <a:lnSpc>
                <a:spcPct val="90000"/>
              </a:lnSpc>
              <a:spcBef>
                <a:spcPts val="488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1" lang="en-US" sz="1300" spc="-1" strike="noStrike">
                <a:solidFill>
                  <a:srgbClr val="0099ff"/>
                </a:solidFill>
                <a:latin typeface="Verdana"/>
              </a:rPr>
              <a:t>Interest-based Membership</a:t>
            </a:r>
            <a:endParaRPr b="1" lang="en-US" sz="1300" spc="-1" strike="noStrike">
              <a:solidFill>
                <a:srgbClr val="0099ff"/>
              </a:solidFill>
              <a:latin typeface="Verdana"/>
            </a:endParaRPr>
          </a:p>
          <a:p>
            <a:pPr lvl="1" marL="439560" indent="-207720">
              <a:lnSpc>
                <a:spcPct val="90000"/>
              </a:lnSpc>
              <a:spcBef>
                <a:spcPts val="488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1" lang="en-US" sz="1300" spc="-1" strike="noStrike">
                <a:solidFill>
                  <a:srgbClr val="0099ff"/>
                </a:solidFill>
                <a:latin typeface="Verdana"/>
              </a:rPr>
              <a:t>Sharing Information</a:t>
            </a:r>
            <a:endParaRPr b="1" lang="en-US" sz="1300" spc="-1" strike="noStrike">
              <a:solidFill>
                <a:srgbClr val="0099ff"/>
              </a:solidFill>
              <a:latin typeface="Verdana"/>
            </a:endParaRPr>
          </a:p>
          <a:p>
            <a:pPr marL="23004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endParaRPr b="1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30040" indent="-230040">
              <a:lnSpc>
                <a:spcPct val="90000"/>
              </a:lnSpc>
              <a:spcBef>
                <a:spcPts val="561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Better Searching</a:t>
            </a:r>
            <a:endParaRPr b="1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439560" indent="-207720">
              <a:lnSpc>
                <a:spcPct val="90000"/>
              </a:lnSpc>
              <a:spcBef>
                <a:spcPts val="488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1" lang="en-US" sz="1300" spc="-1" strike="noStrike">
                <a:solidFill>
                  <a:srgbClr val="0099ff"/>
                </a:solidFill>
                <a:latin typeface="Verdana"/>
              </a:rPr>
              <a:t>Community based Search propagation</a:t>
            </a:r>
            <a:endParaRPr b="1" lang="en-US" sz="1300" spc="-1" strike="noStrike">
              <a:solidFill>
                <a:srgbClr val="0099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66200" y="222120"/>
            <a:ext cx="4257720" cy="36360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23400" bIns="23400" anchor="t">
            <a:no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Verdana"/>
              </a:rPr>
              <a:t>Dissemination (Gossip)</a:t>
            </a:r>
            <a:endParaRPr b="1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45" name=""/>
          <p:cNvGrpSpPr/>
          <p:nvPr/>
        </p:nvGrpSpPr>
        <p:grpSpPr>
          <a:xfrm>
            <a:off x="380880" y="982800"/>
            <a:ext cx="4222440" cy="1731240"/>
            <a:chOff x="380880" y="982800"/>
            <a:chExt cx="4222440" cy="1731240"/>
          </a:xfrm>
        </p:grpSpPr>
        <p:grpSp>
          <p:nvGrpSpPr>
            <p:cNvPr id="646" name=""/>
            <p:cNvGrpSpPr/>
            <p:nvPr/>
          </p:nvGrpSpPr>
          <p:grpSpPr>
            <a:xfrm>
              <a:off x="2724480" y="1041480"/>
              <a:ext cx="584640" cy="466200"/>
              <a:chOff x="2724480" y="1041480"/>
              <a:chExt cx="584640" cy="466200"/>
            </a:xfrm>
          </p:grpSpPr>
          <p:sp>
            <p:nvSpPr>
              <p:cNvPr id="647" name=""/>
              <p:cNvSpPr/>
              <p:nvPr/>
            </p:nvSpPr>
            <p:spPr>
              <a:xfrm>
                <a:off x="3075120" y="1158120"/>
                <a:ext cx="58680" cy="5796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2958840" y="1216080"/>
                <a:ext cx="57960" cy="5832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2899800" y="1099800"/>
                <a:ext cx="58680" cy="5796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3016800" y="1274760"/>
                <a:ext cx="58320" cy="5796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3075120" y="1041480"/>
                <a:ext cx="58680" cy="5832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2724480" y="1216080"/>
                <a:ext cx="58320" cy="5832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3075120" y="1391400"/>
                <a:ext cx="58680" cy="5796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2899800" y="1333080"/>
                <a:ext cx="58680" cy="5832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3192480" y="1449720"/>
                <a:ext cx="58680" cy="5796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3134160" y="1274760"/>
                <a:ext cx="57960" cy="5796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2958840" y="1449720"/>
                <a:ext cx="57960" cy="5796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3192480" y="1158120"/>
                <a:ext cx="58680" cy="5796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3251160" y="1041480"/>
                <a:ext cx="57960" cy="5832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3251160" y="1333080"/>
                <a:ext cx="57960" cy="5832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3102480" y="1213920"/>
                <a:ext cx="45720" cy="68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flipH="1">
                <a:off x="3011760" y="1206720"/>
                <a:ext cx="73080" cy="26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flipH="1">
                <a:off x="3057840" y="1216080"/>
                <a:ext cx="36360" cy="53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flipH="1" flipV="1">
                <a:off x="3133800" y="1186560"/>
                <a:ext cx="57960" cy="2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flipH="1">
                <a:off x="3183120" y="1218600"/>
                <a:ext cx="31680" cy="57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flipV="1">
                <a:off x="3075120" y="1203480"/>
                <a:ext cx="124560" cy="78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3107160" y="1097280"/>
                <a:ext cx="7200" cy="63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flipH="1">
                <a:off x="3233520" y="1092600"/>
                <a:ext cx="31680" cy="68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flipH="1">
                <a:off x="3019680" y="1446840"/>
                <a:ext cx="67680" cy="26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flipH="1" flipV="1">
                <a:off x="3131640" y="1429920"/>
                <a:ext cx="65520" cy="36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flipH="1" flipV="1">
                <a:off x="3190320" y="1320480"/>
                <a:ext cx="62640" cy="38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flipH="1">
                <a:off x="3116880" y="1325520"/>
                <a:ext cx="29160" cy="68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flipH="1">
                <a:off x="3074760" y="1301040"/>
                <a:ext cx="58680" cy="2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flipH="1">
                <a:off x="2958840" y="1323360"/>
                <a:ext cx="62640" cy="2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2782800" y="1240200"/>
                <a:ext cx="180720" cy="2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2943720" y="1153440"/>
                <a:ext cx="29160" cy="6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2955960" y="1141200"/>
                <a:ext cx="126360" cy="33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3002040" y="1267560"/>
                <a:ext cx="1944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2958840" y="1364760"/>
                <a:ext cx="119160" cy="43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flipH="1" flipV="1">
                <a:off x="3065400" y="1325160"/>
                <a:ext cx="27000" cy="65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flipV="1">
                <a:off x="2999880" y="1094760"/>
                <a:ext cx="80280" cy="118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2" name=""/>
            <p:cNvSpPr/>
            <p:nvPr/>
          </p:nvSpPr>
          <p:spPr>
            <a:xfrm>
              <a:off x="2539440" y="1096920"/>
              <a:ext cx="185040" cy="13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3" name=""/>
            <p:cNvGrpSpPr/>
            <p:nvPr/>
          </p:nvGrpSpPr>
          <p:grpSpPr>
            <a:xfrm>
              <a:off x="1600200" y="1580400"/>
              <a:ext cx="583560" cy="597240"/>
              <a:chOff x="1600200" y="1580400"/>
              <a:chExt cx="583560" cy="597240"/>
            </a:xfrm>
          </p:grpSpPr>
          <p:sp>
            <p:nvSpPr>
              <p:cNvPr id="684" name=""/>
              <p:cNvSpPr/>
              <p:nvPr/>
            </p:nvSpPr>
            <p:spPr>
              <a:xfrm rot="3289200">
                <a:off x="1917360" y="1844280"/>
                <a:ext cx="58680" cy="57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9200">
                <a:off x="1802880" y="1782360"/>
                <a:ext cx="57960" cy="586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9200">
                <a:off x="1864440" y="1667520"/>
                <a:ext cx="58680" cy="58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3289200">
                <a:off x="1788120" y="1863720"/>
                <a:ext cx="57960" cy="58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3289200">
                <a:off x="2012760" y="1776600"/>
                <a:ext cx="58680" cy="586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3289200">
                <a:off x="1668240" y="1591560"/>
                <a:ext cx="57960" cy="586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3289200">
                <a:off x="1726200" y="1978920"/>
                <a:ext cx="58680" cy="58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3289200">
                <a:off x="1672920" y="1802160"/>
                <a:ext cx="58680" cy="586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289200">
                <a:off x="1745640" y="2107800"/>
                <a:ext cx="58680" cy="57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289200">
                <a:off x="1855440" y="1959120"/>
                <a:ext cx="57960" cy="58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3289200">
                <a:off x="1611720" y="1917360"/>
                <a:ext cx="57960" cy="57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3289200">
                <a:off x="1984680" y="1939680"/>
                <a:ext cx="58680" cy="57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3289200">
                <a:off x="2113920" y="1919880"/>
                <a:ext cx="57960" cy="586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3289200">
                <a:off x="1875240" y="2088000"/>
                <a:ext cx="57960" cy="586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flipH="1">
                <a:off x="1894320" y="1887120"/>
                <a:ext cx="29160" cy="7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flipH="1" flipV="1">
                <a:off x="1855800" y="1824840"/>
                <a:ext cx="63720" cy="4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flipH="1">
                <a:off x="1851840" y="1881720"/>
                <a:ext cx="651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flipH="1" flipV="1">
                <a:off x="1963800" y="1896840"/>
                <a:ext cx="31320" cy="48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flipH="1">
                <a:off x="1918080" y="1981440"/>
                <a:ext cx="65880" cy="7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1852200" y="1904400"/>
                <a:ext cx="135720" cy="56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flipH="1">
                <a:off x="1974240" y="1823400"/>
                <a:ext cx="47520" cy="42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flipH="1">
                <a:off x="2043000" y="1949760"/>
                <a:ext cx="73800" cy="13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flipH="1" flipV="1">
                <a:off x="1662840" y="1969560"/>
                <a:ext cx="60840" cy="39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flipH="1" flipV="1">
                <a:off x="1763280" y="2035440"/>
                <a:ext cx="7920" cy="74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flipH="1" flipV="1">
                <a:off x="1887120" y="2020320"/>
                <a:ext cx="3960" cy="73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 flipH="1">
                <a:off x="1784880" y="1986840"/>
                <a:ext cx="7236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 flipH="1" flipV="1">
                <a:off x="1834560" y="1916280"/>
                <a:ext cx="35640" cy="46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 flipH="1" flipV="1">
                <a:off x="1733400" y="1845720"/>
                <a:ext cx="54000" cy="38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718280" y="1641600"/>
                <a:ext cx="101520" cy="148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 flipH="1">
                <a:off x="1847160" y="1722600"/>
                <a:ext cx="34560" cy="59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899000" y="1725480"/>
                <a:ext cx="45000" cy="122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 flipH="1">
                <a:off x="1819800" y="1836000"/>
                <a:ext cx="2520" cy="25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717560" y="1856880"/>
                <a:ext cx="32400" cy="122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 flipV="1">
                <a:off x="1772280" y="1920960"/>
                <a:ext cx="38520" cy="60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flipV="1">
                <a:off x="1864800" y="1800360"/>
                <a:ext cx="14328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9" name=""/>
            <p:cNvGrpSpPr/>
            <p:nvPr/>
          </p:nvGrpSpPr>
          <p:grpSpPr>
            <a:xfrm>
              <a:off x="2511720" y="1512000"/>
              <a:ext cx="665640" cy="700920"/>
              <a:chOff x="2511720" y="1512000"/>
              <a:chExt cx="665640" cy="700920"/>
            </a:xfrm>
          </p:grpSpPr>
          <p:sp>
            <p:nvSpPr>
              <p:cNvPr id="720" name=""/>
              <p:cNvSpPr/>
              <p:nvPr/>
            </p:nvSpPr>
            <p:spPr>
              <a:xfrm rot="15467400">
                <a:off x="2648160" y="1920960"/>
                <a:ext cx="57960" cy="58680"/>
              </a:xfrm>
              <a:prstGeom prst="ellipse">
                <a:avLst/>
              </a:prstGeom>
              <a:solidFill>
                <a:srgbClr val="66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5467400">
                <a:off x="2737080" y="1782720"/>
                <a:ext cx="58680" cy="57960"/>
              </a:xfrm>
              <a:prstGeom prst="ellipse">
                <a:avLst/>
              </a:prstGeom>
              <a:solidFill>
                <a:srgbClr val="66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 rot="15467400">
                <a:off x="2827440" y="1643760"/>
                <a:ext cx="58320" cy="57960"/>
              </a:xfrm>
              <a:prstGeom prst="ellipse">
                <a:avLst/>
              </a:prstGeom>
              <a:solidFill>
                <a:srgbClr val="66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5467400">
                <a:off x="2598480" y="1693080"/>
                <a:ext cx="58320" cy="58680"/>
              </a:xfrm>
              <a:prstGeom prst="ellipse">
                <a:avLst/>
              </a:prstGeom>
              <a:solidFill>
                <a:srgbClr val="66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 rot="15467400">
                <a:off x="2864880" y="1814760"/>
                <a:ext cx="57960" cy="57960"/>
              </a:xfrm>
              <a:prstGeom prst="ellipse">
                <a:avLst/>
              </a:prstGeom>
              <a:solidFill>
                <a:srgbClr val="66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 rot="15467400">
                <a:off x="2565720" y="1819800"/>
                <a:ext cx="58680" cy="57960"/>
              </a:xfrm>
              <a:prstGeom prst="ellipse">
                <a:avLst/>
              </a:prstGeom>
              <a:solidFill>
                <a:srgbClr val="66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 rot="15467400">
                <a:off x="2762280" y="1896480"/>
                <a:ext cx="57960" cy="57960"/>
              </a:xfrm>
              <a:prstGeom prst="ellipse">
                <a:avLst/>
              </a:prstGeom>
              <a:solidFill>
                <a:srgbClr val="66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 rot="15467400">
                <a:off x="2954520" y="1675800"/>
                <a:ext cx="57960" cy="58320"/>
              </a:xfrm>
              <a:prstGeom prst="ellipse">
                <a:avLst/>
              </a:prstGeom>
              <a:solidFill>
                <a:srgbClr val="66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 rot="15467400">
                <a:off x="2700720" y="1611720"/>
                <a:ext cx="57960" cy="57960"/>
              </a:xfrm>
              <a:prstGeom prst="ellipse">
                <a:avLst/>
              </a:prstGeom>
              <a:solidFill>
                <a:srgbClr val="66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 rot="15467400">
                <a:off x="2991600" y="1846800"/>
                <a:ext cx="57960" cy="58320"/>
              </a:xfrm>
              <a:prstGeom prst="ellipse">
                <a:avLst/>
              </a:prstGeom>
              <a:solidFill>
                <a:srgbClr val="66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 rot="15467400">
                <a:off x="3113640" y="1581840"/>
                <a:ext cx="58320" cy="57960"/>
              </a:xfrm>
              <a:prstGeom prst="ellipse">
                <a:avLst/>
              </a:prstGeom>
              <a:solidFill>
                <a:srgbClr val="66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 rot="15467400">
                <a:off x="3084840" y="2005560"/>
                <a:ext cx="58680" cy="57960"/>
              </a:xfrm>
              <a:prstGeom prst="ellipse">
                <a:avLst/>
              </a:prstGeom>
              <a:solidFill>
                <a:srgbClr val="66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 rot="15467400">
                <a:off x="2844360" y="1997640"/>
                <a:ext cx="57960" cy="58680"/>
              </a:xfrm>
              <a:prstGeom prst="ellipse">
                <a:avLst/>
              </a:prstGeom>
              <a:solidFill>
                <a:srgbClr val="66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 rot="15467400">
                <a:off x="2697480" y="2148840"/>
                <a:ext cx="57960" cy="58680"/>
              </a:xfrm>
              <a:prstGeom prst="ellipse">
                <a:avLst/>
              </a:prstGeom>
              <a:solidFill>
                <a:srgbClr val="66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 rot="15467400">
                <a:off x="2860560" y="1517040"/>
                <a:ext cx="57960" cy="58680"/>
              </a:xfrm>
              <a:prstGeom prst="ellipse">
                <a:avLst/>
              </a:prstGeom>
              <a:solidFill>
                <a:srgbClr val="66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 rot="15467400">
                <a:off x="2517120" y="1591920"/>
                <a:ext cx="57960" cy="57960"/>
              </a:xfrm>
              <a:prstGeom prst="ellipse">
                <a:avLst/>
              </a:prstGeom>
              <a:solidFill>
                <a:srgbClr val="66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 flipV="1">
                <a:off x="2746080" y="2041920"/>
                <a:ext cx="105840" cy="109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2903400" y="2025720"/>
                <a:ext cx="182160" cy="12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2759760" y="1649880"/>
                <a:ext cx="67320" cy="2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2746440" y="1662120"/>
                <a:ext cx="12600" cy="124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 flipH="1">
                <a:off x="2647800" y="1656720"/>
                <a:ext cx="55440" cy="54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 flipV="1">
                <a:off x="2753640" y="1561680"/>
                <a:ext cx="111240" cy="61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2756520" y="1657800"/>
                <a:ext cx="121680" cy="160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 flipH="1" flipV="1">
                <a:off x="2571120" y="1620720"/>
                <a:ext cx="128520" cy="6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 flipH="1">
                <a:off x="2618640" y="1666080"/>
                <a:ext cx="99360" cy="16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2615760" y="1872360"/>
                <a:ext cx="35640" cy="6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 flipH="1">
                <a:off x="2693160" y="1837800"/>
                <a:ext cx="59040" cy="9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2765880" y="1842120"/>
                <a:ext cx="15840" cy="60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 flipH="1" flipV="1">
                <a:off x="2812680" y="1944000"/>
                <a:ext cx="41760" cy="65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 flipV="1">
                <a:off x="2880360" y="1874520"/>
                <a:ext cx="10080" cy="126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2882160" y="1687680"/>
                <a:ext cx="113400" cy="17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 flipH="1">
                <a:off x="2817000" y="1887120"/>
                <a:ext cx="176040" cy="28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 flipH="1" flipV="1">
                <a:off x="2887200" y="1673640"/>
                <a:ext cx="69480" cy="22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 flipH="1">
                <a:off x="3007440" y="1622880"/>
                <a:ext cx="108000" cy="68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 flipV="1">
                <a:off x="2655000" y="1691280"/>
                <a:ext cx="176040" cy="2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2910960" y="1564560"/>
                <a:ext cx="61560" cy="11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 flipH="1" flipV="1">
                <a:off x="2639520" y="1752480"/>
                <a:ext cx="35640" cy="163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 flipH="1">
                <a:off x="2864880" y="1577520"/>
                <a:ext cx="23400" cy="64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 flipV="1">
                <a:off x="2795400" y="1700640"/>
                <a:ext cx="50040" cy="10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 flipH="1" flipV="1">
                <a:off x="2865240" y="1701360"/>
                <a:ext cx="27000" cy="115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 flipH="1" flipV="1">
                <a:off x="2656080" y="1734480"/>
                <a:ext cx="82440" cy="70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936800" y="1964520"/>
              <a:ext cx="511200" cy="473400"/>
              <a:chOff x="1936800" y="1964520"/>
              <a:chExt cx="511200" cy="473400"/>
            </a:xfrm>
          </p:grpSpPr>
          <p:sp>
            <p:nvSpPr>
              <p:cNvPr id="762" name=""/>
              <p:cNvSpPr/>
              <p:nvPr/>
            </p:nvSpPr>
            <p:spPr>
              <a:xfrm rot="12053400">
                <a:off x="2277000" y="2371320"/>
                <a:ext cx="58680" cy="5796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 rot="12053400">
                <a:off x="2373480" y="2282400"/>
                <a:ext cx="57960" cy="5832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 rot="12053400">
                <a:off x="2044800" y="2157120"/>
                <a:ext cx="58680" cy="5832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 rot="12053400">
                <a:off x="2058120" y="2287800"/>
                <a:ext cx="57960" cy="5796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 rot="12053400">
                <a:off x="2381040" y="2098440"/>
                <a:ext cx="58680" cy="5796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 rot="12053400">
                <a:off x="2196000" y="2089800"/>
                <a:ext cx="58680" cy="586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 rot="12053400">
                <a:off x="2053080" y="1972800"/>
                <a:ext cx="58320" cy="5796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 rot="12053400">
                <a:off x="2188800" y="2274840"/>
                <a:ext cx="57960" cy="586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 flipH="1">
                <a:off x="2323080" y="2329560"/>
                <a:ext cx="56520" cy="46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 flipV="1">
                <a:off x="2115720" y="2316960"/>
                <a:ext cx="73440" cy="1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2083680" y="2212200"/>
                <a:ext cx="108720" cy="77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2219400" y="2143440"/>
                <a:ext cx="3600" cy="134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 flipH="1">
                <a:off x="2403000" y="2156400"/>
                <a:ext cx="1800" cy="127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2101320" y="2027520"/>
                <a:ext cx="107640" cy="72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1936800" y="2136960"/>
                <a:ext cx="110160" cy="39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2244240" y="2295720"/>
                <a:ext cx="129600" cy="10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 flipH="1" flipV="1">
                <a:off x="2065320" y="2217600"/>
                <a:ext cx="19440" cy="64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2242080" y="2321640"/>
                <a:ext cx="41760" cy="5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1554120" y="982800"/>
              <a:ext cx="995040" cy="642240"/>
              <a:chOff x="1554120" y="982800"/>
              <a:chExt cx="995040" cy="642240"/>
            </a:xfrm>
          </p:grpSpPr>
          <p:sp>
            <p:nvSpPr>
              <p:cNvPr id="781" name=""/>
              <p:cNvSpPr/>
              <p:nvPr/>
            </p:nvSpPr>
            <p:spPr>
              <a:xfrm>
                <a:off x="1788480" y="1040760"/>
                <a:ext cx="57960" cy="5868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1905120" y="1157760"/>
                <a:ext cx="58680" cy="5796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2022120" y="1274760"/>
                <a:ext cx="58680" cy="5796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022120" y="1040760"/>
                <a:ext cx="58680" cy="5868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1846440" y="1274760"/>
                <a:ext cx="58320" cy="5796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1905120" y="982800"/>
                <a:ext cx="58680" cy="5796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1788480" y="1157760"/>
                <a:ext cx="57960" cy="5796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2197800" y="1099800"/>
                <a:ext cx="58680" cy="5796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1963800" y="1391760"/>
                <a:ext cx="57960" cy="5796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2081160" y="1157760"/>
                <a:ext cx="57960" cy="5796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2256480" y="1157760"/>
                <a:ext cx="57960" cy="5796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1788480" y="1391760"/>
                <a:ext cx="57960" cy="5796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2490480" y="1391760"/>
                <a:ext cx="58680" cy="5796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2490480" y="1040760"/>
                <a:ext cx="58680" cy="5868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2314800" y="1391760"/>
                <a:ext cx="58680" cy="5796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2314800" y="982800"/>
                <a:ext cx="58680" cy="5796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2256480" y="1274760"/>
                <a:ext cx="57960" cy="5796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2022120" y="1567080"/>
                <a:ext cx="58680" cy="5796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197800" y="1508400"/>
                <a:ext cx="58680" cy="5868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2431800" y="1216080"/>
                <a:ext cx="58320" cy="5868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1612440" y="1450080"/>
                <a:ext cx="58680" cy="5796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2373840" y="1567080"/>
                <a:ext cx="57960" cy="5796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1671120" y="1216080"/>
                <a:ext cx="57960" cy="5868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1554120" y="1040760"/>
                <a:ext cx="58320" cy="5868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2139120" y="1333080"/>
                <a:ext cx="58320" cy="5868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2139120" y="982800"/>
                <a:ext cx="58320" cy="5796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1605240" y="1094760"/>
                <a:ext cx="85320" cy="126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flipH="1">
                <a:off x="1644120" y="1274760"/>
                <a:ext cx="51120" cy="174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flipH="1">
                <a:off x="2056320" y="1213920"/>
                <a:ext cx="38520" cy="60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flipH="1" flipV="1">
                <a:off x="1961280" y="1184760"/>
                <a:ext cx="124560" cy="1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flipH="1" flipV="1">
                <a:off x="2058840" y="1091880"/>
                <a:ext cx="41040" cy="65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2122560" y="1213920"/>
                <a:ext cx="36360" cy="121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flipH="1">
                <a:off x="1904760" y="1209240"/>
                <a:ext cx="182520" cy="84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flipV="1">
                <a:off x="2131920" y="1145520"/>
                <a:ext cx="70920" cy="19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flipV="1">
                <a:off x="2129760" y="1035720"/>
                <a:ext cx="33480" cy="124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flipH="1" flipV="1">
                <a:off x="1948680" y="1038600"/>
                <a:ext cx="138600" cy="131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flipH="1">
                <a:off x="1838880" y="1026720"/>
                <a:ext cx="68040" cy="21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flipH="1" flipV="1">
                <a:off x="1831680" y="1089720"/>
                <a:ext cx="80640" cy="77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flipH="1">
                <a:off x="1841400" y="1179720"/>
                <a:ext cx="63000" cy="2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flipV="1">
                <a:off x="1721880" y="1203480"/>
                <a:ext cx="73080" cy="27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1724760" y="1257840"/>
                <a:ext cx="121680" cy="36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flipH="1">
                <a:off x="1834200" y="1325520"/>
                <a:ext cx="197640" cy="72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flipV="1">
                <a:off x="1812960" y="1213920"/>
                <a:ext cx="9360" cy="177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flipV="1">
                <a:off x="2008080" y="1333080"/>
                <a:ext cx="36360" cy="63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flipH="1" flipV="1">
                <a:off x="2190240" y="1028520"/>
                <a:ext cx="131400" cy="1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flipH="1">
                <a:off x="2136600" y="1186920"/>
                <a:ext cx="121680" cy="2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flipH="1">
                <a:off x="2190240" y="1299240"/>
                <a:ext cx="63000" cy="41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flipH="1" flipV="1">
                <a:off x="2354040" y="1038600"/>
                <a:ext cx="97200" cy="17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flipH="1" flipV="1">
                <a:off x="2197440" y="1367640"/>
                <a:ext cx="129240" cy="33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flipH="1" flipV="1">
                <a:off x="2131920" y="1209240"/>
                <a:ext cx="136800" cy="72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flipH="1" flipV="1">
                <a:off x="2173320" y="1388880"/>
                <a:ext cx="51120" cy="123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flipH="1" flipV="1">
                <a:off x="2002680" y="1447560"/>
                <a:ext cx="43920" cy="119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flipH="1" flipV="1">
                <a:off x="2248920" y="1549800"/>
                <a:ext cx="126360" cy="29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flipH="1">
                <a:off x="2373480" y="1418400"/>
                <a:ext cx="116280" cy="2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flipH="1" flipV="1">
                <a:off x="2368440" y="1023480"/>
                <a:ext cx="121680" cy="5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flipH="1">
                <a:off x="2248920" y="1040760"/>
                <a:ext cx="82440" cy="63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H="1">
                <a:off x="2039040" y="1096920"/>
                <a:ext cx="10080" cy="17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flipV="1">
                <a:off x="2078280" y="1201320"/>
                <a:ext cx="185400" cy="106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2183400" y="1036080"/>
                <a:ext cx="33480" cy="68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flipH="1">
                <a:off x="2022120" y="1379880"/>
                <a:ext cx="124560" cy="36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1851480" y="1075320"/>
                <a:ext cx="168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2285640" y="1211400"/>
                <a:ext cx="146160" cy="31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2300760" y="1335960"/>
                <a:ext cx="41040" cy="53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2249280" y="1143720"/>
                <a:ext cx="27000" cy="18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flipH="1" flipV="1">
                <a:off x="2080800" y="1318680"/>
                <a:ext cx="57960" cy="36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1934640" y="1216080"/>
                <a:ext cx="91800" cy="70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V="1">
                <a:off x="1902960" y="1306440"/>
                <a:ext cx="1191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flipV="1">
                <a:off x="1946880" y="1094760"/>
                <a:ext cx="87120" cy="65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1651320" y="1504080"/>
                <a:ext cx="35640" cy="9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0" name=""/>
            <p:cNvSpPr/>
            <p:nvPr/>
          </p:nvSpPr>
          <p:spPr>
            <a:xfrm flipH="1" flipV="1">
              <a:off x="2421360" y="1597680"/>
              <a:ext cx="97560" cy="1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2439000" y="2127240"/>
              <a:ext cx="262440" cy="4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 flipH="1" flipV="1">
              <a:off x="2025720" y="1987200"/>
              <a:ext cx="36000" cy="2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 flipV="1">
              <a:off x="2103120" y="1969920"/>
              <a:ext cx="20160" cy="12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3341160" y="1098360"/>
              <a:ext cx="12621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Verdana"/>
                </a:rPr>
                <a:t>Peers selling Game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1772280" y="2498400"/>
              <a:ext cx="1709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Verdana"/>
                </a:rPr>
                <a:t>Peers buying Game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3173400" y="1779840"/>
              <a:ext cx="1105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Verdana"/>
                </a:rPr>
                <a:t>Peers buying Artwork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579960" y="1990080"/>
              <a:ext cx="1098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Verdana"/>
                </a:rPr>
                <a:t>Peers selling Artwork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380880" y="1104480"/>
              <a:ext cx="1303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Verdana"/>
                </a:rPr>
                <a:t>Peers buying/selling Book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66200" y="222120"/>
            <a:ext cx="4257720" cy="36360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23400" bIns="23400" anchor="t">
            <a:no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Verdana"/>
              </a:rPr>
              <a:t>Dissemination Results</a:t>
            </a:r>
            <a:endParaRPr b="1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60" name="" descr=""/>
          <p:cNvPicPr/>
          <p:nvPr/>
        </p:nvPicPr>
        <p:blipFill>
          <a:blip r:embed="rId2"/>
          <a:stretch/>
        </p:blipFill>
        <p:spPr>
          <a:xfrm>
            <a:off x="1143000" y="720720"/>
            <a:ext cx="268596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j0212043(p)" descr="Click To Download"/>
          <p:cNvPicPr/>
          <p:nvPr/>
        </p:nvPicPr>
        <p:blipFill>
          <a:blip r:embed="rId2"/>
          <a:stretch/>
        </p:blipFill>
        <p:spPr>
          <a:xfrm>
            <a:off x="685800" y="152280"/>
            <a:ext cx="822240" cy="8226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600200" y="38088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ebruary 8, 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533520" y="2286000"/>
          <a:ext cx="1944720" cy="1111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2286000"/>
                    <a:ext cx="1944720" cy="111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4" name="logo-no-border(1)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85800" y="990720"/>
            <a:ext cx="746280" cy="2156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95200" y="1647720"/>
            <a:ext cx="482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422440" y="1693800"/>
            <a:ext cx="573120" cy="1220760"/>
            <a:chOff x="2422440" y="1693800"/>
            <a:chExt cx="573120" cy="1220760"/>
          </a:xfrm>
        </p:grpSpPr>
        <p:sp>
          <p:nvSpPr>
            <p:cNvPr id="97" name=""/>
            <p:cNvSpPr/>
            <p:nvPr/>
          </p:nvSpPr>
          <p:spPr>
            <a:xfrm>
              <a:off x="2422440" y="1693800"/>
              <a:ext cx="5731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422440" y="1693800"/>
              <a:ext cx="573120" cy="12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56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                            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9" name="logo_171x102" descr="eBay logo"/>
          <p:cNvPicPr/>
          <p:nvPr/>
        </p:nvPicPr>
        <p:blipFill>
          <a:blip r:embed="rId7"/>
          <a:stretch/>
        </p:blipFill>
        <p:spPr>
          <a:xfrm>
            <a:off x="1676520" y="914400"/>
            <a:ext cx="555480" cy="254160"/>
          </a:xfrm>
          <a:prstGeom prst="rect">
            <a:avLst/>
          </a:prstGeom>
          <a:ln w="0">
            <a:noFill/>
          </a:ln>
        </p:spPr>
      </p:pic>
      <p:pic>
        <p:nvPicPr>
          <p:cNvPr id="100" name="cnn" descr="CNN.com"/>
          <p:cNvPicPr/>
          <p:nvPr/>
        </p:nvPicPr>
        <p:blipFill>
          <a:blip r:embed="rId8"/>
          <a:stretch/>
        </p:blipFill>
        <p:spPr>
          <a:xfrm>
            <a:off x="2514600" y="914400"/>
            <a:ext cx="965160" cy="219240"/>
          </a:xfrm>
          <a:prstGeom prst="rect">
            <a:avLst/>
          </a:prstGeom>
          <a:ln w="0">
            <a:noFill/>
          </a:ln>
        </p:spPr>
      </p:pic>
      <p:pic>
        <p:nvPicPr>
          <p:cNvPr id="101" name="j0152948(p)" descr="Click To Download"/>
          <p:cNvPicPr/>
          <p:nvPr/>
        </p:nvPicPr>
        <p:blipFill>
          <a:blip r:embed="rId9"/>
          <a:stretch/>
        </p:blipFill>
        <p:spPr>
          <a:xfrm>
            <a:off x="533520" y="1219320"/>
            <a:ext cx="965160" cy="965160"/>
          </a:xfrm>
          <a:prstGeom prst="rect">
            <a:avLst/>
          </a:prstGeom>
          <a:ln w="0">
            <a:noFill/>
          </a:ln>
        </p:spPr>
      </p:pic>
      <p:pic>
        <p:nvPicPr>
          <p:cNvPr id="102" name="j0152948(p)" descr="Click To Download"/>
          <p:cNvPicPr/>
          <p:nvPr/>
        </p:nvPicPr>
        <p:blipFill>
          <a:blip r:embed="rId10"/>
          <a:stretch/>
        </p:blipFill>
        <p:spPr>
          <a:xfrm>
            <a:off x="1447920" y="1219320"/>
            <a:ext cx="965160" cy="965160"/>
          </a:xfrm>
          <a:prstGeom prst="rect">
            <a:avLst/>
          </a:prstGeom>
          <a:ln w="0">
            <a:noFill/>
          </a:ln>
        </p:spPr>
      </p:pic>
      <p:pic>
        <p:nvPicPr>
          <p:cNvPr id="103" name="j0152948(p)" descr="Click To Download"/>
          <p:cNvPicPr/>
          <p:nvPr/>
        </p:nvPicPr>
        <p:blipFill>
          <a:blip r:embed="rId11"/>
          <a:stretch/>
        </p:blipFill>
        <p:spPr>
          <a:xfrm>
            <a:off x="2438280" y="1219320"/>
            <a:ext cx="965160" cy="965160"/>
          </a:xfrm>
          <a:prstGeom prst="rect">
            <a:avLst/>
          </a:prstGeom>
          <a:ln w="0">
            <a:noFill/>
          </a:ln>
        </p:spPr>
      </p:pic>
      <p:pic>
        <p:nvPicPr>
          <p:cNvPr id="104" name="j0152948(p)" descr="Click To Download"/>
          <p:cNvPicPr/>
          <p:nvPr/>
        </p:nvPicPr>
        <p:blipFill>
          <a:blip r:embed="rId12"/>
          <a:stretch/>
        </p:blipFill>
        <p:spPr>
          <a:xfrm>
            <a:off x="3505320" y="1219320"/>
            <a:ext cx="965160" cy="965160"/>
          </a:xfrm>
          <a:prstGeom prst="rect">
            <a:avLst/>
          </a:prstGeom>
          <a:ln w="0">
            <a:noFill/>
          </a:ln>
        </p:spPr>
      </p:pic>
      <p:pic>
        <p:nvPicPr>
          <p:cNvPr id="105" name="ghome_et" descr=""/>
          <p:cNvPicPr/>
          <p:nvPr/>
        </p:nvPicPr>
        <p:blipFill>
          <a:blip r:embed="rId13"/>
          <a:stretch/>
        </p:blipFill>
        <p:spPr>
          <a:xfrm>
            <a:off x="3581280" y="990720"/>
            <a:ext cx="924120" cy="161640"/>
          </a:xfrm>
          <a:prstGeom prst="rect">
            <a:avLst/>
          </a:prstGeom>
          <a:ln w="0">
            <a:noFill/>
          </a:ln>
        </p:spPr>
      </p:pic>
      <p:pic>
        <p:nvPicPr>
          <p:cNvPr id="106" name="j0078820(p)" descr="Click To Download"/>
          <p:cNvPicPr/>
          <p:nvPr/>
        </p:nvPicPr>
        <p:blipFill>
          <a:blip r:embed="rId14"/>
          <a:stretch/>
        </p:blipFill>
        <p:spPr>
          <a:xfrm>
            <a:off x="2514600" y="2362320"/>
            <a:ext cx="507960" cy="507960"/>
          </a:xfrm>
          <a:prstGeom prst="rect">
            <a:avLst/>
          </a:prstGeom>
          <a:ln w="0">
            <a:noFill/>
          </a:ln>
        </p:spPr>
      </p:pic>
      <p:pic>
        <p:nvPicPr>
          <p:cNvPr id="107" name="j0078782(p)" descr="Click To Download"/>
          <p:cNvPicPr/>
          <p:nvPr/>
        </p:nvPicPr>
        <p:blipFill>
          <a:blip r:embed="rId15"/>
          <a:stretch/>
        </p:blipFill>
        <p:spPr>
          <a:xfrm>
            <a:off x="2819520" y="2666880"/>
            <a:ext cx="660240" cy="660600"/>
          </a:xfrm>
          <a:prstGeom prst="rect">
            <a:avLst/>
          </a:prstGeom>
          <a:ln w="0">
            <a:noFill/>
          </a:ln>
        </p:spPr>
      </p:pic>
      <p:pic>
        <p:nvPicPr>
          <p:cNvPr id="108" name="j0078718(p)" descr="Click To Download"/>
          <p:cNvPicPr/>
          <p:nvPr/>
        </p:nvPicPr>
        <p:blipFill>
          <a:blip r:embed="rId16"/>
          <a:stretch/>
        </p:blipFill>
        <p:spPr>
          <a:xfrm>
            <a:off x="4038480" y="2286000"/>
            <a:ext cx="507960" cy="507960"/>
          </a:xfrm>
          <a:prstGeom prst="rect">
            <a:avLst/>
          </a:prstGeom>
          <a:ln w="0">
            <a:noFill/>
          </a:ln>
        </p:spPr>
      </p:pic>
      <p:pic>
        <p:nvPicPr>
          <p:cNvPr id="109" name="BS00693_(p)" descr="Click To Download"/>
          <p:cNvPicPr/>
          <p:nvPr/>
        </p:nvPicPr>
        <p:blipFill>
          <a:blip r:embed="rId17"/>
          <a:stretch/>
        </p:blipFill>
        <p:spPr>
          <a:xfrm>
            <a:off x="3581280" y="2743200"/>
            <a:ext cx="507960" cy="5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66200" y="222120"/>
            <a:ext cx="4257720" cy="36360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23400" bIns="23400" anchor="t">
            <a:no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Verdana"/>
              </a:rPr>
              <a:t>Searching</a:t>
            </a:r>
            <a:endParaRPr b="1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456840" y="762120"/>
            <a:ext cx="4267080" cy="23835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23400" bIns="23400" anchor="t">
            <a:normAutofit/>
          </a:bodyPr>
          <a:p>
            <a:pPr marL="307800" indent="-307800">
              <a:lnSpc>
                <a:spcPct val="90000"/>
              </a:lnSpc>
              <a:spcBef>
                <a:spcPts val="337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Flooding / Swamping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631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99ff"/>
                </a:solidFill>
                <a:latin typeface="Verdana"/>
              </a:rPr>
              <a:t>Send search query to all</a:t>
            </a:r>
            <a:endParaRPr b="1" lang="en-US" sz="800" spc="-1" strike="noStrike">
              <a:solidFill>
                <a:srgbClr val="0099ff"/>
              </a:solidFill>
              <a:latin typeface="Verdana"/>
            </a:endParaRPr>
          </a:p>
          <a:p>
            <a:pPr marL="3078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07800" indent="-307800">
              <a:lnSpc>
                <a:spcPct val="90000"/>
              </a:lnSpc>
              <a:spcBef>
                <a:spcPts val="337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Gnutella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631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99ff"/>
                </a:solidFill>
                <a:latin typeface="Verdana"/>
              </a:rPr>
              <a:t>Search until certain depth</a:t>
            </a:r>
            <a:endParaRPr b="1" lang="en-US" sz="800" spc="-1" strike="noStrike">
              <a:solidFill>
                <a:srgbClr val="0099ff"/>
              </a:solidFill>
              <a:latin typeface="Verdana"/>
            </a:endParaRPr>
          </a:p>
          <a:p>
            <a:pPr marL="3078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07800" indent="-307800">
              <a:lnSpc>
                <a:spcPct val="90000"/>
              </a:lnSpc>
              <a:spcBef>
                <a:spcPts val="337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Iterative Deepening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631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99ff"/>
                </a:solidFill>
                <a:latin typeface="Verdana"/>
              </a:rPr>
              <a:t>Increase depth iteratively</a:t>
            </a:r>
            <a:endParaRPr b="1" lang="en-US" sz="800" spc="-1" strike="noStrike">
              <a:solidFill>
                <a:srgbClr val="0099ff"/>
              </a:solidFill>
              <a:latin typeface="Verdana"/>
            </a:endParaRPr>
          </a:p>
          <a:p>
            <a:pPr marL="3078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07800" indent="-307800">
              <a:lnSpc>
                <a:spcPct val="90000"/>
              </a:lnSpc>
              <a:spcBef>
                <a:spcPts val="337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Directed BFS / Most popular neighbor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631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99ff"/>
                </a:solidFill>
                <a:latin typeface="Verdana"/>
              </a:rPr>
              <a:t>Intelligently select neighbor</a:t>
            </a:r>
            <a:endParaRPr b="1" lang="en-US" sz="800" spc="-1" strike="noStrike">
              <a:solidFill>
                <a:srgbClr val="0099ff"/>
              </a:solidFill>
              <a:latin typeface="Verdana"/>
            </a:endParaRPr>
          </a:p>
          <a:p>
            <a:pPr marL="3078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07800" indent="-307800">
              <a:lnSpc>
                <a:spcPct val="90000"/>
              </a:lnSpc>
              <a:spcBef>
                <a:spcPts val="337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Local Indices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631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99ff"/>
                </a:solidFill>
                <a:latin typeface="Verdana"/>
              </a:rPr>
              <a:t>Maintain index of all neighbors within a radius</a:t>
            </a:r>
            <a:endParaRPr b="1" lang="en-US" sz="800" spc="-1" strike="noStrike">
              <a:solidFill>
                <a:srgbClr val="0099ff"/>
              </a:solidFill>
              <a:latin typeface="Verdana"/>
            </a:endParaRPr>
          </a:p>
          <a:p>
            <a:pPr marL="307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63" name=""/>
          <p:cNvGrpSpPr/>
          <p:nvPr/>
        </p:nvGrpSpPr>
        <p:grpSpPr>
          <a:xfrm>
            <a:off x="3505320" y="609480"/>
            <a:ext cx="1193760" cy="436320"/>
            <a:chOff x="3505320" y="609480"/>
            <a:chExt cx="1193760" cy="436320"/>
          </a:xfrm>
        </p:grpSpPr>
        <p:sp>
          <p:nvSpPr>
            <p:cNvPr id="864" name=""/>
            <p:cNvSpPr/>
            <p:nvPr/>
          </p:nvSpPr>
          <p:spPr>
            <a:xfrm>
              <a:off x="3664440" y="648720"/>
              <a:ext cx="39600" cy="39600"/>
            </a:xfrm>
            <a:prstGeom prst="ellipse">
              <a:avLst/>
            </a:prstGeom>
            <a:solidFill>
              <a:srgbClr val="ffcc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3744000" y="728280"/>
              <a:ext cx="39600" cy="39240"/>
            </a:xfrm>
            <a:prstGeom prst="ellipse">
              <a:avLst/>
            </a:prstGeom>
            <a:solidFill>
              <a:srgbClr val="ffcc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3823560" y="807840"/>
              <a:ext cx="39600" cy="39600"/>
            </a:xfrm>
            <a:prstGeom prst="ellipse">
              <a:avLst/>
            </a:prstGeom>
            <a:solidFill>
              <a:srgbClr val="ffcc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3823560" y="648720"/>
              <a:ext cx="39600" cy="39600"/>
            </a:xfrm>
            <a:prstGeom prst="ellipse">
              <a:avLst/>
            </a:prstGeom>
            <a:solidFill>
              <a:srgbClr val="ffcc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3704400" y="807840"/>
              <a:ext cx="39600" cy="39600"/>
            </a:xfrm>
            <a:prstGeom prst="ellipse">
              <a:avLst/>
            </a:prstGeom>
            <a:solidFill>
              <a:srgbClr val="ffcc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3744000" y="609480"/>
              <a:ext cx="39600" cy="39240"/>
            </a:xfrm>
            <a:prstGeom prst="ellipse">
              <a:avLst/>
            </a:prstGeom>
            <a:solidFill>
              <a:srgbClr val="ffcc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3664440" y="728280"/>
              <a:ext cx="39600" cy="39240"/>
            </a:xfrm>
            <a:prstGeom prst="ellipse">
              <a:avLst/>
            </a:prstGeom>
            <a:solidFill>
              <a:srgbClr val="ffcc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3943080" y="688680"/>
              <a:ext cx="39600" cy="39600"/>
            </a:xfrm>
            <a:prstGeom prst="ellipse">
              <a:avLst/>
            </a:prstGeom>
            <a:solidFill>
              <a:srgbClr val="ffcc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783960" y="887040"/>
              <a:ext cx="39600" cy="39600"/>
            </a:xfrm>
            <a:prstGeom prst="ellipse">
              <a:avLst/>
            </a:prstGeom>
            <a:solidFill>
              <a:srgbClr val="ffcc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3863160" y="728280"/>
              <a:ext cx="39600" cy="39240"/>
            </a:xfrm>
            <a:prstGeom prst="ellipse">
              <a:avLst/>
            </a:prstGeom>
            <a:solidFill>
              <a:srgbClr val="ffcc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3982680" y="728280"/>
              <a:ext cx="39600" cy="39240"/>
            </a:xfrm>
            <a:prstGeom prst="ellipse">
              <a:avLst/>
            </a:prstGeom>
            <a:solidFill>
              <a:srgbClr val="ffcc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3664440" y="887040"/>
              <a:ext cx="39600" cy="39600"/>
            </a:xfrm>
            <a:prstGeom prst="ellipse">
              <a:avLst/>
            </a:prstGeom>
            <a:solidFill>
              <a:srgbClr val="ffcc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4141800" y="887040"/>
              <a:ext cx="39600" cy="39600"/>
            </a:xfrm>
            <a:prstGeom prst="ellipse">
              <a:avLst/>
            </a:prstGeom>
            <a:solidFill>
              <a:srgbClr val="ffcc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4141800" y="648720"/>
              <a:ext cx="39600" cy="39600"/>
            </a:xfrm>
            <a:prstGeom prst="ellipse">
              <a:avLst/>
            </a:prstGeom>
            <a:solidFill>
              <a:srgbClr val="ffcc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4022640" y="887040"/>
              <a:ext cx="39600" cy="39600"/>
            </a:xfrm>
            <a:prstGeom prst="ellipse">
              <a:avLst/>
            </a:prstGeom>
            <a:solidFill>
              <a:srgbClr val="ffcc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4022640" y="609480"/>
              <a:ext cx="39600" cy="39240"/>
            </a:xfrm>
            <a:prstGeom prst="ellipse">
              <a:avLst/>
            </a:prstGeom>
            <a:solidFill>
              <a:srgbClr val="ffcc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3982680" y="807840"/>
              <a:ext cx="39600" cy="39600"/>
            </a:xfrm>
            <a:prstGeom prst="ellipse">
              <a:avLst/>
            </a:prstGeom>
            <a:solidFill>
              <a:srgbClr val="ffcc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3823560" y="1006200"/>
              <a:ext cx="39600" cy="39600"/>
            </a:xfrm>
            <a:prstGeom prst="ellipse">
              <a:avLst/>
            </a:prstGeom>
            <a:solidFill>
              <a:srgbClr val="ffcc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3943080" y="966600"/>
              <a:ext cx="39600" cy="39240"/>
            </a:xfrm>
            <a:prstGeom prst="ellipse">
              <a:avLst/>
            </a:prstGeom>
            <a:solidFill>
              <a:srgbClr val="ffcc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4102200" y="767880"/>
              <a:ext cx="39600" cy="39600"/>
            </a:xfrm>
            <a:prstGeom prst="ellipse">
              <a:avLst/>
            </a:prstGeom>
            <a:solidFill>
              <a:srgbClr val="ffcc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4539960" y="728280"/>
              <a:ext cx="39600" cy="39240"/>
            </a:xfrm>
            <a:prstGeom prst="ellipse">
              <a:avLst/>
            </a:prstGeom>
            <a:solidFill>
              <a:srgbClr val="ffcc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60400" y="767880"/>
              <a:ext cx="39600" cy="39600"/>
            </a:xfrm>
            <a:prstGeom prst="ellipse">
              <a:avLst/>
            </a:prstGeom>
            <a:solidFill>
              <a:srgbClr val="ffcc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3544920" y="927000"/>
              <a:ext cx="39600" cy="39600"/>
            </a:xfrm>
            <a:prstGeom prst="ellipse">
              <a:avLst/>
            </a:prstGeom>
            <a:solidFill>
              <a:srgbClr val="ffcc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4062600" y="1006200"/>
              <a:ext cx="39600" cy="39600"/>
            </a:xfrm>
            <a:prstGeom prst="ellipse">
              <a:avLst/>
            </a:prstGeom>
            <a:solidFill>
              <a:srgbClr val="ffcc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3584880" y="767880"/>
              <a:ext cx="39600" cy="39600"/>
            </a:xfrm>
            <a:prstGeom prst="ellipse">
              <a:avLst/>
            </a:prstGeom>
            <a:solidFill>
              <a:srgbClr val="ffcc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4420440" y="688680"/>
              <a:ext cx="39600" cy="39600"/>
            </a:xfrm>
            <a:prstGeom prst="ellipse">
              <a:avLst/>
            </a:prstGeom>
            <a:solidFill>
              <a:srgbClr val="ffcc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4500000" y="807840"/>
              <a:ext cx="39600" cy="39600"/>
            </a:xfrm>
            <a:prstGeom prst="ellipse">
              <a:avLst/>
            </a:prstGeom>
            <a:solidFill>
              <a:srgbClr val="ffcc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3505320" y="648720"/>
              <a:ext cx="39600" cy="39600"/>
            </a:xfrm>
            <a:prstGeom prst="ellipse">
              <a:avLst/>
            </a:prstGeom>
            <a:solidFill>
              <a:srgbClr val="ffcc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3903120" y="847440"/>
              <a:ext cx="39600" cy="39240"/>
            </a:xfrm>
            <a:prstGeom prst="ellipse">
              <a:avLst/>
            </a:prstGeom>
            <a:solidFill>
              <a:srgbClr val="ffcc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4539960" y="648720"/>
              <a:ext cx="39600" cy="39600"/>
            </a:xfrm>
            <a:prstGeom prst="ellipse">
              <a:avLst/>
            </a:prstGeom>
            <a:solidFill>
              <a:srgbClr val="ffcc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4301280" y="767880"/>
              <a:ext cx="39600" cy="39600"/>
            </a:xfrm>
            <a:prstGeom prst="ellipse">
              <a:avLst/>
            </a:prstGeom>
            <a:solidFill>
              <a:srgbClr val="ffcc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4539960" y="887040"/>
              <a:ext cx="39600" cy="39600"/>
            </a:xfrm>
            <a:prstGeom prst="ellipse">
              <a:avLst/>
            </a:prstGeom>
            <a:solidFill>
              <a:srgbClr val="ffcc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4420440" y="847440"/>
              <a:ext cx="39600" cy="39240"/>
            </a:xfrm>
            <a:prstGeom prst="ellipse">
              <a:avLst/>
            </a:prstGeom>
            <a:solidFill>
              <a:srgbClr val="ffcc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4619520" y="927000"/>
              <a:ext cx="39600" cy="39600"/>
            </a:xfrm>
            <a:prstGeom prst="ellipse">
              <a:avLst/>
            </a:prstGeom>
            <a:solidFill>
              <a:srgbClr val="ffcc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4579560" y="807840"/>
              <a:ext cx="39600" cy="39600"/>
            </a:xfrm>
            <a:prstGeom prst="ellipse">
              <a:avLst/>
            </a:prstGeom>
            <a:solidFill>
              <a:srgbClr val="ffcc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4460400" y="927000"/>
              <a:ext cx="39600" cy="39600"/>
            </a:xfrm>
            <a:prstGeom prst="ellipse">
              <a:avLst/>
            </a:prstGeom>
            <a:solidFill>
              <a:srgbClr val="ffcc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4619520" y="728280"/>
              <a:ext cx="39600" cy="39240"/>
            </a:xfrm>
            <a:prstGeom prst="ellipse">
              <a:avLst/>
            </a:prstGeom>
            <a:solidFill>
              <a:srgbClr val="ffcc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4659480" y="648720"/>
              <a:ext cx="39600" cy="39600"/>
            </a:xfrm>
            <a:prstGeom prst="ellipse">
              <a:avLst/>
            </a:prstGeom>
            <a:solidFill>
              <a:srgbClr val="ffcc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3903120" y="609480"/>
              <a:ext cx="39600" cy="39240"/>
            </a:xfrm>
            <a:prstGeom prst="ellipse">
              <a:avLst/>
            </a:prstGeom>
            <a:solidFill>
              <a:srgbClr val="ffcc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4659480" y="847440"/>
              <a:ext cx="39600" cy="39240"/>
            </a:xfrm>
            <a:prstGeom prst="ellipse">
              <a:avLst/>
            </a:prstGeom>
            <a:solidFill>
              <a:srgbClr val="ffcc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3540240" y="685440"/>
              <a:ext cx="57600" cy="86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 flipH="1">
              <a:off x="3566520" y="807840"/>
              <a:ext cx="34560" cy="118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 flipH="1">
              <a:off x="3846240" y="766440"/>
              <a:ext cx="26280" cy="41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 flipH="1" flipV="1">
              <a:off x="3781800" y="746280"/>
              <a:ext cx="8460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 flipH="1" flipV="1">
              <a:off x="3848400" y="683640"/>
              <a:ext cx="28080" cy="44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891600" y="766440"/>
              <a:ext cx="24840" cy="82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 flipH="1">
              <a:off x="3743640" y="763200"/>
              <a:ext cx="124200" cy="57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 flipV="1">
              <a:off x="3898440" y="720360"/>
              <a:ext cx="47880" cy="12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 flipV="1">
              <a:off x="3896640" y="645840"/>
              <a:ext cx="23040" cy="84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 flipH="1" flipV="1">
              <a:off x="3773880" y="647280"/>
              <a:ext cx="94320" cy="89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 flipH="1">
              <a:off x="3698640" y="639000"/>
              <a:ext cx="46440" cy="14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 flipH="1" flipV="1">
              <a:off x="3693960" y="682200"/>
              <a:ext cx="54360" cy="52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 flipH="1">
              <a:off x="3700440" y="743400"/>
              <a:ext cx="428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 flipV="1">
              <a:off x="3619800" y="759960"/>
              <a:ext cx="49320" cy="180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3621240" y="796320"/>
              <a:ext cx="82800" cy="24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 flipH="1">
              <a:off x="3696120" y="842400"/>
              <a:ext cx="133920" cy="49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 flipV="1">
              <a:off x="3681000" y="766080"/>
              <a:ext cx="6480" cy="120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 flipV="1">
              <a:off x="3813840" y="847080"/>
              <a:ext cx="24480" cy="42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 flipH="1" flipV="1">
              <a:off x="3938040" y="640800"/>
              <a:ext cx="8928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 flipH="1">
              <a:off x="3901320" y="748440"/>
              <a:ext cx="82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 flipH="1">
              <a:off x="3938040" y="824400"/>
              <a:ext cx="43200" cy="28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 flipH="1" flipV="1">
              <a:off x="4048920" y="646920"/>
              <a:ext cx="66240" cy="120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 flipH="1" flipV="1">
              <a:off x="3942720" y="870840"/>
              <a:ext cx="87480" cy="23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 flipH="1" flipV="1">
              <a:off x="3898080" y="762840"/>
              <a:ext cx="92520" cy="49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 flipH="1" flipV="1">
              <a:off x="3925800" y="885600"/>
              <a:ext cx="34920" cy="84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 flipH="1" flipV="1">
              <a:off x="3809880" y="924840"/>
              <a:ext cx="29880" cy="810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 flipH="1" flipV="1">
              <a:off x="3977640" y="995040"/>
              <a:ext cx="86040" cy="19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 flipH="1">
              <a:off x="4062600" y="905400"/>
              <a:ext cx="792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 flipH="1" flipV="1">
              <a:off x="4059000" y="637200"/>
              <a:ext cx="82800" cy="37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 flipH="1">
              <a:off x="3978000" y="648720"/>
              <a:ext cx="56160" cy="42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 flipH="1">
              <a:off x="3835080" y="686880"/>
              <a:ext cx="6480" cy="120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 flipV="1">
              <a:off x="3861720" y="758160"/>
              <a:ext cx="125640" cy="72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3933000" y="645840"/>
              <a:ext cx="23040" cy="46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 flipH="1">
              <a:off x="3823560" y="879120"/>
              <a:ext cx="84240" cy="24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3707280" y="672120"/>
              <a:ext cx="1144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4002480" y="765000"/>
              <a:ext cx="99360" cy="21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4012560" y="849240"/>
              <a:ext cx="28080" cy="36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3978000" y="718560"/>
              <a:ext cx="18000" cy="12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 flipH="1" flipV="1">
              <a:off x="3863160" y="837720"/>
              <a:ext cx="39600" cy="24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3763800" y="767880"/>
              <a:ext cx="62640" cy="47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 flipV="1">
              <a:off x="3742560" y="829440"/>
              <a:ext cx="810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 flipV="1">
              <a:off x="3772080" y="685440"/>
              <a:ext cx="59760" cy="44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4558320" y="766440"/>
              <a:ext cx="31320" cy="46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 flipH="1">
              <a:off x="4496760" y="761400"/>
              <a:ext cx="49680" cy="180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 flipH="1">
              <a:off x="4528440" y="767880"/>
              <a:ext cx="24480" cy="36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 flipH="1" flipV="1">
              <a:off x="4579560" y="748440"/>
              <a:ext cx="396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 flipH="1">
              <a:off x="4612680" y="769680"/>
              <a:ext cx="21240" cy="39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 flipV="1">
              <a:off x="4539960" y="759960"/>
              <a:ext cx="84240" cy="52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4561560" y="686880"/>
              <a:ext cx="5040" cy="42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 flipH="1">
              <a:off x="4647600" y="683640"/>
              <a:ext cx="21600" cy="46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 flipH="1">
              <a:off x="4501440" y="925200"/>
              <a:ext cx="46440" cy="180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 flipH="1" flipV="1">
              <a:off x="4578120" y="913320"/>
              <a:ext cx="44640" cy="24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 flipH="1" flipV="1">
              <a:off x="4617360" y="839160"/>
              <a:ext cx="42840" cy="26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 flipH="1">
              <a:off x="4568040" y="842400"/>
              <a:ext cx="19440" cy="46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 flipH="1">
              <a:off x="4539960" y="826200"/>
              <a:ext cx="396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 flipH="1">
              <a:off x="4460400" y="840960"/>
              <a:ext cx="43200" cy="14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4340880" y="784800"/>
              <a:ext cx="12276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4450320" y="725040"/>
              <a:ext cx="19800" cy="42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4458960" y="716760"/>
              <a:ext cx="86040" cy="23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4490280" y="802800"/>
              <a:ext cx="13320" cy="11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4460400" y="869040"/>
              <a:ext cx="81000" cy="29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 flipH="1" flipV="1">
              <a:off x="4533120" y="842400"/>
              <a:ext cx="18000" cy="44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 flipV="1">
              <a:off x="4488480" y="685080"/>
              <a:ext cx="54360" cy="810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4174920" y="686880"/>
              <a:ext cx="126000" cy="92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8" name=""/>
          <p:cNvGrpSpPr/>
          <p:nvPr/>
        </p:nvGrpSpPr>
        <p:grpSpPr>
          <a:xfrm>
            <a:off x="3505320" y="1081080"/>
            <a:ext cx="1193760" cy="434880"/>
            <a:chOff x="3505320" y="1081080"/>
            <a:chExt cx="1193760" cy="434880"/>
          </a:xfrm>
        </p:grpSpPr>
        <p:sp>
          <p:nvSpPr>
            <p:cNvPr id="969" name=""/>
            <p:cNvSpPr/>
            <p:nvPr/>
          </p:nvSpPr>
          <p:spPr>
            <a:xfrm>
              <a:off x="3664440" y="1120320"/>
              <a:ext cx="39600" cy="396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3744000" y="1199520"/>
              <a:ext cx="39600" cy="392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823560" y="1278720"/>
              <a:ext cx="39600" cy="396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3823560" y="1120320"/>
              <a:ext cx="39600" cy="396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3704400" y="1278720"/>
              <a:ext cx="39600" cy="396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3744000" y="1081080"/>
              <a:ext cx="39600" cy="392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3664440" y="1199520"/>
              <a:ext cx="39600" cy="392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3943080" y="1159920"/>
              <a:ext cx="39600" cy="396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3783960" y="1357560"/>
              <a:ext cx="39600" cy="396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3863160" y="1199520"/>
              <a:ext cx="39600" cy="392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3982680" y="1199520"/>
              <a:ext cx="39600" cy="392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3664440" y="1357560"/>
              <a:ext cx="39600" cy="396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4141800" y="1357560"/>
              <a:ext cx="39600" cy="396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4141800" y="1120320"/>
              <a:ext cx="39600" cy="396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4022640" y="1357560"/>
              <a:ext cx="39600" cy="396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4022640" y="1081080"/>
              <a:ext cx="39600" cy="392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3982680" y="1278720"/>
              <a:ext cx="39600" cy="396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3823560" y="1476360"/>
              <a:ext cx="39600" cy="396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3943080" y="1436760"/>
              <a:ext cx="39600" cy="392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4102200" y="1239120"/>
              <a:ext cx="39600" cy="396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4539960" y="1199520"/>
              <a:ext cx="39600" cy="392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4460400" y="1239120"/>
              <a:ext cx="39600" cy="396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3544920" y="1397160"/>
              <a:ext cx="39600" cy="396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4062600" y="1476360"/>
              <a:ext cx="39600" cy="396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3584880" y="1239120"/>
              <a:ext cx="39600" cy="396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4420440" y="1159920"/>
              <a:ext cx="39600" cy="396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4500000" y="1278720"/>
              <a:ext cx="39600" cy="396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3505320" y="1120320"/>
              <a:ext cx="39600" cy="396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3903120" y="1318320"/>
              <a:ext cx="39600" cy="392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4539960" y="1120320"/>
              <a:ext cx="39600" cy="396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4301280" y="1239120"/>
              <a:ext cx="39600" cy="396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4539960" y="1357560"/>
              <a:ext cx="39600" cy="396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4420440" y="1318320"/>
              <a:ext cx="39600" cy="392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4619520" y="1397160"/>
              <a:ext cx="39600" cy="396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4579560" y="1278720"/>
              <a:ext cx="39600" cy="396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4460400" y="1397160"/>
              <a:ext cx="39600" cy="396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4619520" y="1199520"/>
              <a:ext cx="39600" cy="392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4659480" y="1120320"/>
              <a:ext cx="39600" cy="396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3903120" y="1081080"/>
              <a:ext cx="39600" cy="392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4659480" y="1318320"/>
              <a:ext cx="39600" cy="392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3540240" y="1156680"/>
              <a:ext cx="57600" cy="85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 flipH="1">
              <a:off x="3566520" y="1278720"/>
              <a:ext cx="34560" cy="118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 flipH="1">
              <a:off x="3846240" y="1237680"/>
              <a:ext cx="26280" cy="41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 flipH="1" flipV="1">
              <a:off x="3781800" y="1217160"/>
              <a:ext cx="8460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 flipH="1" flipV="1">
              <a:off x="3848400" y="1154880"/>
              <a:ext cx="28080" cy="44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3891600" y="1237680"/>
              <a:ext cx="24840" cy="82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 flipH="1">
              <a:off x="3743640" y="1234080"/>
              <a:ext cx="124200" cy="57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 flipV="1">
              <a:off x="3898440" y="1191240"/>
              <a:ext cx="47880" cy="12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 flipV="1">
              <a:off x="3896640" y="1116720"/>
              <a:ext cx="23040" cy="83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 flipH="1" flipV="1">
              <a:off x="3773880" y="1118520"/>
              <a:ext cx="94320" cy="88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 flipH="1">
              <a:off x="3698640" y="1110600"/>
              <a:ext cx="46440" cy="14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 flipH="1" flipV="1">
              <a:off x="3693960" y="1153440"/>
              <a:ext cx="54360" cy="52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 flipH="1">
              <a:off x="3700440" y="1214280"/>
              <a:ext cx="428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 flipV="1">
              <a:off x="3619800" y="1230840"/>
              <a:ext cx="49320" cy="180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3621240" y="1267200"/>
              <a:ext cx="82800" cy="24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 flipH="1">
              <a:off x="3696120" y="1313280"/>
              <a:ext cx="133920" cy="49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 flipV="1">
              <a:off x="3681000" y="1237320"/>
              <a:ext cx="6480" cy="119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 flipV="1">
              <a:off x="3813840" y="1318320"/>
              <a:ext cx="24480" cy="42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 flipH="1" flipV="1">
              <a:off x="3938040" y="1112040"/>
              <a:ext cx="8928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 flipH="1">
              <a:off x="3901320" y="1219320"/>
              <a:ext cx="82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 flipH="1">
              <a:off x="3938040" y="1294920"/>
              <a:ext cx="43200" cy="27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 flipH="1" flipV="1">
              <a:off x="4048920" y="1118520"/>
              <a:ext cx="66240" cy="119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 flipH="1" flipV="1">
              <a:off x="3942720" y="1341360"/>
              <a:ext cx="87480" cy="23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 flipH="1" flipV="1">
              <a:off x="3898080" y="1233720"/>
              <a:ext cx="92520" cy="49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 flipH="1" flipV="1">
              <a:off x="3925800" y="1355760"/>
              <a:ext cx="34920" cy="83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 flipH="1" flipV="1">
              <a:off x="3809880" y="1395720"/>
              <a:ext cx="29880" cy="80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 flipH="1" flipV="1">
              <a:off x="3977640" y="1464840"/>
              <a:ext cx="86040" cy="19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 flipH="1">
              <a:off x="4062600" y="1375920"/>
              <a:ext cx="792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 flipH="1" flipV="1">
              <a:off x="4059000" y="1108800"/>
              <a:ext cx="82800" cy="37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 flipH="1">
              <a:off x="3978000" y="1120320"/>
              <a:ext cx="56160" cy="42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"/>
            <p:cNvSpPr/>
            <p:nvPr/>
          </p:nvSpPr>
          <p:spPr>
            <a:xfrm flipH="1">
              <a:off x="3835080" y="1158120"/>
              <a:ext cx="6480" cy="120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 flipV="1">
              <a:off x="3861720" y="1228680"/>
              <a:ext cx="125640" cy="72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3933000" y="1117080"/>
              <a:ext cx="23040" cy="46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 flipH="1">
              <a:off x="3823560" y="1349280"/>
              <a:ext cx="84240" cy="24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3707280" y="1143360"/>
              <a:ext cx="1144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4002480" y="1235880"/>
              <a:ext cx="99360" cy="21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4012560" y="1319760"/>
              <a:ext cx="28080" cy="36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3978000" y="1189800"/>
              <a:ext cx="18000" cy="12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"/>
            <p:cNvSpPr/>
            <p:nvPr/>
          </p:nvSpPr>
          <p:spPr>
            <a:xfrm flipH="1" flipV="1">
              <a:off x="3863160" y="1308240"/>
              <a:ext cx="39600" cy="24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3763800" y="1239120"/>
              <a:ext cx="62640" cy="47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 flipV="1">
              <a:off x="3742560" y="1299960"/>
              <a:ext cx="810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 flipV="1">
              <a:off x="3772080" y="1156320"/>
              <a:ext cx="59760" cy="44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4558320" y="1237680"/>
              <a:ext cx="31320" cy="45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 flipH="1">
              <a:off x="4496760" y="1232280"/>
              <a:ext cx="49680" cy="180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"/>
            <p:cNvSpPr/>
            <p:nvPr/>
          </p:nvSpPr>
          <p:spPr>
            <a:xfrm flipH="1">
              <a:off x="4528440" y="1239120"/>
              <a:ext cx="24480" cy="360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 flipH="1" flipV="1">
              <a:off x="4579560" y="1219320"/>
              <a:ext cx="396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 flipH="1">
              <a:off x="4612680" y="1240560"/>
              <a:ext cx="21240" cy="39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 flipV="1">
              <a:off x="4539960" y="1230840"/>
              <a:ext cx="84240" cy="52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4561560" y="1158120"/>
              <a:ext cx="5040" cy="42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 flipH="1">
              <a:off x="4647600" y="1155240"/>
              <a:ext cx="21600" cy="45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 flipH="1">
              <a:off x="4501440" y="1395720"/>
              <a:ext cx="46440" cy="180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 flipH="1" flipV="1">
              <a:off x="4578120" y="1383480"/>
              <a:ext cx="44640" cy="24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 flipH="1" flipV="1">
              <a:off x="4617360" y="1309680"/>
              <a:ext cx="42840" cy="26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 flipH="1">
              <a:off x="4568040" y="1313280"/>
              <a:ext cx="19440" cy="46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 flipH="1">
              <a:off x="4539960" y="1296720"/>
              <a:ext cx="396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 flipH="1">
              <a:off x="4460400" y="1311480"/>
              <a:ext cx="43200" cy="14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4340880" y="1255680"/>
              <a:ext cx="12276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4450320" y="1196280"/>
              <a:ext cx="19800" cy="42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4458960" y="1188000"/>
              <a:ext cx="86040" cy="22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4490280" y="1273680"/>
              <a:ext cx="13320" cy="11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4460400" y="1339560"/>
              <a:ext cx="81000" cy="29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 flipH="1" flipV="1">
              <a:off x="4533120" y="1312920"/>
              <a:ext cx="18000" cy="44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 flipV="1">
              <a:off x="4488480" y="1156680"/>
              <a:ext cx="54360" cy="80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4174920" y="1158120"/>
              <a:ext cx="126000" cy="92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3" name=""/>
          <p:cNvGrpSpPr/>
          <p:nvPr/>
        </p:nvGrpSpPr>
        <p:grpSpPr>
          <a:xfrm>
            <a:off x="3505320" y="1620720"/>
            <a:ext cx="1193760" cy="436320"/>
            <a:chOff x="3505320" y="1620720"/>
            <a:chExt cx="1193760" cy="436320"/>
          </a:xfrm>
        </p:grpSpPr>
        <p:sp>
          <p:nvSpPr>
            <p:cNvPr id="1074" name=""/>
            <p:cNvSpPr/>
            <p:nvPr/>
          </p:nvSpPr>
          <p:spPr>
            <a:xfrm>
              <a:off x="3664440" y="1659960"/>
              <a:ext cx="39600" cy="396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3744000" y="1739520"/>
              <a:ext cx="39600" cy="392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3823560" y="1819080"/>
              <a:ext cx="39600" cy="396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3823560" y="1659960"/>
              <a:ext cx="39600" cy="396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3704400" y="1819080"/>
              <a:ext cx="39600" cy="396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3744000" y="1620720"/>
              <a:ext cx="39600" cy="392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3664440" y="1739520"/>
              <a:ext cx="39600" cy="392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3943080" y="1699920"/>
              <a:ext cx="39600" cy="396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3783960" y="1898280"/>
              <a:ext cx="39600" cy="396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3863160" y="1739520"/>
              <a:ext cx="39600" cy="392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3982680" y="1739520"/>
              <a:ext cx="39600" cy="392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3664440" y="1898280"/>
              <a:ext cx="39600" cy="396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4141800" y="1898280"/>
              <a:ext cx="39600" cy="396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4141800" y="1659960"/>
              <a:ext cx="39600" cy="396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4022640" y="1898280"/>
              <a:ext cx="39600" cy="396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4022640" y="1620720"/>
              <a:ext cx="39600" cy="392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3982680" y="1819080"/>
              <a:ext cx="39600" cy="396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3823560" y="2017440"/>
              <a:ext cx="39600" cy="396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3943080" y="1977840"/>
              <a:ext cx="39600" cy="392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4102200" y="1779120"/>
              <a:ext cx="39600" cy="396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4539960" y="1739520"/>
              <a:ext cx="39600" cy="392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4460400" y="1779120"/>
              <a:ext cx="39600" cy="396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3544920" y="1938240"/>
              <a:ext cx="39600" cy="396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4062600" y="2017440"/>
              <a:ext cx="39600" cy="396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3584880" y="1779120"/>
              <a:ext cx="39600" cy="396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4420440" y="1699920"/>
              <a:ext cx="39600" cy="396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4500000" y="1819080"/>
              <a:ext cx="39600" cy="396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3505320" y="1659960"/>
              <a:ext cx="39600" cy="396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3903120" y="1858680"/>
              <a:ext cx="39600" cy="392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4539960" y="1659960"/>
              <a:ext cx="39600" cy="396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4301280" y="1779120"/>
              <a:ext cx="39600" cy="396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4539960" y="1898280"/>
              <a:ext cx="39600" cy="396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4420440" y="1858680"/>
              <a:ext cx="39600" cy="392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4619520" y="1938240"/>
              <a:ext cx="39600" cy="396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4579560" y="1819080"/>
              <a:ext cx="39600" cy="396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4460400" y="1938240"/>
              <a:ext cx="39600" cy="396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4619520" y="1739520"/>
              <a:ext cx="39600" cy="392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4659480" y="1659960"/>
              <a:ext cx="39600" cy="396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3903120" y="1620720"/>
              <a:ext cx="39600" cy="392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4659480" y="1858680"/>
              <a:ext cx="39600" cy="392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3540240" y="1696680"/>
              <a:ext cx="57600" cy="86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 flipH="1">
              <a:off x="3566520" y="1819080"/>
              <a:ext cx="34560" cy="118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 flipH="1">
              <a:off x="3846240" y="1777680"/>
              <a:ext cx="26280" cy="41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 flipH="1" flipV="1">
              <a:off x="3781800" y="1757520"/>
              <a:ext cx="8460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 flipH="1" flipV="1">
              <a:off x="3848400" y="1694880"/>
              <a:ext cx="28080" cy="44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3891600" y="1777680"/>
              <a:ext cx="24840" cy="82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 flipH="1">
              <a:off x="3743640" y="1774440"/>
              <a:ext cx="124200" cy="57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"/>
            <p:cNvSpPr/>
            <p:nvPr/>
          </p:nvSpPr>
          <p:spPr>
            <a:xfrm flipV="1">
              <a:off x="3898440" y="1731600"/>
              <a:ext cx="47880" cy="12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"/>
            <p:cNvSpPr/>
            <p:nvPr/>
          </p:nvSpPr>
          <p:spPr>
            <a:xfrm flipV="1">
              <a:off x="3896640" y="1657080"/>
              <a:ext cx="23040" cy="84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 flipH="1" flipV="1">
              <a:off x="3773880" y="1658520"/>
              <a:ext cx="94320" cy="89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"/>
            <p:cNvSpPr/>
            <p:nvPr/>
          </p:nvSpPr>
          <p:spPr>
            <a:xfrm flipH="1">
              <a:off x="3698640" y="1650240"/>
              <a:ext cx="46440" cy="14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 flipH="1" flipV="1">
              <a:off x="3693960" y="1693440"/>
              <a:ext cx="54360" cy="52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 flipH="1">
              <a:off x="3700440" y="1754640"/>
              <a:ext cx="428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"/>
            <p:cNvSpPr/>
            <p:nvPr/>
          </p:nvSpPr>
          <p:spPr>
            <a:xfrm flipV="1">
              <a:off x="3619800" y="1771200"/>
              <a:ext cx="49320" cy="180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3621240" y="1807560"/>
              <a:ext cx="82800" cy="24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"/>
            <p:cNvSpPr/>
            <p:nvPr/>
          </p:nvSpPr>
          <p:spPr>
            <a:xfrm flipH="1">
              <a:off x="3696120" y="1853640"/>
              <a:ext cx="133920" cy="49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"/>
            <p:cNvSpPr/>
            <p:nvPr/>
          </p:nvSpPr>
          <p:spPr>
            <a:xfrm flipV="1">
              <a:off x="3681000" y="1777320"/>
              <a:ext cx="6480" cy="120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"/>
            <p:cNvSpPr/>
            <p:nvPr/>
          </p:nvSpPr>
          <p:spPr>
            <a:xfrm flipV="1">
              <a:off x="3813840" y="1858320"/>
              <a:ext cx="24480" cy="42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"/>
            <p:cNvSpPr/>
            <p:nvPr/>
          </p:nvSpPr>
          <p:spPr>
            <a:xfrm flipH="1" flipV="1">
              <a:off x="3938040" y="1652040"/>
              <a:ext cx="8928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"/>
            <p:cNvSpPr/>
            <p:nvPr/>
          </p:nvSpPr>
          <p:spPr>
            <a:xfrm flipH="1">
              <a:off x="3901320" y="1759680"/>
              <a:ext cx="82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"/>
            <p:cNvSpPr/>
            <p:nvPr/>
          </p:nvSpPr>
          <p:spPr>
            <a:xfrm flipH="1">
              <a:off x="3938040" y="1835640"/>
              <a:ext cx="43200" cy="28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 flipH="1" flipV="1">
              <a:off x="4048920" y="1658160"/>
              <a:ext cx="66240" cy="120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 flipH="1" flipV="1">
              <a:off x="3942720" y="1882080"/>
              <a:ext cx="87480" cy="23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 flipH="1" flipV="1">
              <a:off x="3898080" y="1774080"/>
              <a:ext cx="92520" cy="49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 flipH="1" flipV="1">
              <a:off x="3925800" y="1896840"/>
              <a:ext cx="34920" cy="84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 flipH="1" flipV="1">
              <a:off x="3809880" y="1936080"/>
              <a:ext cx="29880" cy="810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 flipH="1" flipV="1">
              <a:off x="3977640" y="2006280"/>
              <a:ext cx="86040" cy="19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 flipH="1">
              <a:off x="4062600" y="1916640"/>
              <a:ext cx="792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 flipH="1" flipV="1">
              <a:off x="4059000" y="1648440"/>
              <a:ext cx="82800" cy="37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 flipH="1">
              <a:off x="3978000" y="1659960"/>
              <a:ext cx="56160" cy="42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 flipH="1">
              <a:off x="3835080" y="1698120"/>
              <a:ext cx="6480" cy="120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 flipV="1">
              <a:off x="3861720" y="1769400"/>
              <a:ext cx="125640" cy="72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3933000" y="1657080"/>
              <a:ext cx="23040" cy="46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 flipH="1">
              <a:off x="3823560" y="1890360"/>
              <a:ext cx="84240" cy="24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3707280" y="1683360"/>
              <a:ext cx="1144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4002480" y="1776240"/>
              <a:ext cx="99360" cy="21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4012560" y="1860480"/>
              <a:ext cx="28080" cy="36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3978000" y="1729800"/>
              <a:ext cx="18000" cy="12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"/>
            <p:cNvSpPr/>
            <p:nvPr/>
          </p:nvSpPr>
          <p:spPr>
            <a:xfrm flipH="1" flipV="1">
              <a:off x="3863160" y="1848960"/>
              <a:ext cx="39600" cy="24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3763800" y="1779120"/>
              <a:ext cx="62640" cy="47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"/>
            <p:cNvSpPr/>
            <p:nvPr/>
          </p:nvSpPr>
          <p:spPr>
            <a:xfrm flipV="1">
              <a:off x="3742560" y="1840680"/>
              <a:ext cx="810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"/>
            <p:cNvSpPr/>
            <p:nvPr/>
          </p:nvSpPr>
          <p:spPr>
            <a:xfrm flipV="1">
              <a:off x="3772080" y="1696680"/>
              <a:ext cx="59760" cy="44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4558320" y="1777680"/>
              <a:ext cx="31320" cy="46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"/>
            <p:cNvSpPr/>
            <p:nvPr/>
          </p:nvSpPr>
          <p:spPr>
            <a:xfrm flipH="1">
              <a:off x="4496760" y="1772640"/>
              <a:ext cx="49680" cy="180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"/>
            <p:cNvSpPr/>
            <p:nvPr/>
          </p:nvSpPr>
          <p:spPr>
            <a:xfrm flipH="1">
              <a:off x="4528440" y="1779120"/>
              <a:ext cx="24480" cy="36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"/>
            <p:cNvSpPr/>
            <p:nvPr/>
          </p:nvSpPr>
          <p:spPr>
            <a:xfrm flipH="1" flipV="1">
              <a:off x="4579560" y="1759680"/>
              <a:ext cx="396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"/>
            <p:cNvSpPr/>
            <p:nvPr/>
          </p:nvSpPr>
          <p:spPr>
            <a:xfrm flipH="1">
              <a:off x="4612680" y="1780920"/>
              <a:ext cx="21240" cy="39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"/>
            <p:cNvSpPr/>
            <p:nvPr/>
          </p:nvSpPr>
          <p:spPr>
            <a:xfrm flipV="1">
              <a:off x="4539960" y="1771200"/>
              <a:ext cx="84240" cy="52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4561560" y="1698120"/>
              <a:ext cx="5040" cy="42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"/>
            <p:cNvSpPr/>
            <p:nvPr/>
          </p:nvSpPr>
          <p:spPr>
            <a:xfrm flipH="1">
              <a:off x="4647600" y="1694880"/>
              <a:ext cx="21600" cy="46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"/>
            <p:cNvSpPr/>
            <p:nvPr/>
          </p:nvSpPr>
          <p:spPr>
            <a:xfrm flipH="1">
              <a:off x="4501440" y="1936440"/>
              <a:ext cx="46440" cy="180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 flipH="1" flipV="1">
              <a:off x="4578120" y="1924560"/>
              <a:ext cx="44640" cy="24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"/>
            <p:cNvSpPr/>
            <p:nvPr/>
          </p:nvSpPr>
          <p:spPr>
            <a:xfrm flipH="1" flipV="1">
              <a:off x="4617360" y="1850400"/>
              <a:ext cx="42840" cy="26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"/>
            <p:cNvSpPr/>
            <p:nvPr/>
          </p:nvSpPr>
          <p:spPr>
            <a:xfrm flipH="1">
              <a:off x="4568040" y="1853640"/>
              <a:ext cx="19440" cy="46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"/>
            <p:cNvSpPr/>
            <p:nvPr/>
          </p:nvSpPr>
          <p:spPr>
            <a:xfrm flipH="1">
              <a:off x="4539960" y="1837440"/>
              <a:ext cx="396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"/>
            <p:cNvSpPr/>
            <p:nvPr/>
          </p:nvSpPr>
          <p:spPr>
            <a:xfrm flipH="1">
              <a:off x="4460400" y="1852200"/>
              <a:ext cx="43200" cy="14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4340880" y="1796040"/>
              <a:ext cx="12276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4450320" y="1736280"/>
              <a:ext cx="19800" cy="42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4458960" y="1728000"/>
              <a:ext cx="86040" cy="23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4490280" y="1814040"/>
              <a:ext cx="13320" cy="11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4460400" y="1880280"/>
              <a:ext cx="81000" cy="29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"/>
            <p:cNvSpPr/>
            <p:nvPr/>
          </p:nvSpPr>
          <p:spPr>
            <a:xfrm flipH="1" flipV="1">
              <a:off x="4533120" y="1853640"/>
              <a:ext cx="18000" cy="44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"/>
            <p:cNvSpPr/>
            <p:nvPr/>
          </p:nvSpPr>
          <p:spPr>
            <a:xfrm flipV="1">
              <a:off x="4488480" y="1696320"/>
              <a:ext cx="54360" cy="810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4174920" y="1698120"/>
              <a:ext cx="126000" cy="92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8" name=""/>
          <p:cNvGrpSpPr/>
          <p:nvPr/>
        </p:nvGrpSpPr>
        <p:grpSpPr>
          <a:xfrm>
            <a:off x="3505320" y="2200320"/>
            <a:ext cx="1193760" cy="434880"/>
            <a:chOff x="3505320" y="2200320"/>
            <a:chExt cx="1193760" cy="434880"/>
          </a:xfrm>
        </p:grpSpPr>
        <p:sp>
          <p:nvSpPr>
            <p:cNvPr id="1179" name=""/>
            <p:cNvSpPr/>
            <p:nvPr/>
          </p:nvSpPr>
          <p:spPr>
            <a:xfrm>
              <a:off x="3664440" y="2239560"/>
              <a:ext cx="39600" cy="396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3744000" y="2318760"/>
              <a:ext cx="39600" cy="392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3823560" y="2397960"/>
              <a:ext cx="39600" cy="396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3823560" y="2239560"/>
              <a:ext cx="39600" cy="396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3704400" y="2397960"/>
              <a:ext cx="39600" cy="396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3744000" y="2200320"/>
              <a:ext cx="39600" cy="392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3664440" y="2318760"/>
              <a:ext cx="39600" cy="392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3943080" y="2279160"/>
              <a:ext cx="39600" cy="396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3783960" y="2476800"/>
              <a:ext cx="39600" cy="396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3863160" y="2318760"/>
              <a:ext cx="39600" cy="392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3982680" y="2318760"/>
              <a:ext cx="39600" cy="392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3664440" y="2476800"/>
              <a:ext cx="39600" cy="396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4141800" y="2476800"/>
              <a:ext cx="39600" cy="396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4141800" y="2239560"/>
              <a:ext cx="39600" cy="396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4022640" y="2476800"/>
              <a:ext cx="39600" cy="396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4022640" y="2200320"/>
              <a:ext cx="39600" cy="392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3982680" y="2397960"/>
              <a:ext cx="39600" cy="396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3823560" y="2595600"/>
              <a:ext cx="39600" cy="396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3943080" y="2556000"/>
              <a:ext cx="39600" cy="392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4102200" y="2358360"/>
              <a:ext cx="39600" cy="396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4539960" y="2318760"/>
              <a:ext cx="39600" cy="392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4460400" y="2358360"/>
              <a:ext cx="39600" cy="396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3544920" y="2516400"/>
              <a:ext cx="39600" cy="396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4062600" y="2595600"/>
              <a:ext cx="39600" cy="396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3584880" y="2358360"/>
              <a:ext cx="39600" cy="396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4420440" y="2279160"/>
              <a:ext cx="39600" cy="396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4500000" y="2397960"/>
              <a:ext cx="39600" cy="396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3505320" y="2239560"/>
              <a:ext cx="39600" cy="396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3903120" y="2437560"/>
              <a:ext cx="39600" cy="392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4539960" y="2239560"/>
              <a:ext cx="39600" cy="396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4301280" y="2358360"/>
              <a:ext cx="39600" cy="396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4539960" y="2476800"/>
              <a:ext cx="39600" cy="396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4420440" y="2437560"/>
              <a:ext cx="39600" cy="392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4619520" y="2516400"/>
              <a:ext cx="39600" cy="396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4579560" y="2397960"/>
              <a:ext cx="39600" cy="396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4460400" y="2516400"/>
              <a:ext cx="39600" cy="396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4619520" y="2318760"/>
              <a:ext cx="39600" cy="392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4659480" y="2239560"/>
              <a:ext cx="39600" cy="396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3903120" y="2200320"/>
              <a:ext cx="39600" cy="392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4659480" y="2437560"/>
              <a:ext cx="39600" cy="392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3540240" y="2275920"/>
              <a:ext cx="57600" cy="85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"/>
            <p:cNvSpPr/>
            <p:nvPr/>
          </p:nvSpPr>
          <p:spPr>
            <a:xfrm flipH="1">
              <a:off x="3566520" y="2397960"/>
              <a:ext cx="34560" cy="118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"/>
            <p:cNvSpPr/>
            <p:nvPr/>
          </p:nvSpPr>
          <p:spPr>
            <a:xfrm flipH="1">
              <a:off x="3846240" y="2356920"/>
              <a:ext cx="26280" cy="41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"/>
            <p:cNvSpPr/>
            <p:nvPr/>
          </p:nvSpPr>
          <p:spPr>
            <a:xfrm flipH="1" flipV="1">
              <a:off x="3781800" y="2336400"/>
              <a:ext cx="8460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"/>
            <p:cNvSpPr/>
            <p:nvPr/>
          </p:nvSpPr>
          <p:spPr>
            <a:xfrm flipH="1" flipV="1">
              <a:off x="3848400" y="2274120"/>
              <a:ext cx="28080" cy="44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3891600" y="2356920"/>
              <a:ext cx="24840" cy="82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"/>
            <p:cNvSpPr/>
            <p:nvPr/>
          </p:nvSpPr>
          <p:spPr>
            <a:xfrm flipH="1">
              <a:off x="3743640" y="2353320"/>
              <a:ext cx="124200" cy="57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"/>
            <p:cNvSpPr/>
            <p:nvPr/>
          </p:nvSpPr>
          <p:spPr>
            <a:xfrm flipV="1">
              <a:off x="3898440" y="2310480"/>
              <a:ext cx="47880" cy="12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"/>
            <p:cNvSpPr/>
            <p:nvPr/>
          </p:nvSpPr>
          <p:spPr>
            <a:xfrm flipV="1">
              <a:off x="3896640" y="2235960"/>
              <a:ext cx="23040" cy="83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"/>
            <p:cNvSpPr/>
            <p:nvPr/>
          </p:nvSpPr>
          <p:spPr>
            <a:xfrm flipH="1" flipV="1">
              <a:off x="3773880" y="2237760"/>
              <a:ext cx="94320" cy="88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"/>
            <p:cNvSpPr/>
            <p:nvPr/>
          </p:nvSpPr>
          <p:spPr>
            <a:xfrm flipH="1">
              <a:off x="3698640" y="2229840"/>
              <a:ext cx="46440" cy="14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"/>
            <p:cNvSpPr/>
            <p:nvPr/>
          </p:nvSpPr>
          <p:spPr>
            <a:xfrm flipH="1" flipV="1">
              <a:off x="3693960" y="2272680"/>
              <a:ext cx="54360" cy="52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"/>
            <p:cNvSpPr/>
            <p:nvPr/>
          </p:nvSpPr>
          <p:spPr>
            <a:xfrm flipH="1">
              <a:off x="3700440" y="2333520"/>
              <a:ext cx="428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"/>
            <p:cNvSpPr/>
            <p:nvPr/>
          </p:nvSpPr>
          <p:spPr>
            <a:xfrm flipV="1">
              <a:off x="3619800" y="2350080"/>
              <a:ext cx="49320" cy="180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3621240" y="2386440"/>
              <a:ext cx="82800" cy="24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"/>
            <p:cNvSpPr/>
            <p:nvPr/>
          </p:nvSpPr>
          <p:spPr>
            <a:xfrm flipH="1">
              <a:off x="3696120" y="2432520"/>
              <a:ext cx="133920" cy="49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"/>
            <p:cNvSpPr/>
            <p:nvPr/>
          </p:nvSpPr>
          <p:spPr>
            <a:xfrm flipV="1">
              <a:off x="3681000" y="2356560"/>
              <a:ext cx="6480" cy="119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"/>
            <p:cNvSpPr/>
            <p:nvPr/>
          </p:nvSpPr>
          <p:spPr>
            <a:xfrm flipV="1">
              <a:off x="3813840" y="2437560"/>
              <a:ext cx="24480" cy="42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"/>
            <p:cNvSpPr/>
            <p:nvPr/>
          </p:nvSpPr>
          <p:spPr>
            <a:xfrm flipH="1" flipV="1">
              <a:off x="3938040" y="2231280"/>
              <a:ext cx="8928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"/>
            <p:cNvSpPr/>
            <p:nvPr/>
          </p:nvSpPr>
          <p:spPr>
            <a:xfrm flipH="1">
              <a:off x="3901320" y="2338560"/>
              <a:ext cx="82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"/>
            <p:cNvSpPr/>
            <p:nvPr/>
          </p:nvSpPr>
          <p:spPr>
            <a:xfrm flipH="1">
              <a:off x="3938040" y="2414160"/>
              <a:ext cx="43200" cy="27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"/>
            <p:cNvSpPr/>
            <p:nvPr/>
          </p:nvSpPr>
          <p:spPr>
            <a:xfrm flipH="1" flipV="1">
              <a:off x="4048920" y="2237760"/>
              <a:ext cx="66240" cy="119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"/>
            <p:cNvSpPr/>
            <p:nvPr/>
          </p:nvSpPr>
          <p:spPr>
            <a:xfrm flipH="1" flipV="1">
              <a:off x="3942720" y="2460600"/>
              <a:ext cx="87480" cy="23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"/>
            <p:cNvSpPr/>
            <p:nvPr/>
          </p:nvSpPr>
          <p:spPr>
            <a:xfrm flipH="1" flipV="1">
              <a:off x="3898080" y="2352960"/>
              <a:ext cx="92520" cy="49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"/>
            <p:cNvSpPr/>
            <p:nvPr/>
          </p:nvSpPr>
          <p:spPr>
            <a:xfrm flipH="1" flipV="1">
              <a:off x="3925800" y="2475000"/>
              <a:ext cx="34920" cy="83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"/>
            <p:cNvSpPr/>
            <p:nvPr/>
          </p:nvSpPr>
          <p:spPr>
            <a:xfrm flipH="1" flipV="1">
              <a:off x="3809880" y="2514960"/>
              <a:ext cx="29880" cy="80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"/>
            <p:cNvSpPr/>
            <p:nvPr/>
          </p:nvSpPr>
          <p:spPr>
            <a:xfrm flipH="1" flipV="1">
              <a:off x="3977640" y="2584080"/>
              <a:ext cx="86040" cy="19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"/>
            <p:cNvSpPr/>
            <p:nvPr/>
          </p:nvSpPr>
          <p:spPr>
            <a:xfrm flipH="1">
              <a:off x="4062600" y="2495160"/>
              <a:ext cx="792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"/>
            <p:cNvSpPr/>
            <p:nvPr/>
          </p:nvSpPr>
          <p:spPr>
            <a:xfrm flipH="1" flipV="1">
              <a:off x="4059000" y="2228040"/>
              <a:ext cx="82800" cy="37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"/>
            <p:cNvSpPr/>
            <p:nvPr/>
          </p:nvSpPr>
          <p:spPr>
            <a:xfrm flipH="1">
              <a:off x="3978000" y="2239560"/>
              <a:ext cx="56160" cy="42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"/>
            <p:cNvSpPr/>
            <p:nvPr/>
          </p:nvSpPr>
          <p:spPr>
            <a:xfrm flipH="1">
              <a:off x="3835080" y="2277360"/>
              <a:ext cx="6480" cy="120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"/>
            <p:cNvSpPr/>
            <p:nvPr/>
          </p:nvSpPr>
          <p:spPr>
            <a:xfrm flipV="1">
              <a:off x="3861720" y="2347920"/>
              <a:ext cx="125640" cy="72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3933000" y="2236320"/>
              <a:ext cx="23040" cy="46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"/>
            <p:cNvSpPr/>
            <p:nvPr/>
          </p:nvSpPr>
          <p:spPr>
            <a:xfrm flipH="1">
              <a:off x="3823560" y="2468520"/>
              <a:ext cx="84240" cy="24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3707280" y="2262600"/>
              <a:ext cx="1144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4002480" y="2355120"/>
              <a:ext cx="99360" cy="21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4012560" y="2439000"/>
              <a:ext cx="28080" cy="36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3978000" y="2309040"/>
              <a:ext cx="18000" cy="12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"/>
            <p:cNvSpPr/>
            <p:nvPr/>
          </p:nvSpPr>
          <p:spPr>
            <a:xfrm flipH="1" flipV="1">
              <a:off x="3863160" y="2427480"/>
              <a:ext cx="39600" cy="24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3763800" y="2358360"/>
              <a:ext cx="62640" cy="47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"/>
            <p:cNvSpPr/>
            <p:nvPr/>
          </p:nvSpPr>
          <p:spPr>
            <a:xfrm flipV="1">
              <a:off x="3742560" y="2419200"/>
              <a:ext cx="810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"/>
            <p:cNvSpPr/>
            <p:nvPr/>
          </p:nvSpPr>
          <p:spPr>
            <a:xfrm flipV="1">
              <a:off x="3772080" y="2275560"/>
              <a:ext cx="59760" cy="44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4558320" y="2356920"/>
              <a:ext cx="31320" cy="45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"/>
            <p:cNvSpPr/>
            <p:nvPr/>
          </p:nvSpPr>
          <p:spPr>
            <a:xfrm flipH="1">
              <a:off x="4496760" y="2351520"/>
              <a:ext cx="49680" cy="180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"/>
            <p:cNvSpPr/>
            <p:nvPr/>
          </p:nvSpPr>
          <p:spPr>
            <a:xfrm flipH="1">
              <a:off x="4528440" y="2358360"/>
              <a:ext cx="24480" cy="360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"/>
            <p:cNvSpPr/>
            <p:nvPr/>
          </p:nvSpPr>
          <p:spPr>
            <a:xfrm flipH="1" flipV="1">
              <a:off x="4579560" y="2338560"/>
              <a:ext cx="396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"/>
            <p:cNvSpPr/>
            <p:nvPr/>
          </p:nvSpPr>
          <p:spPr>
            <a:xfrm flipH="1">
              <a:off x="4612680" y="2359800"/>
              <a:ext cx="21240" cy="39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"/>
            <p:cNvSpPr/>
            <p:nvPr/>
          </p:nvSpPr>
          <p:spPr>
            <a:xfrm flipV="1">
              <a:off x="4539960" y="2350080"/>
              <a:ext cx="84240" cy="52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4561560" y="2277360"/>
              <a:ext cx="5040" cy="42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"/>
            <p:cNvSpPr/>
            <p:nvPr/>
          </p:nvSpPr>
          <p:spPr>
            <a:xfrm flipH="1">
              <a:off x="4647600" y="2274480"/>
              <a:ext cx="21600" cy="45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"/>
            <p:cNvSpPr/>
            <p:nvPr/>
          </p:nvSpPr>
          <p:spPr>
            <a:xfrm flipH="1">
              <a:off x="4501440" y="2514960"/>
              <a:ext cx="46440" cy="180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"/>
            <p:cNvSpPr/>
            <p:nvPr/>
          </p:nvSpPr>
          <p:spPr>
            <a:xfrm flipH="1" flipV="1">
              <a:off x="4578120" y="2502720"/>
              <a:ext cx="44640" cy="24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"/>
            <p:cNvSpPr/>
            <p:nvPr/>
          </p:nvSpPr>
          <p:spPr>
            <a:xfrm flipH="1" flipV="1">
              <a:off x="4617360" y="2428920"/>
              <a:ext cx="42840" cy="26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"/>
            <p:cNvSpPr/>
            <p:nvPr/>
          </p:nvSpPr>
          <p:spPr>
            <a:xfrm flipH="1">
              <a:off x="4568040" y="2432520"/>
              <a:ext cx="19440" cy="46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"/>
            <p:cNvSpPr/>
            <p:nvPr/>
          </p:nvSpPr>
          <p:spPr>
            <a:xfrm flipH="1">
              <a:off x="4539960" y="2415960"/>
              <a:ext cx="396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"/>
            <p:cNvSpPr/>
            <p:nvPr/>
          </p:nvSpPr>
          <p:spPr>
            <a:xfrm flipH="1">
              <a:off x="4460400" y="2430720"/>
              <a:ext cx="43200" cy="14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4340880" y="2374920"/>
              <a:ext cx="12276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4450320" y="2315520"/>
              <a:ext cx="19800" cy="42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4458960" y="2307240"/>
              <a:ext cx="86040" cy="22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4490280" y="2392920"/>
              <a:ext cx="13320" cy="11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4460400" y="2458800"/>
              <a:ext cx="81000" cy="29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"/>
            <p:cNvSpPr/>
            <p:nvPr/>
          </p:nvSpPr>
          <p:spPr>
            <a:xfrm flipH="1" flipV="1">
              <a:off x="4533120" y="2432160"/>
              <a:ext cx="18000" cy="44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"/>
            <p:cNvSpPr/>
            <p:nvPr/>
          </p:nvSpPr>
          <p:spPr>
            <a:xfrm flipV="1">
              <a:off x="4488480" y="2275920"/>
              <a:ext cx="54360" cy="80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4174920" y="2277360"/>
              <a:ext cx="126000" cy="92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3" name=""/>
          <p:cNvGrpSpPr/>
          <p:nvPr/>
        </p:nvGrpSpPr>
        <p:grpSpPr>
          <a:xfrm>
            <a:off x="3505320" y="2786040"/>
            <a:ext cx="1193760" cy="436320"/>
            <a:chOff x="3505320" y="2786040"/>
            <a:chExt cx="1193760" cy="436320"/>
          </a:xfrm>
        </p:grpSpPr>
        <p:sp>
          <p:nvSpPr>
            <p:cNvPr id="1284" name=""/>
            <p:cNvSpPr/>
            <p:nvPr/>
          </p:nvSpPr>
          <p:spPr>
            <a:xfrm>
              <a:off x="3664440" y="2825280"/>
              <a:ext cx="39600" cy="396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3744000" y="2904840"/>
              <a:ext cx="39600" cy="392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3823560" y="2984400"/>
              <a:ext cx="39600" cy="396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3823560" y="2825280"/>
              <a:ext cx="39600" cy="396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3704400" y="2984400"/>
              <a:ext cx="39600" cy="396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3744000" y="2786040"/>
              <a:ext cx="39600" cy="392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3664440" y="2904840"/>
              <a:ext cx="39600" cy="392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3943080" y="2865240"/>
              <a:ext cx="39600" cy="396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3783960" y="3063600"/>
              <a:ext cx="39600" cy="396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3863160" y="2904840"/>
              <a:ext cx="39600" cy="392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3982680" y="2904840"/>
              <a:ext cx="39600" cy="392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3664440" y="3063600"/>
              <a:ext cx="39600" cy="396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4141800" y="3063600"/>
              <a:ext cx="39600" cy="396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4141800" y="2825280"/>
              <a:ext cx="39600" cy="396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4022640" y="3063600"/>
              <a:ext cx="39600" cy="396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4022640" y="2786040"/>
              <a:ext cx="39600" cy="392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3982680" y="2984400"/>
              <a:ext cx="39600" cy="396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3823560" y="3182760"/>
              <a:ext cx="39600" cy="396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3943080" y="3143160"/>
              <a:ext cx="39600" cy="392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4102200" y="2944440"/>
              <a:ext cx="39600" cy="396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4539960" y="2904840"/>
              <a:ext cx="39600" cy="392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4460400" y="2944440"/>
              <a:ext cx="39600" cy="396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3544920" y="3103560"/>
              <a:ext cx="39600" cy="396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4062600" y="3182760"/>
              <a:ext cx="39600" cy="396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3584880" y="2944440"/>
              <a:ext cx="39600" cy="396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4420440" y="2865240"/>
              <a:ext cx="39600" cy="396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4500000" y="2984400"/>
              <a:ext cx="39600" cy="396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3505320" y="2825280"/>
              <a:ext cx="39600" cy="396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3903120" y="3024000"/>
              <a:ext cx="39600" cy="392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4539960" y="2825280"/>
              <a:ext cx="39600" cy="396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4301280" y="2944440"/>
              <a:ext cx="39600" cy="396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4539960" y="3063600"/>
              <a:ext cx="39600" cy="396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4420440" y="3024000"/>
              <a:ext cx="39600" cy="392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4619520" y="3103560"/>
              <a:ext cx="39600" cy="396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4579560" y="2984400"/>
              <a:ext cx="39600" cy="396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4460400" y="3103560"/>
              <a:ext cx="39600" cy="396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4619520" y="2904840"/>
              <a:ext cx="39600" cy="392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4659480" y="2825280"/>
              <a:ext cx="39600" cy="396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3903120" y="2786040"/>
              <a:ext cx="39600" cy="392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4659480" y="3024000"/>
              <a:ext cx="39600" cy="392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3540240" y="2862000"/>
              <a:ext cx="57600" cy="86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"/>
            <p:cNvSpPr/>
            <p:nvPr/>
          </p:nvSpPr>
          <p:spPr>
            <a:xfrm flipH="1">
              <a:off x="3566520" y="2984400"/>
              <a:ext cx="34560" cy="118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"/>
            <p:cNvSpPr/>
            <p:nvPr/>
          </p:nvSpPr>
          <p:spPr>
            <a:xfrm flipH="1">
              <a:off x="3846240" y="2943000"/>
              <a:ext cx="26280" cy="41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"/>
            <p:cNvSpPr/>
            <p:nvPr/>
          </p:nvSpPr>
          <p:spPr>
            <a:xfrm flipH="1" flipV="1">
              <a:off x="3781800" y="2922840"/>
              <a:ext cx="8460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"/>
            <p:cNvSpPr/>
            <p:nvPr/>
          </p:nvSpPr>
          <p:spPr>
            <a:xfrm flipH="1" flipV="1">
              <a:off x="3848400" y="2860200"/>
              <a:ext cx="28080" cy="44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3891600" y="2943000"/>
              <a:ext cx="24840" cy="82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"/>
            <p:cNvSpPr/>
            <p:nvPr/>
          </p:nvSpPr>
          <p:spPr>
            <a:xfrm flipH="1">
              <a:off x="3743640" y="2939760"/>
              <a:ext cx="124200" cy="57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"/>
            <p:cNvSpPr/>
            <p:nvPr/>
          </p:nvSpPr>
          <p:spPr>
            <a:xfrm flipV="1">
              <a:off x="3898440" y="2896920"/>
              <a:ext cx="47880" cy="12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"/>
            <p:cNvSpPr/>
            <p:nvPr/>
          </p:nvSpPr>
          <p:spPr>
            <a:xfrm flipV="1">
              <a:off x="3896640" y="2822400"/>
              <a:ext cx="23040" cy="84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"/>
            <p:cNvSpPr/>
            <p:nvPr/>
          </p:nvSpPr>
          <p:spPr>
            <a:xfrm flipH="1" flipV="1">
              <a:off x="3773880" y="2823840"/>
              <a:ext cx="94320" cy="89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"/>
            <p:cNvSpPr/>
            <p:nvPr/>
          </p:nvSpPr>
          <p:spPr>
            <a:xfrm flipH="1">
              <a:off x="3698640" y="2815560"/>
              <a:ext cx="46440" cy="14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"/>
            <p:cNvSpPr/>
            <p:nvPr/>
          </p:nvSpPr>
          <p:spPr>
            <a:xfrm flipH="1" flipV="1">
              <a:off x="3693960" y="2858760"/>
              <a:ext cx="54360" cy="52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"/>
            <p:cNvSpPr/>
            <p:nvPr/>
          </p:nvSpPr>
          <p:spPr>
            <a:xfrm flipH="1">
              <a:off x="3700440" y="2919960"/>
              <a:ext cx="428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"/>
            <p:cNvSpPr/>
            <p:nvPr/>
          </p:nvSpPr>
          <p:spPr>
            <a:xfrm flipV="1">
              <a:off x="3619800" y="2936520"/>
              <a:ext cx="49320" cy="180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3621240" y="2972880"/>
              <a:ext cx="82800" cy="24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"/>
            <p:cNvSpPr/>
            <p:nvPr/>
          </p:nvSpPr>
          <p:spPr>
            <a:xfrm flipH="1">
              <a:off x="3696120" y="3018960"/>
              <a:ext cx="133920" cy="49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"/>
            <p:cNvSpPr/>
            <p:nvPr/>
          </p:nvSpPr>
          <p:spPr>
            <a:xfrm flipV="1">
              <a:off x="3681000" y="2942640"/>
              <a:ext cx="6480" cy="120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"/>
            <p:cNvSpPr/>
            <p:nvPr/>
          </p:nvSpPr>
          <p:spPr>
            <a:xfrm flipV="1">
              <a:off x="3813840" y="3023640"/>
              <a:ext cx="24480" cy="42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"/>
            <p:cNvSpPr/>
            <p:nvPr/>
          </p:nvSpPr>
          <p:spPr>
            <a:xfrm flipH="1" flipV="1">
              <a:off x="3938040" y="2817360"/>
              <a:ext cx="8928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"/>
            <p:cNvSpPr/>
            <p:nvPr/>
          </p:nvSpPr>
          <p:spPr>
            <a:xfrm flipH="1">
              <a:off x="3901320" y="2925000"/>
              <a:ext cx="82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"/>
            <p:cNvSpPr/>
            <p:nvPr/>
          </p:nvSpPr>
          <p:spPr>
            <a:xfrm flipH="1">
              <a:off x="3938040" y="3000960"/>
              <a:ext cx="43200" cy="28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"/>
            <p:cNvSpPr/>
            <p:nvPr/>
          </p:nvSpPr>
          <p:spPr>
            <a:xfrm flipH="1" flipV="1">
              <a:off x="4048920" y="2823480"/>
              <a:ext cx="66240" cy="120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"/>
            <p:cNvSpPr/>
            <p:nvPr/>
          </p:nvSpPr>
          <p:spPr>
            <a:xfrm flipH="1" flipV="1">
              <a:off x="3942720" y="3047400"/>
              <a:ext cx="87480" cy="23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"/>
            <p:cNvSpPr/>
            <p:nvPr/>
          </p:nvSpPr>
          <p:spPr>
            <a:xfrm flipH="1" flipV="1">
              <a:off x="3898080" y="2939400"/>
              <a:ext cx="92520" cy="49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"/>
            <p:cNvSpPr/>
            <p:nvPr/>
          </p:nvSpPr>
          <p:spPr>
            <a:xfrm flipH="1" flipV="1">
              <a:off x="3925800" y="3062160"/>
              <a:ext cx="34920" cy="84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"/>
            <p:cNvSpPr/>
            <p:nvPr/>
          </p:nvSpPr>
          <p:spPr>
            <a:xfrm flipH="1" flipV="1">
              <a:off x="3809880" y="3101400"/>
              <a:ext cx="29880" cy="810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"/>
            <p:cNvSpPr/>
            <p:nvPr/>
          </p:nvSpPr>
          <p:spPr>
            <a:xfrm flipH="1" flipV="1">
              <a:off x="3977640" y="3171600"/>
              <a:ext cx="86040" cy="19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"/>
            <p:cNvSpPr/>
            <p:nvPr/>
          </p:nvSpPr>
          <p:spPr>
            <a:xfrm flipH="1">
              <a:off x="4062600" y="3081960"/>
              <a:ext cx="792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"/>
            <p:cNvSpPr/>
            <p:nvPr/>
          </p:nvSpPr>
          <p:spPr>
            <a:xfrm flipH="1" flipV="1">
              <a:off x="4059000" y="2813760"/>
              <a:ext cx="82800" cy="37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"/>
            <p:cNvSpPr/>
            <p:nvPr/>
          </p:nvSpPr>
          <p:spPr>
            <a:xfrm flipH="1">
              <a:off x="3978000" y="2825280"/>
              <a:ext cx="56160" cy="42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"/>
            <p:cNvSpPr/>
            <p:nvPr/>
          </p:nvSpPr>
          <p:spPr>
            <a:xfrm flipH="1">
              <a:off x="3835080" y="2863440"/>
              <a:ext cx="6480" cy="120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 flipV="1">
              <a:off x="3861720" y="2934720"/>
              <a:ext cx="125640" cy="72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3933000" y="2822400"/>
              <a:ext cx="23040" cy="46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"/>
            <p:cNvSpPr/>
            <p:nvPr/>
          </p:nvSpPr>
          <p:spPr>
            <a:xfrm flipH="1">
              <a:off x="3823560" y="3055680"/>
              <a:ext cx="84240" cy="24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3707280" y="2848680"/>
              <a:ext cx="1144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4002480" y="2941560"/>
              <a:ext cx="99360" cy="21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4012560" y="3025800"/>
              <a:ext cx="28080" cy="36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3978000" y="2895120"/>
              <a:ext cx="18000" cy="12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"/>
            <p:cNvSpPr/>
            <p:nvPr/>
          </p:nvSpPr>
          <p:spPr>
            <a:xfrm flipH="1" flipV="1">
              <a:off x="3863160" y="3014280"/>
              <a:ext cx="39600" cy="24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3763800" y="2944440"/>
              <a:ext cx="62640" cy="47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"/>
            <p:cNvSpPr/>
            <p:nvPr/>
          </p:nvSpPr>
          <p:spPr>
            <a:xfrm flipV="1">
              <a:off x="3742560" y="3006000"/>
              <a:ext cx="810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"/>
            <p:cNvSpPr/>
            <p:nvPr/>
          </p:nvSpPr>
          <p:spPr>
            <a:xfrm flipV="1">
              <a:off x="3772080" y="2862000"/>
              <a:ext cx="59760" cy="44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4558320" y="2943000"/>
              <a:ext cx="31320" cy="46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"/>
            <p:cNvSpPr/>
            <p:nvPr/>
          </p:nvSpPr>
          <p:spPr>
            <a:xfrm flipH="1">
              <a:off x="4496760" y="2937960"/>
              <a:ext cx="49680" cy="180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"/>
            <p:cNvSpPr/>
            <p:nvPr/>
          </p:nvSpPr>
          <p:spPr>
            <a:xfrm flipH="1">
              <a:off x="4528440" y="2944440"/>
              <a:ext cx="24480" cy="36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"/>
            <p:cNvSpPr/>
            <p:nvPr/>
          </p:nvSpPr>
          <p:spPr>
            <a:xfrm flipH="1" flipV="1">
              <a:off x="4579560" y="2925000"/>
              <a:ext cx="396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"/>
            <p:cNvSpPr/>
            <p:nvPr/>
          </p:nvSpPr>
          <p:spPr>
            <a:xfrm flipH="1">
              <a:off x="4612680" y="2946240"/>
              <a:ext cx="21240" cy="39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"/>
            <p:cNvSpPr/>
            <p:nvPr/>
          </p:nvSpPr>
          <p:spPr>
            <a:xfrm flipV="1">
              <a:off x="4539960" y="2936520"/>
              <a:ext cx="84240" cy="52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4561560" y="2863440"/>
              <a:ext cx="5040" cy="42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"/>
            <p:cNvSpPr/>
            <p:nvPr/>
          </p:nvSpPr>
          <p:spPr>
            <a:xfrm flipH="1">
              <a:off x="4647600" y="2860200"/>
              <a:ext cx="21600" cy="46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"/>
            <p:cNvSpPr/>
            <p:nvPr/>
          </p:nvSpPr>
          <p:spPr>
            <a:xfrm flipH="1">
              <a:off x="4501440" y="3101760"/>
              <a:ext cx="46440" cy="180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"/>
            <p:cNvSpPr/>
            <p:nvPr/>
          </p:nvSpPr>
          <p:spPr>
            <a:xfrm flipH="1" flipV="1">
              <a:off x="4578120" y="3089880"/>
              <a:ext cx="44640" cy="24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"/>
            <p:cNvSpPr/>
            <p:nvPr/>
          </p:nvSpPr>
          <p:spPr>
            <a:xfrm flipH="1" flipV="1">
              <a:off x="4617360" y="3015720"/>
              <a:ext cx="42840" cy="26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"/>
            <p:cNvSpPr/>
            <p:nvPr/>
          </p:nvSpPr>
          <p:spPr>
            <a:xfrm flipH="1">
              <a:off x="4568040" y="3018960"/>
              <a:ext cx="19440" cy="46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"/>
            <p:cNvSpPr/>
            <p:nvPr/>
          </p:nvSpPr>
          <p:spPr>
            <a:xfrm flipH="1">
              <a:off x="4539960" y="3002760"/>
              <a:ext cx="396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"/>
            <p:cNvSpPr/>
            <p:nvPr/>
          </p:nvSpPr>
          <p:spPr>
            <a:xfrm flipH="1">
              <a:off x="4460400" y="3017520"/>
              <a:ext cx="43200" cy="14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4340880" y="2961360"/>
              <a:ext cx="12276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4450320" y="2901600"/>
              <a:ext cx="19800" cy="42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4458960" y="2893320"/>
              <a:ext cx="86040" cy="23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4490280" y="2979360"/>
              <a:ext cx="13320" cy="11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4460400" y="3045600"/>
              <a:ext cx="81000" cy="29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"/>
            <p:cNvSpPr/>
            <p:nvPr/>
          </p:nvSpPr>
          <p:spPr>
            <a:xfrm flipH="1" flipV="1">
              <a:off x="4533120" y="3018960"/>
              <a:ext cx="18000" cy="44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"/>
            <p:cNvSpPr/>
            <p:nvPr/>
          </p:nvSpPr>
          <p:spPr>
            <a:xfrm flipV="1">
              <a:off x="4488480" y="2861640"/>
              <a:ext cx="54360" cy="810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4174920" y="2863440"/>
              <a:ext cx="126000" cy="92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8" name=""/>
          <p:cNvGrpSpPr/>
          <p:nvPr/>
        </p:nvGrpSpPr>
        <p:grpSpPr>
          <a:xfrm>
            <a:off x="3505320" y="1081080"/>
            <a:ext cx="482400" cy="434520"/>
            <a:chOff x="3505320" y="1081080"/>
            <a:chExt cx="482400" cy="434520"/>
          </a:xfrm>
        </p:grpSpPr>
        <p:sp>
          <p:nvSpPr>
            <p:cNvPr id="1389" name=""/>
            <p:cNvSpPr/>
            <p:nvPr/>
          </p:nvSpPr>
          <p:spPr>
            <a:xfrm>
              <a:off x="3664440" y="1120320"/>
              <a:ext cx="39600" cy="3924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3743280" y="1199160"/>
              <a:ext cx="39600" cy="3924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3823560" y="1278360"/>
              <a:ext cx="39600" cy="403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3823560" y="1120320"/>
              <a:ext cx="39600" cy="3924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3704040" y="1278360"/>
              <a:ext cx="39240" cy="403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3743280" y="1081080"/>
              <a:ext cx="39600" cy="3924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3664440" y="1199160"/>
              <a:ext cx="39600" cy="3924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3783240" y="1358280"/>
              <a:ext cx="40320" cy="3924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3863160" y="1199160"/>
              <a:ext cx="39600" cy="3924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3664440" y="1358280"/>
              <a:ext cx="39600" cy="3924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3823560" y="1476360"/>
              <a:ext cx="39600" cy="3924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3544920" y="1397520"/>
              <a:ext cx="39600" cy="3924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3584520" y="1238760"/>
              <a:ext cx="40320" cy="3924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3505320" y="1120320"/>
              <a:ext cx="39600" cy="3924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3539880" y="1156680"/>
              <a:ext cx="57960" cy="85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"/>
            <p:cNvSpPr/>
            <p:nvPr/>
          </p:nvSpPr>
          <p:spPr>
            <a:xfrm flipH="1">
              <a:off x="3566880" y="1278360"/>
              <a:ext cx="34560" cy="119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"/>
            <p:cNvSpPr/>
            <p:nvPr/>
          </p:nvSpPr>
          <p:spPr>
            <a:xfrm flipH="1">
              <a:off x="3846600" y="1237680"/>
              <a:ext cx="25920" cy="40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"/>
            <p:cNvSpPr/>
            <p:nvPr/>
          </p:nvSpPr>
          <p:spPr>
            <a:xfrm flipH="1" flipV="1">
              <a:off x="3782160" y="1217520"/>
              <a:ext cx="83520" cy="9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"/>
            <p:cNvSpPr/>
            <p:nvPr/>
          </p:nvSpPr>
          <p:spPr>
            <a:xfrm flipH="1" flipV="1">
              <a:off x="3847680" y="1154520"/>
              <a:ext cx="28800" cy="44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3891240" y="1237680"/>
              <a:ext cx="24840" cy="81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"/>
            <p:cNvSpPr/>
            <p:nvPr/>
          </p:nvSpPr>
          <p:spPr>
            <a:xfrm flipH="1">
              <a:off x="3699360" y="1110600"/>
              <a:ext cx="46080" cy="14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"/>
            <p:cNvSpPr/>
            <p:nvPr/>
          </p:nvSpPr>
          <p:spPr>
            <a:xfrm flipH="1" flipV="1">
              <a:off x="3694320" y="1153080"/>
              <a:ext cx="54000" cy="52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"/>
            <p:cNvSpPr/>
            <p:nvPr/>
          </p:nvSpPr>
          <p:spPr>
            <a:xfrm flipH="1">
              <a:off x="3700800" y="1214640"/>
              <a:ext cx="42120" cy="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"/>
            <p:cNvSpPr/>
            <p:nvPr/>
          </p:nvSpPr>
          <p:spPr>
            <a:xfrm flipV="1">
              <a:off x="3619080" y="1231200"/>
              <a:ext cx="50040" cy="180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3620880" y="1266480"/>
              <a:ext cx="82800" cy="24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"/>
            <p:cNvSpPr/>
            <p:nvPr/>
          </p:nvSpPr>
          <p:spPr>
            <a:xfrm flipH="1">
              <a:off x="3695400" y="1312920"/>
              <a:ext cx="133920" cy="49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"/>
            <p:cNvSpPr/>
            <p:nvPr/>
          </p:nvSpPr>
          <p:spPr>
            <a:xfrm flipV="1">
              <a:off x="3681000" y="1237680"/>
              <a:ext cx="6480" cy="120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"/>
            <p:cNvSpPr/>
            <p:nvPr/>
          </p:nvSpPr>
          <p:spPr>
            <a:xfrm flipV="1">
              <a:off x="3813120" y="1318320"/>
              <a:ext cx="24840" cy="42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"/>
            <p:cNvSpPr/>
            <p:nvPr/>
          </p:nvSpPr>
          <p:spPr>
            <a:xfrm flipH="1" flipV="1">
              <a:off x="3810240" y="1395720"/>
              <a:ext cx="29520" cy="80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"/>
            <p:cNvSpPr/>
            <p:nvPr/>
          </p:nvSpPr>
          <p:spPr>
            <a:xfrm flipH="1">
              <a:off x="3835080" y="1158120"/>
              <a:ext cx="5760" cy="120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"/>
            <p:cNvSpPr/>
            <p:nvPr/>
          </p:nvSpPr>
          <p:spPr>
            <a:xfrm flipV="1">
              <a:off x="3861360" y="1229040"/>
              <a:ext cx="126360" cy="720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"/>
            <p:cNvSpPr/>
            <p:nvPr/>
          </p:nvSpPr>
          <p:spPr>
            <a:xfrm flipH="1">
              <a:off x="3823200" y="1349280"/>
              <a:ext cx="83880" cy="24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3706920" y="1143360"/>
              <a:ext cx="1148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"/>
            <p:cNvSpPr/>
            <p:nvPr/>
          </p:nvSpPr>
          <p:spPr>
            <a:xfrm flipH="1" flipV="1">
              <a:off x="3863160" y="1307520"/>
              <a:ext cx="39600" cy="24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3763800" y="1238760"/>
              <a:ext cx="62640" cy="47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"/>
            <p:cNvSpPr/>
            <p:nvPr/>
          </p:nvSpPr>
          <p:spPr>
            <a:xfrm flipV="1">
              <a:off x="3741840" y="1299960"/>
              <a:ext cx="81720" cy="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"/>
            <p:cNvSpPr/>
            <p:nvPr/>
          </p:nvSpPr>
          <p:spPr>
            <a:xfrm flipV="1">
              <a:off x="3771360" y="1156320"/>
              <a:ext cx="59760" cy="44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6" name=""/>
          <p:cNvSpPr/>
          <p:nvPr/>
        </p:nvSpPr>
        <p:spPr>
          <a:xfrm flipH="1">
            <a:off x="3978360" y="1660680"/>
            <a:ext cx="55440" cy="428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"/>
          <p:cNvSpPr/>
          <p:nvPr/>
        </p:nvSpPr>
        <p:spPr>
          <a:xfrm>
            <a:off x="4002120" y="1776240"/>
            <a:ext cx="100080" cy="208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8" name=""/>
          <p:cNvGrpSpPr/>
          <p:nvPr/>
        </p:nvGrpSpPr>
        <p:grpSpPr>
          <a:xfrm>
            <a:off x="3809880" y="1620720"/>
            <a:ext cx="253800" cy="436320"/>
            <a:chOff x="3809880" y="1620720"/>
            <a:chExt cx="253800" cy="436320"/>
          </a:xfrm>
        </p:grpSpPr>
        <p:sp>
          <p:nvSpPr>
            <p:cNvPr id="1429" name=""/>
            <p:cNvSpPr/>
            <p:nvPr/>
          </p:nvSpPr>
          <p:spPr>
            <a:xfrm flipH="1" flipV="1">
              <a:off x="3976920" y="2005920"/>
              <a:ext cx="86760" cy="19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0" name=""/>
            <p:cNvGrpSpPr/>
            <p:nvPr/>
          </p:nvGrpSpPr>
          <p:grpSpPr>
            <a:xfrm>
              <a:off x="3809880" y="1620720"/>
              <a:ext cx="220320" cy="436320"/>
              <a:chOff x="3809880" y="1620720"/>
              <a:chExt cx="220320" cy="436320"/>
            </a:xfrm>
          </p:grpSpPr>
          <p:sp>
            <p:nvSpPr>
              <p:cNvPr id="1431" name=""/>
              <p:cNvSpPr/>
              <p:nvPr/>
            </p:nvSpPr>
            <p:spPr>
              <a:xfrm>
                <a:off x="3823200" y="1818720"/>
                <a:ext cx="39600" cy="4032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3823200" y="1660320"/>
                <a:ext cx="39600" cy="3960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3942360" y="1699920"/>
                <a:ext cx="39600" cy="3960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3862800" y="1739520"/>
                <a:ext cx="39600" cy="3924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3981960" y="1739520"/>
                <a:ext cx="40320" cy="3924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3981960" y="1818720"/>
                <a:ext cx="40320" cy="4032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3823200" y="2017800"/>
                <a:ext cx="39600" cy="3924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3942360" y="1978200"/>
                <a:ext cx="39600" cy="3960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3902400" y="1859400"/>
                <a:ext cx="39600" cy="3960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3902400" y="1620720"/>
                <a:ext cx="39600" cy="3960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 flipH="1">
                <a:off x="3846240" y="1778040"/>
                <a:ext cx="25920" cy="403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 flipH="1" flipV="1">
                <a:off x="3847320" y="1694880"/>
                <a:ext cx="28800" cy="44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3890880" y="1778040"/>
                <a:ext cx="25200" cy="82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 flipV="1">
                <a:off x="3897720" y="1731240"/>
                <a:ext cx="48240" cy="12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 flipV="1">
                <a:off x="3895560" y="1657080"/>
                <a:ext cx="23040" cy="83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 flipV="1">
                <a:off x="3812400" y="1859400"/>
                <a:ext cx="25200" cy="42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 flipH="1" flipV="1">
                <a:off x="3936960" y="1652040"/>
                <a:ext cx="89640" cy="54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 flipH="1">
                <a:off x="3900600" y="1759680"/>
                <a:ext cx="8280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 flipH="1">
                <a:off x="3937320" y="1836360"/>
                <a:ext cx="43200" cy="27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 flipH="1" flipV="1">
                <a:off x="3942360" y="1882440"/>
                <a:ext cx="87840" cy="223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 flipH="1" flipV="1">
                <a:off x="3897360" y="1774080"/>
                <a:ext cx="92520" cy="504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 flipH="1" flipV="1">
                <a:off x="3925800" y="1896480"/>
                <a:ext cx="34560" cy="83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 flipH="1" flipV="1">
                <a:off x="3809880" y="1936080"/>
                <a:ext cx="29520" cy="810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 flipH="1">
                <a:off x="3834720" y="1697760"/>
                <a:ext cx="5760" cy="120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 flipV="1">
                <a:off x="3860640" y="1769040"/>
                <a:ext cx="126720" cy="72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3932640" y="1657440"/>
                <a:ext cx="23040" cy="46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 flipH="1">
                <a:off x="3822840" y="1890360"/>
                <a:ext cx="83880" cy="248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3976920" y="1729800"/>
                <a:ext cx="18000" cy="133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 flipH="1" flipV="1">
                <a:off x="3862800" y="1848600"/>
                <a:ext cx="39600" cy="252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60" name=""/>
          <p:cNvGrpSpPr/>
          <p:nvPr/>
        </p:nvGrpSpPr>
        <p:grpSpPr>
          <a:xfrm>
            <a:off x="3505320" y="1620720"/>
            <a:ext cx="362880" cy="357480"/>
            <a:chOff x="3505320" y="1620720"/>
            <a:chExt cx="362880" cy="357480"/>
          </a:xfrm>
        </p:grpSpPr>
        <p:sp>
          <p:nvSpPr>
            <p:cNvPr id="1461" name=""/>
            <p:cNvSpPr/>
            <p:nvPr/>
          </p:nvSpPr>
          <p:spPr>
            <a:xfrm>
              <a:off x="3664800" y="1660320"/>
              <a:ext cx="39600" cy="3960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3743640" y="1739520"/>
              <a:ext cx="39600" cy="3924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3704400" y="1818720"/>
              <a:ext cx="39240" cy="403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3743640" y="1620720"/>
              <a:ext cx="39600" cy="3960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3664800" y="1739520"/>
              <a:ext cx="39600" cy="3924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3783600" y="1899000"/>
              <a:ext cx="40320" cy="3960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3664800" y="1899000"/>
              <a:ext cx="39600" cy="3960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3544920" y="1938600"/>
              <a:ext cx="39600" cy="3960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3584520" y="1779120"/>
              <a:ext cx="40320" cy="3960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3505320" y="1660320"/>
              <a:ext cx="39600" cy="3960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3539880" y="1697040"/>
              <a:ext cx="57960" cy="85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"/>
            <p:cNvSpPr/>
            <p:nvPr/>
          </p:nvSpPr>
          <p:spPr>
            <a:xfrm flipH="1">
              <a:off x="3566880" y="1818720"/>
              <a:ext cx="34560" cy="119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"/>
            <p:cNvSpPr/>
            <p:nvPr/>
          </p:nvSpPr>
          <p:spPr>
            <a:xfrm flipH="1" flipV="1">
              <a:off x="3782160" y="1757520"/>
              <a:ext cx="8388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"/>
            <p:cNvSpPr/>
            <p:nvPr/>
          </p:nvSpPr>
          <p:spPr>
            <a:xfrm flipH="1">
              <a:off x="3743640" y="1774080"/>
              <a:ext cx="124560" cy="57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"/>
            <p:cNvSpPr/>
            <p:nvPr/>
          </p:nvSpPr>
          <p:spPr>
            <a:xfrm flipH="1" flipV="1">
              <a:off x="3773520" y="1657800"/>
              <a:ext cx="94680" cy="89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6" name=""/>
            <p:cNvSpPr/>
            <p:nvPr/>
          </p:nvSpPr>
          <p:spPr>
            <a:xfrm flipH="1">
              <a:off x="3699720" y="1650600"/>
              <a:ext cx="46080" cy="14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"/>
            <p:cNvSpPr/>
            <p:nvPr/>
          </p:nvSpPr>
          <p:spPr>
            <a:xfrm flipH="1" flipV="1">
              <a:off x="3694680" y="1692720"/>
              <a:ext cx="54000" cy="52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"/>
            <p:cNvSpPr/>
            <p:nvPr/>
          </p:nvSpPr>
          <p:spPr>
            <a:xfrm flipH="1">
              <a:off x="3701160" y="1755000"/>
              <a:ext cx="42480" cy="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"/>
            <p:cNvSpPr/>
            <p:nvPr/>
          </p:nvSpPr>
          <p:spPr>
            <a:xfrm flipV="1">
              <a:off x="3619440" y="1770840"/>
              <a:ext cx="50040" cy="18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3621240" y="1807200"/>
              <a:ext cx="83160" cy="252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"/>
            <p:cNvSpPr/>
            <p:nvPr/>
          </p:nvSpPr>
          <p:spPr>
            <a:xfrm flipH="1">
              <a:off x="3695400" y="1853640"/>
              <a:ext cx="134280" cy="50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2" name=""/>
            <p:cNvSpPr/>
            <p:nvPr/>
          </p:nvSpPr>
          <p:spPr>
            <a:xfrm flipV="1">
              <a:off x="3681000" y="1777680"/>
              <a:ext cx="6480" cy="120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3707280" y="1683360"/>
              <a:ext cx="1148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3764160" y="1779120"/>
              <a:ext cx="62640" cy="48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"/>
            <p:cNvSpPr/>
            <p:nvPr/>
          </p:nvSpPr>
          <p:spPr>
            <a:xfrm flipV="1">
              <a:off x="3742200" y="1841040"/>
              <a:ext cx="81720" cy="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6" name=""/>
            <p:cNvSpPr/>
            <p:nvPr/>
          </p:nvSpPr>
          <p:spPr>
            <a:xfrm flipV="1">
              <a:off x="3771720" y="1697040"/>
              <a:ext cx="59760" cy="43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7" name=""/>
          <p:cNvSpPr/>
          <p:nvPr/>
        </p:nvSpPr>
        <p:spPr>
          <a:xfrm flipH="1">
            <a:off x="4497480" y="1773360"/>
            <a:ext cx="48960" cy="172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"/>
          <p:cNvSpPr/>
          <p:nvPr/>
        </p:nvSpPr>
        <p:spPr>
          <a:xfrm flipH="1">
            <a:off x="4502160" y="1936800"/>
            <a:ext cx="46080" cy="172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"/>
          <p:cNvSpPr/>
          <p:nvPr/>
        </p:nvSpPr>
        <p:spPr>
          <a:xfrm>
            <a:off x="4459320" y="1727280"/>
            <a:ext cx="85680" cy="237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/>
          <p:nvPr/>
        </p:nvSpPr>
        <p:spPr>
          <a:xfrm>
            <a:off x="4460760" y="1881360"/>
            <a:ext cx="81000" cy="28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"/>
          <p:cNvSpPr/>
          <p:nvPr/>
        </p:nvSpPr>
        <p:spPr>
          <a:xfrm flipV="1">
            <a:off x="4487760" y="1696680"/>
            <a:ext cx="55800" cy="810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2" name=""/>
          <p:cNvGrpSpPr/>
          <p:nvPr/>
        </p:nvGrpSpPr>
        <p:grpSpPr>
          <a:xfrm>
            <a:off x="4011480" y="1620720"/>
            <a:ext cx="490680" cy="436320"/>
            <a:chOff x="4011480" y="1620720"/>
            <a:chExt cx="490680" cy="436320"/>
          </a:xfrm>
        </p:grpSpPr>
        <p:sp>
          <p:nvSpPr>
            <p:cNvPr id="1493" name=""/>
            <p:cNvSpPr/>
            <p:nvPr/>
          </p:nvSpPr>
          <p:spPr>
            <a:xfrm>
              <a:off x="4140720" y="1899000"/>
              <a:ext cx="39600" cy="3960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4140720" y="1660320"/>
              <a:ext cx="39600" cy="3960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4021920" y="1899000"/>
              <a:ext cx="39600" cy="3960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4021920" y="1620720"/>
              <a:ext cx="39600" cy="3960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4101120" y="1779120"/>
              <a:ext cx="39600" cy="3960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4459680" y="1779120"/>
              <a:ext cx="39600" cy="3960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4061520" y="2017800"/>
              <a:ext cx="39240" cy="3924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4420080" y="1699920"/>
              <a:ext cx="39240" cy="3960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4300200" y="1779120"/>
              <a:ext cx="39600" cy="3960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4420080" y="1859400"/>
              <a:ext cx="39240" cy="3960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4459680" y="1938600"/>
              <a:ext cx="39600" cy="3960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4" name=""/>
            <p:cNvSpPr/>
            <p:nvPr/>
          </p:nvSpPr>
          <p:spPr>
            <a:xfrm flipH="1" flipV="1">
              <a:off x="4047840" y="1657800"/>
              <a:ext cx="66600" cy="120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5" name=""/>
            <p:cNvSpPr/>
            <p:nvPr/>
          </p:nvSpPr>
          <p:spPr>
            <a:xfrm flipH="1">
              <a:off x="4061160" y="1916280"/>
              <a:ext cx="788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6" name=""/>
            <p:cNvSpPr/>
            <p:nvPr/>
          </p:nvSpPr>
          <p:spPr>
            <a:xfrm flipH="1" flipV="1">
              <a:off x="4057920" y="1648440"/>
              <a:ext cx="82800" cy="37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4011480" y="1860480"/>
              <a:ext cx="27720" cy="36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8" name=""/>
            <p:cNvSpPr/>
            <p:nvPr/>
          </p:nvSpPr>
          <p:spPr>
            <a:xfrm flipH="1">
              <a:off x="4459680" y="1852560"/>
              <a:ext cx="42480" cy="14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4339800" y="1795320"/>
              <a:ext cx="1224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4449960" y="1736640"/>
              <a:ext cx="19080" cy="42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4489560" y="1813680"/>
              <a:ext cx="12240" cy="11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4174920" y="1697760"/>
              <a:ext cx="125280" cy="92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3" name=""/>
          <p:cNvSpPr/>
          <p:nvPr/>
        </p:nvSpPr>
        <p:spPr>
          <a:xfrm>
            <a:off x="3743280" y="2317680"/>
            <a:ext cx="39600" cy="39600"/>
          </a:xfrm>
          <a:prstGeom prst="ellips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"/>
          <p:cNvSpPr/>
          <p:nvPr/>
        </p:nvSpPr>
        <p:spPr>
          <a:xfrm>
            <a:off x="3664080" y="2317680"/>
            <a:ext cx="39600" cy="39600"/>
          </a:xfrm>
          <a:prstGeom prst="ellips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"/>
          <p:cNvSpPr/>
          <p:nvPr/>
        </p:nvSpPr>
        <p:spPr>
          <a:xfrm>
            <a:off x="3943440" y="2279520"/>
            <a:ext cx="39600" cy="38160"/>
          </a:xfrm>
          <a:prstGeom prst="ellips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"/>
          <p:cNvSpPr/>
          <p:nvPr/>
        </p:nvSpPr>
        <p:spPr>
          <a:xfrm>
            <a:off x="3863880" y="2317680"/>
            <a:ext cx="39960" cy="39600"/>
          </a:xfrm>
          <a:prstGeom prst="ellips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"/>
          <p:cNvSpPr/>
          <p:nvPr/>
        </p:nvSpPr>
        <p:spPr>
          <a:xfrm>
            <a:off x="4141800" y="2239920"/>
            <a:ext cx="39600" cy="39600"/>
          </a:xfrm>
          <a:prstGeom prst="ellips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"/>
          <p:cNvSpPr/>
          <p:nvPr/>
        </p:nvSpPr>
        <p:spPr>
          <a:xfrm>
            <a:off x="4022640" y="2200320"/>
            <a:ext cx="39600" cy="39600"/>
          </a:xfrm>
          <a:prstGeom prst="ellips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"/>
          <p:cNvSpPr/>
          <p:nvPr/>
        </p:nvSpPr>
        <p:spPr>
          <a:xfrm>
            <a:off x="4460760" y="2357280"/>
            <a:ext cx="39960" cy="39960"/>
          </a:xfrm>
          <a:prstGeom prst="ellips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"/>
          <p:cNvSpPr/>
          <p:nvPr/>
        </p:nvSpPr>
        <p:spPr>
          <a:xfrm>
            <a:off x="3584520" y="2357280"/>
            <a:ext cx="39600" cy="39960"/>
          </a:xfrm>
          <a:prstGeom prst="ellips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"/>
          <p:cNvSpPr/>
          <p:nvPr/>
        </p:nvSpPr>
        <p:spPr>
          <a:xfrm>
            <a:off x="3505320" y="2239920"/>
            <a:ext cx="39600" cy="39600"/>
          </a:xfrm>
          <a:prstGeom prst="ellips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"/>
          <p:cNvSpPr/>
          <p:nvPr/>
        </p:nvSpPr>
        <p:spPr>
          <a:xfrm>
            <a:off x="4300560" y="2357280"/>
            <a:ext cx="39600" cy="39960"/>
          </a:xfrm>
          <a:prstGeom prst="ellips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"/>
          <p:cNvSpPr/>
          <p:nvPr/>
        </p:nvSpPr>
        <p:spPr>
          <a:xfrm>
            <a:off x="3540240" y="2276640"/>
            <a:ext cx="56880" cy="856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"/>
          <p:cNvSpPr/>
          <p:nvPr/>
        </p:nvSpPr>
        <p:spPr>
          <a:xfrm flipH="1">
            <a:off x="3566880" y="2397240"/>
            <a:ext cx="34920" cy="1206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"/>
          <p:cNvSpPr/>
          <p:nvPr/>
        </p:nvSpPr>
        <p:spPr>
          <a:xfrm flipH="1">
            <a:off x="3846240" y="2357280"/>
            <a:ext cx="27000" cy="39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"/>
          <p:cNvSpPr/>
          <p:nvPr/>
        </p:nvSpPr>
        <p:spPr>
          <a:xfrm flipH="1" flipV="1">
            <a:off x="3782880" y="2336400"/>
            <a:ext cx="84240" cy="97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"/>
          <p:cNvSpPr/>
          <p:nvPr/>
        </p:nvSpPr>
        <p:spPr>
          <a:xfrm flipH="1" flipV="1">
            <a:off x="3848040" y="2274480"/>
            <a:ext cx="28800" cy="428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"/>
          <p:cNvSpPr/>
          <p:nvPr/>
        </p:nvSpPr>
        <p:spPr>
          <a:xfrm>
            <a:off x="3890880" y="2357280"/>
            <a:ext cx="25560" cy="810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"/>
          <p:cNvSpPr/>
          <p:nvPr/>
        </p:nvSpPr>
        <p:spPr>
          <a:xfrm flipH="1">
            <a:off x="3743280" y="2352600"/>
            <a:ext cx="125280" cy="586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"/>
          <p:cNvSpPr/>
          <p:nvPr/>
        </p:nvSpPr>
        <p:spPr>
          <a:xfrm flipV="1">
            <a:off x="3898800" y="2311200"/>
            <a:ext cx="47880" cy="126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"/>
          <p:cNvSpPr/>
          <p:nvPr/>
        </p:nvSpPr>
        <p:spPr>
          <a:xfrm flipV="1">
            <a:off x="3895560" y="2236680"/>
            <a:ext cx="24120" cy="842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"/>
          <p:cNvSpPr/>
          <p:nvPr/>
        </p:nvSpPr>
        <p:spPr>
          <a:xfrm flipH="1" flipV="1">
            <a:off x="3773520" y="2236680"/>
            <a:ext cx="95040" cy="907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"/>
          <p:cNvSpPr/>
          <p:nvPr/>
        </p:nvSpPr>
        <p:spPr>
          <a:xfrm flipH="1">
            <a:off x="3699000" y="2230560"/>
            <a:ext cx="46080" cy="140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"/>
          <p:cNvSpPr/>
          <p:nvPr/>
        </p:nvSpPr>
        <p:spPr>
          <a:xfrm flipH="1" flipV="1">
            <a:off x="3693960" y="2271600"/>
            <a:ext cx="54000" cy="540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"/>
          <p:cNvSpPr/>
          <p:nvPr/>
        </p:nvSpPr>
        <p:spPr>
          <a:xfrm flipH="1">
            <a:off x="3701520" y="2333520"/>
            <a:ext cx="41400" cy="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"/>
          <p:cNvSpPr/>
          <p:nvPr/>
        </p:nvSpPr>
        <p:spPr>
          <a:xfrm flipV="1">
            <a:off x="3619440" y="2351160"/>
            <a:ext cx="49320" cy="172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"/>
          <p:cNvSpPr/>
          <p:nvPr/>
        </p:nvSpPr>
        <p:spPr>
          <a:xfrm>
            <a:off x="3621240" y="2386080"/>
            <a:ext cx="82440" cy="252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"/>
          <p:cNvSpPr/>
          <p:nvPr/>
        </p:nvSpPr>
        <p:spPr>
          <a:xfrm flipH="1">
            <a:off x="3695760" y="2432160"/>
            <a:ext cx="133200" cy="507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"/>
          <p:cNvSpPr/>
          <p:nvPr/>
        </p:nvSpPr>
        <p:spPr>
          <a:xfrm flipV="1">
            <a:off x="3681360" y="2357280"/>
            <a:ext cx="6480" cy="120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"/>
          <p:cNvSpPr/>
          <p:nvPr/>
        </p:nvSpPr>
        <p:spPr>
          <a:xfrm flipV="1">
            <a:off x="3813120" y="2437920"/>
            <a:ext cx="25560" cy="428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"/>
          <p:cNvSpPr/>
          <p:nvPr/>
        </p:nvSpPr>
        <p:spPr>
          <a:xfrm flipH="1" flipV="1">
            <a:off x="3938760" y="2231640"/>
            <a:ext cx="88560" cy="46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"/>
          <p:cNvSpPr/>
          <p:nvPr/>
        </p:nvSpPr>
        <p:spPr>
          <a:xfrm flipH="1">
            <a:off x="3900240" y="2338560"/>
            <a:ext cx="8388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"/>
          <p:cNvSpPr/>
          <p:nvPr/>
        </p:nvSpPr>
        <p:spPr>
          <a:xfrm flipH="1">
            <a:off x="3938400" y="2414520"/>
            <a:ext cx="42840" cy="28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"/>
          <p:cNvSpPr/>
          <p:nvPr/>
        </p:nvSpPr>
        <p:spPr>
          <a:xfrm flipH="1" flipV="1">
            <a:off x="4049280" y="2236320"/>
            <a:ext cx="66600" cy="1206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/>
          <p:nvPr/>
        </p:nvSpPr>
        <p:spPr>
          <a:xfrm flipH="1" flipV="1">
            <a:off x="3943440" y="2460600"/>
            <a:ext cx="87120" cy="223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"/>
          <p:cNvSpPr/>
          <p:nvPr/>
        </p:nvSpPr>
        <p:spPr>
          <a:xfrm flipH="1" flipV="1">
            <a:off x="3898800" y="2352240"/>
            <a:ext cx="92160" cy="507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"/>
          <p:cNvSpPr/>
          <p:nvPr/>
        </p:nvSpPr>
        <p:spPr>
          <a:xfrm flipH="1" flipV="1">
            <a:off x="3925440" y="2476080"/>
            <a:ext cx="34920" cy="82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"/>
          <p:cNvSpPr/>
          <p:nvPr/>
        </p:nvSpPr>
        <p:spPr>
          <a:xfrm flipH="1" flipV="1">
            <a:off x="3809880" y="2514240"/>
            <a:ext cx="30240" cy="82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"/>
          <p:cNvSpPr/>
          <p:nvPr/>
        </p:nvSpPr>
        <p:spPr>
          <a:xfrm flipH="1">
            <a:off x="4061880" y="2495520"/>
            <a:ext cx="7956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/>
          <p:nvPr/>
        </p:nvSpPr>
        <p:spPr>
          <a:xfrm flipH="1" flipV="1">
            <a:off x="4059000" y="2227320"/>
            <a:ext cx="82440" cy="381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"/>
          <p:cNvSpPr/>
          <p:nvPr/>
        </p:nvSpPr>
        <p:spPr>
          <a:xfrm flipH="1">
            <a:off x="3978360" y="2239920"/>
            <a:ext cx="55440" cy="428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"/>
          <p:cNvSpPr/>
          <p:nvPr/>
        </p:nvSpPr>
        <p:spPr>
          <a:xfrm flipH="1">
            <a:off x="3835440" y="2276640"/>
            <a:ext cx="6480" cy="1206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"/>
          <p:cNvSpPr/>
          <p:nvPr/>
        </p:nvSpPr>
        <p:spPr>
          <a:xfrm flipV="1">
            <a:off x="3862440" y="2347560"/>
            <a:ext cx="125280" cy="730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"/>
          <p:cNvSpPr/>
          <p:nvPr/>
        </p:nvSpPr>
        <p:spPr>
          <a:xfrm>
            <a:off x="3933720" y="2236680"/>
            <a:ext cx="22320" cy="460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"/>
          <p:cNvSpPr/>
          <p:nvPr/>
        </p:nvSpPr>
        <p:spPr>
          <a:xfrm flipH="1">
            <a:off x="3824280" y="2468520"/>
            <a:ext cx="84240" cy="255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"/>
          <p:cNvSpPr/>
          <p:nvPr/>
        </p:nvSpPr>
        <p:spPr>
          <a:xfrm>
            <a:off x="3706920" y="2262240"/>
            <a:ext cx="11592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"/>
          <p:cNvSpPr/>
          <p:nvPr/>
        </p:nvSpPr>
        <p:spPr>
          <a:xfrm>
            <a:off x="4002120" y="2355840"/>
            <a:ext cx="100080" cy="205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"/>
          <p:cNvSpPr/>
          <p:nvPr/>
        </p:nvSpPr>
        <p:spPr>
          <a:xfrm>
            <a:off x="4011480" y="2438280"/>
            <a:ext cx="28800" cy="381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"/>
          <p:cNvSpPr/>
          <p:nvPr/>
        </p:nvSpPr>
        <p:spPr>
          <a:xfrm>
            <a:off x="3978360" y="2308320"/>
            <a:ext cx="17280" cy="140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"/>
          <p:cNvSpPr/>
          <p:nvPr/>
        </p:nvSpPr>
        <p:spPr>
          <a:xfrm flipH="1" flipV="1">
            <a:off x="3863520" y="2426760"/>
            <a:ext cx="39960" cy="255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"/>
          <p:cNvSpPr/>
          <p:nvPr/>
        </p:nvSpPr>
        <p:spPr>
          <a:xfrm>
            <a:off x="3763800" y="2357280"/>
            <a:ext cx="63720" cy="493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"/>
          <p:cNvSpPr/>
          <p:nvPr/>
        </p:nvSpPr>
        <p:spPr>
          <a:xfrm flipV="1">
            <a:off x="3772080" y="2276280"/>
            <a:ext cx="60120" cy="442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"/>
          <p:cNvSpPr/>
          <p:nvPr/>
        </p:nvSpPr>
        <p:spPr>
          <a:xfrm>
            <a:off x="4557600" y="2357280"/>
            <a:ext cx="32040" cy="460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"/>
          <p:cNvSpPr/>
          <p:nvPr/>
        </p:nvSpPr>
        <p:spPr>
          <a:xfrm flipH="1">
            <a:off x="4497480" y="2352600"/>
            <a:ext cx="48960" cy="176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"/>
          <p:cNvSpPr/>
          <p:nvPr/>
        </p:nvSpPr>
        <p:spPr>
          <a:xfrm flipH="1">
            <a:off x="4527720" y="2357280"/>
            <a:ext cx="25200" cy="367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"/>
          <p:cNvSpPr/>
          <p:nvPr/>
        </p:nvSpPr>
        <p:spPr>
          <a:xfrm flipH="1" flipV="1">
            <a:off x="4579920" y="2338560"/>
            <a:ext cx="3960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"/>
          <p:cNvSpPr/>
          <p:nvPr/>
        </p:nvSpPr>
        <p:spPr>
          <a:xfrm flipH="1">
            <a:off x="4613040" y="2360520"/>
            <a:ext cx="20520" cy="39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"/>
          <p:cNvSpPr/>
          <p:nvPr/>
        </p:nvSpPr>
        <p:spPr>
          <a:xfrm flipV="1">
            <a:off x="4540320" y="2350800"/>
            <a:ext cx="84240" cy="522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"/>
          <p:cNvSpPr/>
          <p:nvPr/>
        </p:nvSpPr>
        <p:spPr>
          <a:xfrm>
            <a:off x="4562640" y="2276640"/>
            <a:ext cx="4680" cy="442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"/>
          <p:cNvSpPr/>
          <p:nvPr/>
        </p:nvSpPr>
        <p:spPr>
          <a:xfrm flipH="1">
            <a:off x="4647960" y="2274840"/>
            <a:ext cx="20520" cy="460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"/>
          <p:cNvSpPr/>
          <p:nvPr/>
        </p:nvSpPr>
        <p:spPr>
          <a:xfrm flipH="1">
            <a:off x="4502160" y="2514600"/>
            <a:ext cx="46080" cy="190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"/>
          <p:cNvSpPr/>
          <p:nvPr/>
        </p:nvSpPr>
        <p:spPr>
          <a:xfrm flipH="1" flipV="1">
            <a:off x="4578120" y="2503080"/>
            <a:ext cx="44280" cy="255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"/>
          <p:cNvSpPr/>
          <p:nvPr/>
        </p:nvSpPr>
        <p:spPr>
          <a:xfrm flipH="1" flipV="1">
            <a:off x="4617720" y="2428560"/>
            <a:ext cx="42840" cy="270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"/>
          <p:cNvSpPr/>
          <p:nvPr/>
        </p:nvSpPr>
        <p:spPr>
          <a:xfrm flipH="1">
            <a:off x="4566960" y="2432160"/>
            <a:ext cx="20520" cy="460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"/>
          <p:cNvSpPr/>
          <p:nvPr/>
        </p:nvSpPr>
        <p:spPr>
          <a:xfrm flipH="1">
            <a:off x="4540320" y="2416320"/>
            <a:ext cx="3960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"/>
          <p:cNvSpPr/>
          <p:nvPr/>
        </p:nvSpPr>
        <p:spPr>
          <a:xfrm flipH="1">
            <a:off x="4460400" y="2432160"/>
            <a:ext cx="41400" cy="140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"/>
          <p:cNvSpPr/>
          <p:nvPr/>
        </p:nvSpPr>
        <p:spPr>
          <a:xfrm>
            <a:off x="4340160" y="2374920"/>
            <a:ext cx="12384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"/>
          <p:cNvSpPr/>
          <p:nvPr/>
        </p:nvSpPr>
        <p:spPr>
          <a:xfrm>
            <a:off x="4451400" y="2316240"/>
            <a:ext cx="19080" cy="410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"/>
          <p:cNvSpPr/>
          <p:nvPr/>
        </p:nvSpPr>
        <p:spPr>
          <a:xfrm>
            <a:off x="4459320" y="2306520"/>
            <a:ext cx="85680" cy="237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"/>
          <p:cNvSpPr/>
          <p:nvPr/>
        </p:nvSpPr>
        <p:spPr>
          <a:xfrm>
            <a:off x="4491000" y="2392200"/>
            <a:ext cx="11160" cy="12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"/>
          <p:cNvSpPr/>
          <p:nvPr/>
        </p:nvSpPr>
        <p:spPr>
          <a:xfrm>
            <a:off x="4460760" y="2459160"/>
            <a:ext cx="81000" cy="298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"/>
          <p:cNvSpPr/>
          <p:nvPr/>
        </p:nvSpPr>
        <p:spPr>
          <a:xfrm flipH="1" flipV="1">
            <a:off x="4532040" y="2432160"/>
            <a:ext cx="19080" cy="460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"/>
          <p:cNvSpPr/>
          <p:nvPr/>
        </p:nvSpPr>
        <p:spPr>
          <a:xfrm flipV="1">
            <a:off x="4487760" y="2276640"/>
            <a:ext cx="55800" cy="806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"/>
          <p:cNvSpPr/>
          <p:nvPr/>
        </p:nvSpPr>
        <p:spPr>
          <a:xfrm>
            <a:off x="4175280" y="2276640"/>
            <a:ext cx="125280" cy="936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5" name=""/>
          <p:cNvGrpSpPr/>
          <p:nvPr/>
        </p:nvGrpSpPr>
        <p:grpSpPr>
          <a:xfrm>
            <a:off x="3505320" y="2786040"/>
            <a:ext cx="1039320" cy="436320"/>
            <a:chOff x="3505320" y="2786040"/>
            <a:chExt cx="1039320" cy="436320"/>
          </a:xfrm>
        </p:grpSpPr>
        <p:sp>
          <p:nvSpPr>
            <p:cNvPr id="1586" name=""/>
            <p:cNvSpPr/>
            <p:nvPr/>
          </p:nvSpPr>
          <p:spPr>
            <a:xfrm>
              <a:off x="3664800" y="2825640"/>
              <a:ext cx="39600" cy="3960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3743640" y="2904840"/>
              <a:ext cx="39600" cy="3924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3823920" y="2984040"/>
              <a:ext cx="39600" cy="403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3823920" y="2825640"/>
              <a:ext cx="39600" cy="3960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3704400" y="2984040"/>
              <a:ext cx="39240" cy="403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3743640" y="2786040"/>
              <a:ext cx="39600" cy="3960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3664800" y="2904840"/>
              <a:ext cx="39600" cy="3924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3943080" y="2865240"/>
              <a:ext cx="39600" cy="3960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3783600" y="3064320"/>
              <a:ext cx="40320" cy="3960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3863520" y="2904840"/>
              <a:ext cx="39600" cy="3924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3982680" y="2904840"/>
              <a:ext cx="40320" cy="3924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3664800" y="3064320"/>
              <a:ext cx="39600" cy="3960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4141800" y="3064320"/>
              <a:ext cx="39600" cy="3960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4141800" y="2825640"/>
              <a:ext cx="39600" cy="3960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4023360" y="3064320"/>
              <a:ext cx="39600" cy="3960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4023360" y="2786040"/>
              <a:ext cx="39600" cy="3960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3982680" y="2984040"/>
              <a:ext cx="40320" cy="403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3823920" y="3183120"/>
              <a:ext cx="39600" cy="3924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3943080" y="3143520"/>
              <a:ext cx="39600" cy="3960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4102200" y="2944440"/>
              <a:ext cx="39600" cy="3960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4460760" y="2944440"/>
              <a:ext cx="39600" cy="3960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3544920" y="3103920"/>
              <a:ext cx="39600" cy="3960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4062960" y="3183120"/>
              <a:ext cx="39240" cy="3924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3584520" y="2944440"/>
              <a:ext cx="40320" cy="3960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4421520" y="2865240"/>
              <a:ext cx="39240" cy="3960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3505320" y="2825640"/>
              <a:ext cx="39600" cy="3960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3903480" y="3024720"/>
              <a:ext cx="39600" cy="3960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4301640" y="2944440"/>
              <a:ext cx="39600" cy="3960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4421520" y="3024720"/>
              <a:ext cx="39240" cy="3960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4460760" y="3103920"/>
              <a:ext cx="39600" cy="3960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3903480" y="2786040"/>
              <a:ext cx="39600" cy="3960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3539880" y="2862360"/>
              <a:ext cx="57960" cy="85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8" name=""/>
            <p:cNvSpPr/>
            <p:nvPr/>
          </p:nvSpPr>
          <p:spPr>
            <a:xfrm flipH="1">
              <a:off x="3566880" y="2984040"/>
              <a:ext cx="34560" cy="119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9" name=""/>
            <p:cNvSpPr/>
            <p:nvPr/>
          </p:nvSpPr>
          <p:spPr>
            <a:xfrm flipH="1">
              <a:off x="3847320" y="2943360"/>
              <a:ext cx="25920" cy="40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0" name=""/>
            <p:cNvSpPr/>
            <p:nvPr/>
          </p:nvSpPr>
          <p:spPr>
            <a:xfrm flipH="1" flipV="1">
              <a:off x="3782160" y="2923200"/>
              <a:ext cx="83880" cy="9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1" name=""/>
            <p:cNvSpPr/>
            <p:nvPr/>
          </p:nvSpPr>
          <p:spPr>
            <a:xfrm flipH="1" flipV="1">
              <a:off x="3848400" y="2860200"/>
              <a:ext cx="28800" cy="44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3891600" y="2943360"/>
              <a:ext cx="25200" cy="82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3" name=""/>
            <p:cNvSpPr/>
            <p:nvPr/>
          </p:nvSpPr>
          <p:spPr>
            <a:xfrm flipH="1">
              <a:off x="3743640" y="2939400"/>
              <a:ext cx="124560" cy="57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4" name=""/>
            <p:cNvSpPr/>
            <p:nvPr/>
          </p:nvSpPr>
          <p:spPr>
            <a:xfrm flipV="1">
              <a:off x="3898440" y="2896560"/>
              <a:ext cx="47880" cy="12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5" name=""/>
            <p:cNvSpPr/>
            <p:nvPr/>
          </p:nvSpPr>
          <p:spPr>
            <a:xfrm flipV="1">
              <a:off x="3896640" y="2822400"/>
              <a:ext cx="23040" cy="83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6" name=""/>
            <p:cNvSpPr/>
            <p:nvPr/>
          </p:nvSpPr>
          <p:spPr>
            <a:xfrm flipH="1" flipV="1">
              <a:off x="3773880" y="2823120"/>
              <a:ext cx="94320" cy="89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7" name=""/>
            <p:cNvSpPr/>
            <p:nvPr/>
          </p:nvSpPr>
          <p:spPr>
            <a:xfrm flipH="1">
              <a:off x="3699360" y="2815920"/>
              <a:ext cx="46080" cy="14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8" name=""/>
            <p:cNvSpPr/>
            <p:nvPr/>
          </p:nvSpPr>
          <p:spPr>
            <a:xfrm flipH="1" flipV="1">
              <a:off x="3694320" y="2858040"/>
              <a:ext cx="54000" cy="52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9" name=""/>
            <p:cNvSpPr/>
            <p:nvPr/>
          </p:nvSpPr>
          <p:spPr>
            <a:xfrm flipH="1">
              <a:off x="3701160" y="2920320"/>
              <a:ext cx="42480" cy="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0" name=""/>
            <p:cNvSpPr/>
            <p:nvPr/>
          </p:nvSpPr>
          <p:spPr>
            <a:xfrm flipV="1">
              <a:off x="3619440" y="2936160"/>
              <a:ext cx="50040" cy="18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3621240" y="2972520"/>
              <a:ext cx="83160" cy="252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"/>
            <p:cNvSpPr/>
            <p:nvPr/>
          </p:nvSpPr>
          <p:spPr>
            <a:xfrm flipH="1">
              <a:off x="3695040" y="3018960"/>
              <a:ext cx="134280" cy="50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3" name=""/>
            <p:cNvSpPr/>
            <p:nvPr/>
          </p:nvSpPr>
          <p:spPr>
            <a:xfrm flipV="1">
              <a:off x="3681000" y="2943000"/>
              <a:ext cx="6480" cy="120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4" name=""/>
            <p:cNvSpPr/>
            <p:nvPr/>
          </p:nvSpPr>
          <p:spPr>
            <a:xfrm flipV="1">
              <a:off x="3813480" y="3024720"/>
              <a:ext cx="25200" cy="42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"/>
            <p:cNvSpPr/>
            <p:nvPr/>
          </p:nvSpPr>
          <p:spPr>
            <a:xfrm flipH="1" flipV="1">
              <a:off x="3937680" y="2817360"/>
              <a:ext cx="89640" cy="5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6" name=""/>
            <p:cNvSpPr/>
            <p:nvPr/>
          </p:nvSpPr>
          <p:spPr>
            <a:xfrm flipH="1">
              <a:off x="3901320" y="2925000"/>
              <a:ext cx="82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7" name=""/>
            <p:cNvSpPr/>
            <p:nvPr/>
          </p:nvSpPr>
          <p:spPr>
            <a:xfrm flipH="1">
              <a:off x="3938040" y="3001680"/>
              <a:ext cx="43200" cy="27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8" name=""/>
            <p:cNvSpPr/>
            <p:nvPr/>
          </p:nvSpPr>
          <p:spPr>
            <a:xfrm flipH="1" flipV="1">
              <a:off x="4048920" y="2823120"/>
              <a:ext cx="66600" cy="120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9" name=""/>
            <p:cNvSpPr/>
            <p:nvPr/>
          </p:nvSpPr>
          <p:spPr>
            <a:xfrm flipH="1" flipV="1">
              <a:off x="3943080" y="3047760"/>
              <a:ext cx="87840" cy="22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0" name=""/>
            <p:cNvSpPr/>
            <p:nvPr/>
          </p:nvSpPr>
          <p:spPr>
            <a:xfrm flipH="1" flipV="1">
              <a:off x="3898080" y="2939400"/>
              <a:ext cx="92520" cy="50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1" name=""/>
            <p:cNvSpPr/>
            <p:nvPr/>
          </p:nvSpPr>
          <p:spPr>
            <a:xfrm flipH="1" flipV="1">
              <a:off x="3926520" y="3061800"/>
              <a:ext cx="34560" cy="83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2" name=""/>
            <p:cNvSpPr/>
            <p:nvPr/>
          </p:nvSpPr>
          <p:spPr>
            <a:xfrm flipH="1" flipV="1">
              <a:off x="3810600" y="3101400"/>
              <a:ext cx="29520" cy="810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3" name=""/>
            <p:cNvSpPr/>
            <p:nvPr/>
          </p:nvSpPr>
          <p:spPr>
            <a:xfrm flipH="1" flipV="1">
              <a:off x="3977640" y="3171240"/>
              <a:ext cx="86760" cy="19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4" name=""/>
            <p:cNvSpPr/>
            <p:nvPr/>
          </p:nvSpPr>
          <p:spPr>
            <a:xfrm flipH="1">
              <a:off x="4062600" y="3081600"/>
              <a:ext cx="788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5" name=""/>
            <p:cNvSpPr/>
            <p:nvPr/>
          </p:nvSpPr>
          <p:spPr>
            <a:xfrm flipH="1" flipV="1">
              <a:off x="4059000" y="2813760"/>
              <a:ext cx="82800" cy="37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6" name=""/>
            <p:cNvSpPr/>
            <p:nvPr/>
          </p:nvSpPr>
          <p:spPr>
            <a:xfrm flipH="1">
              <a:off x="3978000" y="2825640"/>
              <a:ext cx="56880" cy="432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7" name=""/>
            <p:cNvSpPr/>
            <p:nvPr/>
          </p:nvSpPr>
          <p:spPr>
            <a:xfrm flipH="1">
              <a:off x="3835440" y="2863080"/>
              <a:ext cx="5760" cy="120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8" name=""/>
            <p:cNvSpPr/>
            <p:nvPr/>
          </p:nvSpPr>
          <p:spPr>
            <a:xfrm flipV="1">
              <a:off x="3861720" y="2934360"/>
              <a:ext cx="126360" cy="72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3933360" y="2822760"/>
              <a:ext cx="23040" cy="46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0" name=""/>
            <p:cNvSpPr/>
            <p:nvPr/>
          </p:nvSpPr>
          <p:spPr>
            <a:xfrm flipH="1">
              <a:off x="3823560" y="3055320"/>
              <a:ext cx="83880" cy="252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3707280" y="2848680"/>
              <a:ext cx="1148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4002840" y="2941560"/>
              <a:ext cx="99360" cy="21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4012560" y="3025800"/>
              <a:ext cx="27720" cy="36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3978000" y="2895120"/>
              <a:ext cx="18000" cy="13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5" name=""/>
            <p:cNvSpPr/>
            <p:nvPr/>
          </p:nvSpPr>
          <p:spPr>
            <a:xfrm flipH="1" flipV="1">
              <a:off x="3863520" y="3013920"/>
              <a:ext cx="39600" cy="252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3764160" y="2944440"/>
              <a:ext cx="62640" cy="48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7" name=""/>
            <p:cNvSpPr/>
            <p:nvPr/>
          </p:nvSpPr>
          <p:spPr>
            <a:xfrm flipV="1">
              <a:off x="3742200" y="3006360"/>
              <a:ext cx="81720" cy="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8" name=""/>
            <p:cNvSpPr/>
            <p:nvPr/>
          </p:nvSpPr>
          <p:spPr>
            <a:xfrm flipV="1">
              <a:off x="3771720" y="2862360"/>
              <a:ext cx="59760" cy="43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9" name=""/>
            <p:cNvSpPr/>
            <p:nvPr/>
          </p:nvSpPr>
          <p:spPr>
            <a:xfrm flipH="1">
              <a:off x="4460760" y="3017880"/>
              <a:ext cx="42480" cy="14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4341240" y="2960640"/>
              <a:ext cx="1224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4451040" y="2901960"/>
              <a:ext cx="19080" cy="42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4458960" y="2893320"/>
              <a:ext cx="85680" cy="22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4460760" y="3045960"/>
              <a:ext cx="81000" cy="29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4176000" y="2863080"/>
              <a:ext cx="125280" cy="92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5" name=""/>
          <p:cNvGrpSpPr/>
          <p:nvPr/>
        </p:nvGrpSpPr>
        <p:grpSpPr>
          <a:xfrm>
            <a:off x="3505320" y="609480"/>
            <a:ext cx="1193760" cy="436320"/>
            <a:chOff x="3505320" y="609480"/>
            <a:chExt cx="1193760" cy="436320"/>
          </a:xfrm>
        </p:grpSpPr>
        <p:sp>
          <p:nvSpPr>
            <p:cNvPr id="1666" name=""/>
            <p:cNvSpPr/>
            <p:nvPr/>
          </p:nvSpPr>
          <p:spPr>
            <a:xfrm>
              <a:off x="3664440" y="648720"/>
              <a:ext cx="39600" cy="3960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3744000" y="728280"/>
              <a:ext cx="39600" cy="3924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3823560" y="807840"/>
              <a:ext cx="39600" cy="3960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3823560" y="648720"/>
              <a:ext cx="39600" cy="3960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3704400" y="807840"/>
              <a:ext cx="39600" cy="3960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3744000" y="609480"/>
              <a:ext cx="39600" cy="3924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3664440" y="728280"/>
              <a:ext cx="39600" cy="3924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3943080" y="688680"/>
              <a:ext cx="39600" cy="3960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3783960" y="887040"/>
              <a:ext cx="39600" cy="3960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3863160" y="728280"/>
              <a:ext cx="39600" cy="3924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3982680" y="728280"/>
              <a:ext cx="39600" cy="3924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3664440" y="887040"/>
              <a:ext cx="39600" cy="3960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4141800" y="887040"/>
              <a:ext cx="39600" cy="3960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4141800" y="648720"/>
              <a:ext cx="39600" cy="3960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4022640" y="887040"/>
              <a:ext cx="39600" cy="3960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4022640" y="609480"/>
              <a:ext cx="39600" cy="3924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3982680" y="807840"/>
              <a:ext cx="39600" cy="3960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3823560" y="1006200"/>
              <a:ext cx="39600" cy="3960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3943080" y="966600"/>
              <a:ext cx="39600" cy="3924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4102200" y="767880"/>
              <a:ext cx="39600" cy="3960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4539960" y="728280"/>
              <a:ext cx="39600" cy="3924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4460400" y="767880"/>
              <a:ext cx="39600" cy="3960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3544920" y="927000"/>
              <a:ext cx="39600" cy="3960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4062600" y="1006200"/>
              <a:ext cx="39600" cy="3960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3584880" y="767880"/>
              <a:ext cx="39600" cy="3960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4420440" y="688680"/>
              <a:ext cx="39600" cy="3960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4500000" y="807840"/>
              <a:ext cx="39600" cy="3960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3505320" y="648720"/>
              <a:ext cx="39600" cy="3960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3903120" y="847440"/>
              <a:ext cx="39600" cy="3924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4539960" y="648720"/>
              <a:ext cx="39600" cy="3960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4301280" y="767880"/>
              <a:ext cx="39600" cy="3960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4539960" y="887040"/>
              <a:ext cx="39600" cy="3960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4420440" y="847440"/>
              <a:ext cx="39600" cy="3924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4619520" y="927000"/>
              <a:ext cx="39600" cy="3960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4579560" y="807840"/>
              <a:ext cx="39600" cy="3960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4460400" y="927000"/>
              <a:ext cx="39600" cy="3960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4619520" y="728280"/>
              <a:ext cx="39600" cy="3924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4659480" y="648720"/>
              <a:ext cx="39600" cy="3960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3903120" y="609480"/>
              <a:ext cx="39600" cy="3924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4659480" y="847440"/>
              <a:ext cx="39600" cy="3924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3540240" y="685440"/>
              <a:ext cx="57600" cy="86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7" name=""/>
            <p:cNvSpPr/>
            <p:nvPr/>
          </p:nvSpPr>
          <p:spPr>
            <a:xfrm flipH="1">
              <a:off x="3566520" y="807840"/>
              <a:ext cx="34560" cy="118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8" name=""/>
            <p:cNvSpPr/>
            <p:nvPr/>
          </p:nvSpPr>
          <p:spPr>
            <a:xfrm flipH="1">
              <a:off x="3846240" y="766440"/>
              <a:ext cx="26280" cy="41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9" name=""/>
            <p:cNvSpPr/>
            <p:nvPr/>
          </p:nvSpPr>
          <p:spPr>
            <a:xfrm flipH="1" flipV="1">
              <a:off x="3781800" y="746280"/>
              <a:ext cx="8460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0" name=""/>
            <p:cNvSpPr/>
            <p:nvPr/>
          </p:nvSpPr>
          <p:spPr>
            <a:xfrm flipH="1" flipV="1">
              <a:off x="3848400" y="683640"/>
              <a:ext cx="28080" cy="44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3891600" y="766440"/>
              <a:ext cx="24840" cy="82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2" name=""/>
            <p:cNvSpPr/>
            <p:nvPr/>
          </p:nvSpPr>
          <p:spPr>
            <a:xfrm flipH="1">
              <a:off x="3743640" y="763200"/>
              <a:ext cx="124200" cy="57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3" name=""/>
            <p:cNvSpPr/>
            <p:nvPr/>
          </p:nvSpPr>
          <p:spPr>
            <a:xfrm flipV="1">
              <a:off x="3898440" y="720360"/>
              <a:ext cx="47880" cy="12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4" name=""/>
            <p:cNvSpPr/>
            <p:nvPr/>
          </p:nvSpPr>
          <p:spPr>
            <a:xfrm flipV="1">
              <a:off x="3896640" y="645840"/>
              <a:ext cx="23040" cy="84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5" name=""/>
            <p:cNvSpPr/>
            <p:nvPr/>
          </p:nvSpPr>
          <p:spPr>
            <a:xfrm flipH="1" flipV="1">
              <a:off x="3773880" y="647280"/>
              <a:ext cx="94320" cy="89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6" name=""/>
            <p:cNvSpPr/>
            <p:nvPr/>
          </p:nvSpPr>
          <p:spPr>
            <a:xfrm flipH="1">
              <a:off x="3698640" y="639000"/>
              <a:ext cx="46440" cy="14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7" name=""/>
            <p:cNvSpPr/>
            <p:nvPr/>
          </p:nvSpPr>
          <p:spPr>
            <a:xfrm flipH="1" flipV="1">
              <a:off x="3693960" y="682200"/>
              <a:ext cx="54360" cy="52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8" name=""/>
            <p:cNvSpPr/>
            <p:nvPr/>
          </p:nvSpPr>
          <p:spPr>
            <a:xfrm flipH="1">
              <a:off x="3700440" y="743400"/>
              <a:ext cx="428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9" name=""/>
            <p:cNvSpPr/>
            <p:nvPr/>
          </p:nvSpPr>
          <p:spPr>
            <a:xfrm flipV="1">
              <a:off x="3619800" y="759960"/>
              <a:ext cx="49320" cy="180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3621240" y="796320"/>
              <a:ext cx="82800" cy="24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1" name=""/>
            <p:cNvSpPr/>
            <p:nvPr/>
          </p:nvSpPr>
          <p:spPr>
            <a:xfrm flipH="1">
              <a:off x="3696120" y="842400"/>
              <a:ext cx="133920" cy="49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2" name=""/>
            <p:cNvSpPr/>
            <p:nvPr/>
          </p:nvSpPr>
          <p:spPr>
            <a:xfrm flipV="1">
              <a:off x="3681000" y="766080"/>
              <a:ext cx="6480" cy="120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3" name=""/>
            <p:cNvSpPr/>
            <p:nvPr/>
          </p:nvSpPr>
          <p:spPr>
            <a:xfrm flipV="1">
              <a:off x="3813840" y="847080"/>
              <a:ext cx="24480" cy="42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4" name=""/>
            <p:cNvSpPr/>
            <p:nvPr/>
          </p:nvSpPr>
          <p:spPr>
            <a:xfrm flipH="1" flipV="1">
              <a:off x="3938040" y="640800"/>
              <a:ext cx="8928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5" name=""/>
            <p:cNvSpPr/>
            <p:nvPr/>
          </p:nvSpPr>
          <p:spPr>
            <a:xfrm flipH="1">
              <a:off x="3901320" y="748440"/>
              <a:ext cx="82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6" name=""/>
            <p:cNvSpPr/>
            <p:nvPr/>
          </p:nvSpPr>
          <p:spPr>
            <a:xfrm flipH="1">
              <a:off x="3938040" y="824400"/>
              <a:ext cx="43200" cy="28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7" name=""/>
            <p:cNvSpPr/>
            <p:nvPr/>
          </p:nvSpPr>
          <p:spPr>
            <a:xfrm flipH="1" flipV="1">
              <a:off x="4048920" y="646920"/>
              <a:ext cx="66240" cy="120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8" name=""/>
            <p:cNvSpPr/>
            <p:nvPr/>
          </p:nvSpPr>
          <p:spPr>
            <a:xfrm flipH="1" flipV="1">
              <a:off x="3942720" y="870840"/>
              <a:ext cx="87480" cy="23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9" name=""/>
            <p:cNvSpPr/>
            <p:nvPr/>
          </p:nvSpPr>
          <p:spPr>
            <a:xfrm flipH="1" flipV="1">
              <a:off x="3898080" y="762840"/>
              <a:ext cx="92520" cy="49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0" name=""/>
            <p:cNvSpPr/>
            <p:nvPr/>
          </p:nvSpPr>
          <p:spPr>
            <a:xfrm flipH="1" flipV="1">
              <a:off x="3925800" y="885600"/>
              <a:ext cx="34920" cy="84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1" name=""/>
            <p:cNvSpPr/>
            <p:nvPr/>
          </p:nvSpPr>
          <p:spPr>
            <a:xfrm flipH="1" flipV="1">
              <a:off x="3809880" y="924840"/>
              <a:ext cx="29880" cy="810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"/>
            <p:cNvSpPr/>
            <p:nvPr/>
          </p:nvSpPr>
          <p:spPr>
            <a:xfrm flipH="1" flipV="1">
              <a:off x="3977640" y="995040"/>
              <a:ext cx="86040" cy="19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3" name=""/>
            <p:cNvSpPr/>
            <p:nvPr/>
          </p:nvSpPr>
          <p:spPr>
            <a:xfrm flipH="1">
              <a:off x="4062600" y="905400"/>
              <a:ext cx="792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4" name=""/>
            <p:cNvSpPr/>
            <p:nvPr/>
          </p:nvSpPr>
          <p:spPr>
            <a:xfrm flipH="1" flipV="1">
              <a:off x="4059000" y="637200"/>
              <a:ext cx="82800" cy="37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"/>
            <p:cNvSpPr/>
            <p:nvPr/>
          </p:nvSpPr>
          <p:spPr>
            <a:xfrm flipH="1">
              <a:off x="3978000" y="648720"/>
              <a:ext cx="56160" cy="42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6" name=""/>
            <p:cNvSpPr/>
            <p:nvPr/>
          </p:nvSpPr>
          <p:spPr>
            <a:xfrm flipH="1">
              <a:off x="3835080" y="686880"/>
              <a:ext cx="6480" cy="120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7" name=""/>
            <p:cNvSpPr/>
            <p:nvPr/>
          </p:nvSpPr>
          <p:spPr>
            <a:xfrm flipV="1">
              <a:off x="3861720" y="758160"/>
              <a:ext cx="125640" cy="72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3933000" y="645840"/>
              <a:ext cx="23040" cy="46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9" name=""/>
            <p:cNvSpPr/>
            <p:nvPr/>
          </p:nvSpPr>
          <p:spPr>
            <a:xfrm flipH="1">
              <a:off x="3823560" y="879120"/>
              <a:ext cx="84240" cy="24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3707280" y="672120"/>
              <a:ext cx="1144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4002480" y="765000"/>
              <a:ext cx="99360" cy="21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4012560" y="849240"/>
              <a:ext cx="28080" cy="36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3978000" y="718560"/>
              <a:ext cx="18000" cy="12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4" name=""/>
            <p:cNvSpPr/>
            <p:nvPr/>
          </p:nvSpPr>
          <p:spPr>
            <a:xfrm flipH="1" flipV="1">
              <a:off x="3863160" y="837720"/>
              <a:ext cx="39600" cy="24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3763800" y="767880"/>
              <a:ext cx="62640" cy="47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6" name=""/>
            <p:cNvSpPr/>
            <p:nvPr/>
          </p:nvSpPr>
          <p:spPr>
            <a:xfrm flipV="1">
              <a:off x="3742560" y="829440"/>
              <a:ext cx="810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7" name=""/>
            <p:cNvSpPr/>
            <p:nvPr/>
          </p:nvSpPr>
          <p:spPr>
            <a:xfrm flipV="1">
              <a:off x="3772080" y="685440"/>
              <a:ext cx="59760" cy="44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4558320" y="766440"/>
              <a:ext cx="31320" cy="46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9" name=""/>
            <p:cNvSpPr/>
            <p:nvPr/>
          </p:nvSpPr>
          <p:spPr>
            <a:xfrm flipH="1">
              <a:off x="4496760" y="761400"/>
              <a:ext cx="49680" cy="180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0" name=""/>
            <p:cNvSpPr/>
            <p:nvPr/>
          </p:nvSpPr>
          <p:spPr>
            <a:xfrm flipH="1">
              <a:off x="4528440" y="767880"/>
              <a:ext cx="24480" cy="36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1" name=""/>
            <p:cNvSpPr/>
            <p:nvPr/>
          </p:nvSpPr>
          <p:spPr>
            <a:xfrm flipH="1" flipV="1">
              <a:off x="4579560" y="748440"/>
              <a:ext cx="396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2" name=""/>
            <p:cNvSpPr/>
            <p:nvPr/>
          </p:nvSpPr>
          <p:spPr>
            <a:xfrm flipH="1">
              <a:off x="4612680" y="769680"/>
              <a:ext cx="21240" cy="39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3" name=""/>
            <p:cNvSpPr/>
            <p:nvPr/>
          </p:nvSpPr>
          <p:spPr>
            <a:xfrm flipV="1">
              <a:off x="4539960" y="759960"/>
              <a:ext cx="84240" cy="52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4561560" y="686880"/>
              <a:ext cx="5040" cy="42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"/>
            <p:cNvSpPr/>
            <p:nvPr/>
          </p:nvSpPr>
          <p:spPr>
            <a:xfrm flipH="1">
              <a:off x="4647600" y="683640"/>
              <a:ext cx="21600" cy="46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6" name=""/>
            <p:cNvSpPr/>
            <p:nvPr/>
          </p:nvSpPr>
          <p:spPr>
            <a:xfrm flipH="1">
              <a:off x="4501440" y="925200"/>
              <a:ext cx="46440" cy="180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7" name=""/>
            <p:cNvSpPr/>
            <p:nvPr/>
          </p:nvSpPr>
          <p:spPr>
            <a:xfrm flipH="1" flipV="1">
              <a:off x="4578120" y="913320"/>
              <a:ext cx="44640" cy="24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8" name=""/>
            <p:cNvSpPr/>
            <p:nvPr/>
          </p:nvSpPr>
          <p:spPr>
            <a:xfrm flipH="1" flipV="1">
              <a:off x="4617360" y="839160"/>
              <a:ext cx="42840" cy="26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9" name=""/>
            <p:cNvSpPr/>
            <p:nvPr/>
          </p:nvSpPr>
          <p:spPr>
            <a:xfrm flipH="1">
              <a:off x="4568040" y="842400"/>
              <a:ext cx="19440" cy="46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0" name=""/>
            <p:cNvSpPr/>
            <p:nvPr/>
          </p:nvSpPr>
          <p:spPr>
            <a:xfrm flipH="1">
              <a:off x="4539960" y="826200"/>
              <a:ext cx="396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1" name=""/>
            <p:cNvSpPr/>
            <p:nvPr/>
          </p:nvSpPr>
          <p:spPr>
            <a:xfrm flipH="1">
              <a:off x="4460400" y="840960"/>
              <a:ext cx="43200" cy="14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4340880" y="784800"/>
              <a:ext cx="12276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4450320" y="725040"/>
              <a:ext cx="19800" cy="42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4458960" y="716760"/>
              <a:ext cx="86040" cy="23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4490280" y="802800"/>
              <a:ext cx="13320" cy="11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4460400" y="869040"/>
              <a:ext cx="81000" cy="29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"/>
            <p:cNvSpPr/>
            <p:nvPr/>
          </p:nvSpPr>
          <p:spPr>
            <a:xfrm flipH="1" flipV="1">
              <a:off x="4533120" y="842400"/>
              <a:ext cx="18000" cy="44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8" name=""/>
            <p:cNvSpPr/>
            <p:nvPr/>
          </p:nvSpPr>
          <p:spPr>
            <a:xfrm flipV="1">
              <a:off x="4488480" y="685080"/>
              <a:ext cx="54360" cy="810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4174920" y="686880"/>
              <a:ext cx="126000" cy="92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PlaceHolder 1"/>
          <p:cNvSpPr>
            <a:spLocks noGrp="1"/>
          </p:cNvSpPr>
          <p:nvPr>
            <p:ph type="title"/>
          </p:nvPr>
        </p:nvSpPr>
        <p:spPr>
          <a:xfrm>
            <a:off x="466200" y="222120"/>
            <a:ext cx="4257720" cy="36360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23400" bIns="23400" anchor="t">
            <a:no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Verdana"/>
              </a:rPr>
              <a:t>Community Search</a:t>
            </a:r>
            <a:endParaRPr b="1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771" name=""/>
          <p:cNvGrpSpPr/>
          <p:nvPr/>
        </p:nvGrpSpPr>
        <p:grpSpPr>
          <a:xfrm>
            <a:off x="762120" y="1066680"/>
            <a:ext cx="3555720" cy="1335600"/>
            <a:chOff x="762120" y="1066680"/>
            <a:chExt cx="3555720" cy="1335600"/>
          </a:xfrm>
        </p:grpSpPr>
        <p:sp>
          <p:nvSpPr>
            <p:cNvPr id="1772" name=""/>
            <p:cNvSpPr/>
            <p:nvPr/>
          </p:nvSpPr>
          <p:spPr>
            <a:xfrm>
              <a:off x="1404000" y="1162440"/>
              <a:ext cx="95400" cy="964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1595160" y="1354680"/>
              <a:ext cx="96480" cy="954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1787400" y="1546560"/>
              <a:ext cx="96480" cy="9576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1787400" y="1162440"/>
              <a:ext cx="96480" cy="964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1499760" y="1546560"/>
              <a:ext cx="95400" cy="9576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1595160" y="1066680"/>
              <a:ext cx="96480" cy="9576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1404000" y="1354680"/>
              <a:ext cx="95400" cy="954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2075400" y="1258920"/>
              <a:ext cx="96480" cy="9576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1692000" y="1739160"/>
              <a:ext cx="95400" cy="9576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1883880" y="1354680"/>
              <a:ext cx="95400" cy="954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2172240" y="1354680"/>
              <a:ext cx="95400" cy="954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1404000" y="1739160"/>
              <a:ext cx="95400" cy="9576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2555280" y="1739160"/>
              <a:ext cx="96480" cy="9576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2555280" y="1162440"/>
              <a:ext cx="96480" cy="964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2267640" y="1739160"/>
              <a:ext cx="96480" cy="9576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2267640" y="1066680"/>
              <a:ext cx="96480" cy="9576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2172240" y="1546560"/>
              <a:ext cx="95400" cy="9576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1787400" y="2026800"/>
              <a:ext cx="96480" cy="9576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2075400" y="1930320"/>
              <a:ext cx="96480" cy="964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2459880" y="1450080"/>
              <a:ext cx="95400" cy="964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3515400" y="1354680"/>
              <a:ext cx="96480" cy="954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3324240" y="1450080"/>
              <a:ext cx="95400" cy="9648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1115280" y="1834920"/>
              <a:ext cx="96480" cy="954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2364120" y="2026800"/>
              <a:ext cx="95400" cy="9576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1212120" y="1450080"/>
              <a:ext cx="95400" cy="964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3227760" y="1258920"/>
              <a:ext cx="96480" cy="9576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3420000" y="1546560"/>
              <a:ext cx="95400" cy="9576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1019880" y="1162440"/>
              <a:ext cx="95400" cy="964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1979640" y="1642320"/>
              <a:ext cx="95400" cy="964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3515400" y="1162440"/>
              <a:ext cx="96480" cy="9648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2939760" y="1450080"/>
              <a:ext cx="95400" cy="964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3515400" y="1739160"/>
              <a:ext cx="96480" cy="9576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3227760" y="1642320"/>
              <a:ext cx="96480" cy="9648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3707640" y="1834920"/>
              <a:ext cx="96480" cy="954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3612240" y="1546560"/>
              <a:ext cx="95400" cy="9576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3324240" y="1834920"/>
              <a:ext cx="95400" cy="954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3707640" y="1354680"/>
              <a:ext cx="96480" cy="954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3804120" y="1162440"/>
              <a:ext cx="95400" cy="9648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1979640" y="1066680"/>
              <a:ext cx="95400" cy="9576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3804120" y="1642320"/>
              <a:ext cx="95400" cy="9648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1104120" y="1251360"/>
              <a:ext cx="139680" cy="20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3" name=""/>
            <p:cNvSpPr/>
            <p:nvPr/>
          </p:nvSpPr>
          <p:spPr>
            <a:xfrm flipH="1">
              <a:off x="1167480" y="1546560"/>
              <a:ext cx="84240" cy="28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4" name=""/>
            <p:cNvSpPr/>
            <p:nvPr/>
          </p:nvSpPr>
          <p:spPr>
            <a:xfrm flipH="1">
              <a:off x="1843920" y="1446840"/>
              <a:ext cx="63000" cy="9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5" name=""/>
            <p:cNvSpPr/>
            <p:nvPr/>
          </p:nvSpPr>
          <p:spPr>
            <a:xfrm flipH="1" flipV="1">
              <a:off x="1686960" y="1398600"/>
              <a:ext cx="204120" cy="2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6" name=""/>
            <p:cNvSpPr/>
            <p:nvPr/>
          </p:nvSpPr>
          <p:spPr>
            <a:xfrm flipH="1" flipV="1">
              <a:off x="1847520" y="1246320"/>
              <a:ext cx="67680" cy="10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1951920" y="1446840"/>
              <a:ext cx="60120" cy="19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8" name=""/>
            <p:cNvSpPr/>
            <p:nvPr/>
          </p:nvSpPr>
          <p:spPr>
            <a:xfrm flipH="1">
              <a:off x="1594800" y="1438920"/>
              <a:ext cx="299880" cy="13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9" name=""/>
            <p:cNvSpPr/>
            <p:nvPr/>
          </p:nvSpPr>
          <p:spPr>
            <a:xfrm flipV="1">
              <a:off x="1967400" y="1334160"/>
              <a:ext cx="116640" cy="3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0" name=""/>
            <p:cNvSpPr/>
            <p:nvPr/>
          </p:nvSpPr>
          <p:spPr>
            <a:xfrm flipV="1">
              <a:off x="1964160" y="1154160"/>
              <a:ext cx="55080" cy="20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1" name=""/>
            <p:cNvSpPr/>
            <p:nvPr/>
          </p:nvSpPr>
          <p:spPr>
            <a:xfrm flipH="1" flipV="1">
              <a:off x="1667520" y="1158840"/>
              <a:ext cx="227520" cy="21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2" name=""/>
            <p:cNvSpPr/>
            <p:nvPr/>
          </p:nvSpPr>
          <p:spPr>
            <a:xfrm flipH="1">
              <a:off x="1487520" y="1138680"/>
              <a:ext cx="112320" cy="3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3" name=""/>
            <p:cNvSpPr/>
            <p:nvPr/>
          </p:nvSpPr>
          <p:spPr>
            <a:xfrm flipH="1" flipV="1">
              <a:off x="1475280" y="1242360"/>
              <a:ext cx="131760" cy="12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4" name=""/>
            <p:cNvSpPr/>
            <p:nvPr/>
          </p:nvSpPr>
          <p:spPr>
            <a:xfrm flipH="1">
              <a:off x="1491840" y="1390320"/>
              <a:ext cx="102960" cy="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5" name=""/>
            <p:cNvSpPr/>
            <p:nvPr/>
          </p:nvSpPr>
          <p:spPr>
            <a:xfrm flipV="1">
              <a:off x="1295280" y="1429560"/>
              <a:ext cx="119880" cy="4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1299600" y="1518840"/>
              <a:ext cx="199800" cy="5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7" name=""/>
            <p:cNvSpPr/>
            <p:nvPr/>
          </p:nvSpPr>
          <p:spPr>
            <a:xfrm flipH="1">
              <a:off x="1479240" y="1630080"/>
              <a:ext cx="324360" cy="11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8" name=""/>
            <p:cNvSpPr/>
            <p:nvPr/>
          </p:nvSpPr>
          <p:spPr>
            <a:xfrm flipV="1">
              <a:off x="1443960" y="1446480"/>
              <a:ext cx="15480" cy="29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9" name=""/>
            <p:cNvSpPr/>
            <p:nvPr/>
          </p:nvSpPr>
          <p:spPr>
            <a:xfrm flipV="1">
              <a:off x="1764000" y="1641960"/>
              <a:ext cx="59760" cy="10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0" name=""/>
            <p:cNvSpPr/>
            <p:nvPr/>
          </p:nvSpPr>
          <p:spPr>
            <a:xfrm flipH="1" flipV="1">
              <a:off x="2064240" y="1142280"/>
              <a:ext cx="215280" cy="1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1" name=""/>
            <p:cNvSpPr/>
            <p:nvPr/>
          </p:nvSpPr>
          <p:spPr>
            <a:xfrm flipH="1">
              <a:off x="1974960" y="1402200"/>
              <a:ext cx="199800" cy="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2" name=""/>
            <p:cNvSpPr/>
            <p:nvPr/>
          </p:nvSpPr>
          <p:spPr>
            <a:xfrm flipH="1">
              <a:off x="2064240" y="1586880"/>
              <a:ext cx="102960" cy="6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3" name=""/>
            <p:cNvSpPr/>
            <p:nvPr/>
          </p:nvSpPr>
          <p:spPr>
            <a:xfrm flipH="1" flipV="1">
              <a:off x="2332080" y="1158840"/>
              <a:ext cx="159840" cy="29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4" name=""/>
            <p:cNvSpPr/>
            <p:nvPr/>
          </p:nvSpPr>
          <p:spPr>
            <a:xfrm flipH="1" flipV="1">
              <a:off x="2075040" y="1699200"/>
              <a:ext cx="212040" cy="5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5" name=""/>
            <p:cNvSpPr/>
            <p:nvPr/>
          </p:nvSpPr>
          <p:spPr>
            <a:xfrm flipH="1" flipV="1">
              <a:off x="1967040" y="1438560"/>
              <a:ext cx="224280" cy="11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6" name=""/>
            <p:cNvSpPr/>
            <p:nvPr/>
          </p:nvSpPr>
          <p:spPr>
            <a:xfrm flipH="1" flipV="1">
              <a:off x="2035080" y="1734480"/>
              <a:ext cx="8424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"/>
            <p:cNvSpPr/>
            <p:nvPr/>
          </p:nvSpPr>
          <p:spPr>
            <a:xfrm flipH="1" flipV="1">
              <a:off x="1755360" y="1830240"/>
              <a:ext cx="72000" cy="19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8" name=""/>
            <p:cNvSpPr/>
            <p:nvPr/>
          </p:nvSpPr>
          <p:spPr>
            <a:xfrm flipH="1" flipV="1">
              <a:off x="2159280" y="1997640"/>
              <a:ext cx="207720" cy="4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9" name=""/>
            <p:cNvSpPr/>
            <p:nvPr/>
          </p:nvSpPr>
          <p:spPr>
            <a:xfrm flipH="1">
              <a:off x="2363760" y="1782360"/>
              <a:ext cx="191160" cy="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"/>
            <p:cNvSpPr/>
            <p:nvPr/>
          </p:nvSpPr>
          <p:spPr>
            <a:xfrm flipH="1" flipV="1">
              <a:off x="2354760" y="1134360"/>
              <a:ext cx="199800" cy="9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1" name=""/>
            <p:cNvSpPr/>
            <p:nvPr/>
          </p:nvSpPr>
          <p:spPr>
            <a:xfrm flipH="1">
              <a:off x="2159640" y="1162440"/>
              <a:ext cx="135360" cy="10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2" name=""/>
            <p:cNvSpPr/>
            <p:nvPr/>
          </p:nvSpPr>
          <p:spPr>
            <a:xfrm flipH="1">
              <a:off x="1815120" y="1254600"/>
              <a:ext cx="16560" cy="29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3" name=""/>
            <p:cNvSpPr/>
            <p:nvPr/>
          </p:nvSpPr>
          <p:spPr>
            <a:xfrm flipV="1">
              <a:off x="1879920" y="1426680"/>
              <a:ext cx="304200" cy="17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2052000" y="1154520"/>
              <a:ext cx="55440" cy="11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5" name=""/>
            <p:cNvSpPr/>
            <p:nvPr/>
          </p:nvSpPr>
          <p:spPr>
            <a:xfrm flipH="1">
              <a:off x="1787040" y="1719000"/>
              <a:ext cx="204120" cy="5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1507680" y="1218960"/>
              <a:ext cx="276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2219760" y="1442160"/>
              <a:ext cx="240120" cy="51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2244240" y="1646640"/>
              <a:ext cx="67680" cy="8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2159640" y="1331280"/>
              <a:ext cx="44280" cy="3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0" name=""/>
            <p:cNvSpPr/>
            <p:nvPr/>
          </p:nvSpPr>
          <p:spPr>
            <a:xfrm flipH="1" flipV="1">
              <a:off x="1883520" y="1618920"/>
              <a:ext cx="95400" cy="5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1644120" y="1450080"/>
              <a:ext cx="150840" cy="11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2" name=""/>
            <p:cNvSpPr/>
            <p:nvPr/>
          </p:nvSpPr>
          <p:spPr>
            <a:xfrm flipV="1">
              <a:off x="1591920" y="1598760"/>
              <a:ext cx="19548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3" name=""/>
            <p:cNvSpPr/>
            <p:nvPr/>
          </p:nvSpPr>
          <p:spPr>
            <a:xfrm flipV="1">
              <a:off x="1663920" y="1251360"/>
              <a:ext cx="143280" cy="10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3559680" y="1446840"/>
              <a:ext cx="75240" cy="11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5" name=""/>
            <p:cNvSpPr/>
            <p:nvPr/>
          </p:nvSpPr>
          <p:spPr>
            <a:xfrm flipH="1">
              <a:off x="3411720" y="1434600"/>
              <a:ext cx="119880" cy="4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6" name=""/>
            <p:cNvSpPr/>
            <p:nvPr/>
          </p:nvSpPr>
          <p:spPr>
            <a:xfrm flipH="1">
              <a:off x="3487680" y="1450080"/>
              <a:ext cx="59760" cy="8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7" name=""/>
            <p:cNvSpPr/>
            <p:nvPr/>
          </p:nvSpPr>
          <p:spPr>
            <a:xfrm flipH="1" flipV="1">
              <a:off x="3611880" y="1402200"/>
              <a:ext cx="95400" cy="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8" name=""/>
            <p:cNvSpPr/>
            <p:nvPr/>
          </p:nvSpPr>
          <p:spPr>
            <a:xfrm flipH="1">
              <a:off x="3692160" y="1454400"/>
              <a:ext cx="5184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9" name=""/>
            <p:cNvSpPr/>
            <p:nvPr/>
          </p:nvSpPr>
          <p:spPr>
            <a:xfrm flipV="1">
              <a:off x="3515400" y="1429920"/>
              <a:ext cx="204120" cy="128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3567600" y="1254600"/>
              <a:ext cx="12240" cy="10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1" name=""/>
            <p:cNvSpPr/>
            <p:nvPr/>
          </p:nvSpPr>
          <p:spPr>
            <a:xfrm flipH="1">
              <a:off x="3775320" y="1246680"/>
              <a:ext cx="51840" cy="11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2" name=""/>
            <p:cNvSpPr/>
            <p:nvPr/>
          </p:nvSpPr>
          <p:spPr>
            <a:xfrm flipH="1">
              <a:off x="3424320" y="1830240"/>
              <a:ext cx="110880" cy="4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3" name=""/>
            <p:cNvSpPr/>
            <p:nvPr/>
          </p:nvSpPr>
          <p:spPr>
            <a:xfrm flipH="1" flipV="1">
              <a:off x="3607200" y="1802520"/>
              <a:ext cx="107640" cy="5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4" name=""/>
            <p:cNvSpPr/>
            <p:nvPr/>
          </p:nvSpPr>
          <p:spPr>
            <a:xfrm flipH="1" flipV="1">
              <a:off x="3704400" y="1621800"/>
              <a:ext cx="102960" cy="6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5" name=""/>
            <p:cNvSpPr/>
            <p:nvPr/>
          </p:nvSpPr>
          <p:spPr>
            <a:xfrm flipH="1">
              <a:off x="3584160" y="1630080"/>
              <a:ext cx="47520" cy="11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6" name=""/>
            <p:cNvSpPr/>
            <p:nvPr/>
          </p:nvSpPr>
          <p:spPr>
            <a:xfrm flipH="1">
              <a:off x="3515400" y="1590120"/>
              <a:ext cx="96480" cy="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7" name=""/>
            <p:cNvSpPr/>
            <p:nvPr/>
          </p:nvSpPr>
          <p:spPr>
            <a:xfrm flipH="1">
              <a:off x="3323880" y="1626840"/>
              <a:ext cx="103320" cy="3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3035520" y="1490040"/>
              <a:ext cx="296280" cy="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3299760" y="1346760"/>
              <a:ext cx="47520" cy="1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3319920" y="1326600"/>
              <a:ext cx="207360" cy="5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3395520" y="1534680"/>
              <a:ext cx="32040" cy="2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3324240" y="1694520"/>
              <a:ext cx="195480" cy="7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3" name=""/>
            <p:cNvSpPr/>
            <p:nvPr/>
          </p:nvSpPr>
          <p:spPr>
            <a:xfrm flipH="1" flipV="1">
              <a:off x="3499560" y="1630080"/>
              <a:ext cx="44280" cy="10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4" name=""/>
            <p:cNvSpPr/>
            <p:nvPr/>
          </p:nvSpPr>
          <p:spPr>
            <a:xfrm flipV="1">
              <a:off x="3391920" y="1251000"/>
              <a:ext cx="132120" cy="19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2635200" y="1254600"/>
              <a:ext cx="304560" cy="22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2938680" y="1450080"/>
              <a:ext cx="95400" cy="96480"/>
            </a:xfrm>
            <a:prstGeom prst="ellipse">
              <a:avLst/>
            </a:prstGeom>
            <a:solidFill>
              <a:srgbClr val="0099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762120" y="2156040"/>
              <a:ext cx="2017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Computer Science Peer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3011040" y="2136960"/>
              <a:ext cx="1306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Medical Peer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9" name="PlaceHolder 1"/>
          <p:cNvSpPr>
            <a:spLocks noGrp="1"/>
          </p:cNvSpPr>
          <p:nvPr>
            <p:ph type="title"/>
          </p:nvPr>
        </p:nvSpPr>
        <p:spPr>
          <a:xfrm>
            <a:off x="466200" y="222120"/>
            <a:ext cx="4257720" cy="36360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23400" bIns="23400" anchor="t">
            <a:no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Verdana"/>
              </a:rPr>
              <a:t>Some Applications</a:t>
            </a:r>
            <a:endParaRPr b="1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880" name=""/>
          <p:cNvGraphicFramePr/>
          <p:nvPr/>
        </p:nvGraphicFramePr>
        <p:xfrm>
          <a:off x="914400" y="838080"/>
          <a:ext cx="2514240" cy="1536840"/>
        </p:xfrm>
        <a:graphic>
          <a:graphicData uri="http://schemas.openxmlformats.org/drawingml/2006/table">
            <a:tbl>
              <a:tblPr/>
              <a:tblGrid>
                <a:gridCol w="2514240"/>
              </a:tblGrid>
              <a:tr h="153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 De-centralized Marketplac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312840">
                        <a:lnSpc>
                          <a:spcPct val="90000"/>
                        </a:lnSpc>
                        <a:spcBef>
                          <a:spcPts val="26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99ff"/>
                          </a:solidFill>
                          <a:latin typeface="Verdana"/>
                        </a:rPr>
                        <a:t>Many peers buying / selling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312840">
                        <a:lnSpc>
                          <a:spcPct val="90000"/>
                        </a:lnSpc>
                        <a:spcBef>
                          <a:spcPts val="26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99ff"/>
                          </a:solidFill>
                          <a:latin typeface="Verdana"/>
                        </a:rPr>
                        <a:t>Peers are grouped based on product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81" name=""/>
          <p:cNvGraphicFramePr/>
          <p:nvPr/>
        </p:nvGraphicFramePr>
        <p:xfrm>
          <a:off x="1752480" y="2438280"/>
          <a:ext cx="2514600" cy="701640"/>
        </p:xfrm>
        <a:graphic>
          <a:graphicData uri="http://schemas.openxmlformats.org/drawingml/2006/table">
            <a:tbl>
              <a:tblPr/>
              <a:tblGrid>
                <a:gridCol w="2514600"/>
              </a:tblGrid>
              <a:tr h="70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 Digital Librar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312840">
                        <a:lnSpc>
                          <a:spcPct val="90000"/>
                        </a:lnSpc>
                        <a:spcBef>
                          <a:spcPts val="26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99ff"/>
                          </a:solidFill>
                          <a:latin typeface="Verdana"/>
                        </a:rPr>
                        <a:t>Many peers with files / book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312840">
                        <a:lnSpc>
                          <a:spcPct val="90000"/>
                        </a:lnSpc>
                        <a:spcBef>
                          <a:spcPts val="26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99ff"/>
                          </a:solidFill>
                          <a:latin typeface="Verdana"/>
                        </a:rPr>
                        <a:t>Peers are grouped based on the subject matter of their files or book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882" name=""/>
          <p:cNvGrpSpPr/>
          <p:nvPr/>
        </p:nvGrpSpPr>
        <p:grpSpPr>
          <a:xfrm>
            <a:off x="1219320" y="1371600"/>
            <a:ext cx="2089080" cy="920880"/>
            <a:chOff x="1219320" y="1371600"/>
            <a:chExt cx="2089080" cy="920880"/>
          </a:xfrm>
        </p:grpSpPr>
        <p:grpSp>
          <p:nvGrpSpPr>
            <p:cNvPr id="1883" name=""/>
            <p:cNvGrpSpPr/>
            <p:nvPr/>
          </p:nvGrpSpPr>
          <p:grpSpPr>
            <a:xfrm>
              <a:off x="2378880" y="1400400"/>
              <a:ext cx="289440" cy="230760"/>
              <a:chOff x="2378880" y="1400400"/>
              <a:chExt cx="289440" cy="230760"/>
            </a:xfrm>
          </p:grpSpPr>
          <p:sp>
            <p:nvSpPr>
              <p:cNvPr id="1884" name=""/>
              <p:cNvSpPr/>
              <p:nvPr/>
            </p:nvSpPr>
            <p:spPr>
              <a:xfrm>
                <a:off x="2552400" y="1458000"/>
                <a:ext cx="28800" cy="28800"/>
              </a:xfrm>
              <a:prstGeom prst="ellipse">
                <a:avLst/>
              </a:prstGeom>
              <a:solidFill>
                <a:srgbClr val="ffcc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>
                <a:off x="2494800" y="1486800"/>
                <a:ext cx="28800" cy="28800"/>
              </a:xfrm>
              <a:prstGeom prst="ellipse">
                <a:avLst/>
              </a:prstGeom>
              <a:solidFill>
                <a:srgbClr val="ffcc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>
                <a:off x="2465640" y="1429200"/>
                <a:ext cx="29160" cy="28440"/>
              </a:xfrm>
              <a:prstGeom prst="ellipse">
                <a:avLst/>
              </a:prstGeom>
              <a:solidFill>
                <a:srgbClr val="ffcc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7" name=""/>
              <p:cNvSpPr/>
              <p:nvPr/>
            </p:nvSpPr>
            <p:spPr>
              <a:xfrm>
                <a:off x="2523600" y="1515960"/>
                <a:ext cx="28800" cy="28800"/>
              </a:xfrm>
              <a:prstGeom prst="ellipse">
                <a:avLst/>
              </a:prstGeom>
              <a:solidFill>
                <a:srgbClr val="ffcc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8" name=""/>
              <p:cNvSpPr/>
              <p:nvPr/>
            </p:nvSpPr>
            <p:spPr>
              <a:xfrm>
                <a:off x="2552400" y="1400400"/>
                <a:ext cx="28800" cy="28800"/>
              </a:xfrm>
              <a:prstGeom prst="ellipse">
                <a:avLst/>
              </a:prstGeom>
              <a:solidFill>
                <a:srgbClr val="ffcc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9" name=""/>
              <p:cNvSpPr/>
              <p:nvPr/>
            </p:nvSpPr>
            <p:spPr>
              <a:xfrm>
                <a:off x="2378880" y="1486800"/>
                <a:ext cx="28800" cy="28800"/>
              </a:xfrm>
              <a:prstGeom prst="ellipse">
                <a:avLst/>
              </a:prstGeom>
              <a:solidFill>
                <a:srgbClr val="ffcc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0" name=""/>
              <p:cNvSpPr/>
              <p:nvPr/>
            </p:nvSpPr>
            <p:spPr>
              <a:xfrm>
                <a:off x="2552400" y="1573560"/>
                <a:ext cx="28800" cy="28440"/>
              </a:xfrm>
              <a:prstGeom prst="ellipse">
                <a:avLst/>
              </a:prstGeom>
              <a:solidFill>
                <a:srgbClr val="ffcc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1" name=""/>
              <p:cNvSpPr/>
              <p:nvPr/>
            </p:nvSpPr>
            <p:spPr>
              <a:xfrm>
                <a:off x="2465640" y="1544760"/>
                <a:ext cx="29160" cy="28800"/>
              </a:xfrm>
              <a:prstGeom prst="ellipse">
                <a:avLst/>
              </a:prstGeom>
              <a:solidFill>
                <a:srgbClr val="ffcc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2" name=""/>
              <p:cNvSpPr/>
              <p:nvPr/>
            </p:nvSpPr>
            <p:spPr>
              <a:xfrm>
                <a:off x="2610360" y="1602360"/>
                <a:ext cx="29160" cy="28800"/>
              </a:xfrm>
              <a:prstGeom prst="ellipse">
                <a:avLst/>
              </a:prstGeom>
              <a:solidFill>
                <a:srgbClr val="ffcc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3" name=""/>
              <p:cNvSpPr/>
              <p:nvPr/>
            </p:nvSpPr>
            <p:spPr>
              <a:xfrm>
                <a:off x="2581560" y="1515960"/>
                <a:ext cx="28800" cy="28800"/>
              </a:xfrm>
              <a:prstGeom prst="ellipse">
                <a:avLst/>
              </a:prstGeom>
              <a:solidFill>
                <a:srgbClr val="ffcc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4" name=""/>
              <p:cNvSpPr/>
              <p:nvPr/>
            </p:nvSpPr>
            <p:spPr>
              <a:xfrm>
                <a:off x="2494800" y="1602360"/>
                <a:ext cx="28800" cy="28800"/>
              </a:xfrm>
              <a:prstGeom prst="ellipse">
                <a:avLst/>
              </a:prstGeom>
              <a:solidFill>
                <a:srgbClr val="ffcc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5" name=""/>
              <p:cNvSpPr/>
              <p:nvPr/>
            </p:nvSpPr>
            <p:spPr>
              <a:xfrm>
                <a:off x="2610360" y="1458000"/>
                <a:ext cx="29160" cy="28800"/>
              </a:xfrm>
              <a:prstGeom prst="ellipse">
                <a:avLst/>
              </a:prstGeom>
              <a:solidFill>
                <a:srgbClr val="ffcc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>
                <a:off x="2639520" y="1400400"/>
                <a:ext cx="28800" cy="28800"/>
              </a:xfrm>
              <a:prstGeom prst="ellipse">
                <a:avLst/>
              </a:prstGeom>
              <a:solidFill>
                <a:srgbClr val="ffcc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7" name=""/>
              <p:cNvSpPr/>
              <p:nvPr/>
            </p:nvSpPr>
            <p:spPr>
              <a:xfrm>
                <a:off x="2639520" y="1544760"/>
                <a:ext cx="28800" cy="28800"/>
              </a:xfrm>
              <a:prstGeom prst="ellipse">
                <a:avLst/>
              </a:prstGeom>
              <a:solidFill>
                <a:srgbClr val="ffcc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8" name=""/>
              <p:cNvSpPr/>
              <p:nvPr/>
            </p:nvSpPr>
            <p:spPr>
              <a:xfrm>
                <a:off x="2565720" y="1485720"/>
                <a:ext cx="22680" cy="33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9" name=""/>
              <p:cNvSpPr/>
              <p:nvPr/>
            </p:nvSpPr>
            <p:spPr>
              <a:xfrm flipH="1">
                <a:off x="2521080" y="1482120"/>
                <a:ext cx="36000" cy="133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0" name=""/>
              <p:cNvSpPr/>
              <p:nvPr/>
            </p:nvSpPr>
            <p:spPr>
              <a:xfrm flipH="1">
                <a:off x="2544120" y="1486800"/>
                <a:ext cx="18000" cy="26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1" name=""/>
              <p:cNvSpPr/>
              <p:nvPr/>
            </p:nvSpPr>
            <p:spPr>
              <a:xfrm flipH="1" flipV="1">
                <a:off x="2581560" y="1472040"/>
                <a:ext cx="2880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2" name=""/>
              <p:cNvSpPr/>
              <p:nvPr/>
            </p:nvSpPr>
            <p:spPr>
              <a:xfrm flipH="1">
                <a:off x="2605320" y="1488240"/>
                <a:ext cx="15480" cy="28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3" name=""/>
              <p:cNvSpPr/>
              <p:nvPr/>
            </p:nvSpPr>
            <p:spPr>
              <a:xfrm flipV="1">
                <a:off x="2552400" y="1480320"/>
                <a:ext cx="61560" cy="38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4" name=""/>
              <p:cNvSpPr/>
              <p:nvPr/>
            </p:nvSpPr>
            <p:spPr>
              <a:xfrm>
                <a:off x="2568240" y="1428120"/>
                <a:ext cx="3600" cy="313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5" name=""/>
              <p:cNvSpPr/>
              <p:nvPr/>
            </p:nvSpPr>
            <p:spPr>
              <a:xfrm flipH="1">
                <a:off x="2630520" y="1425600"/>
                <a:ext cx="15480" cy="33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6" name=""/>
              <p:cNvSpPr/>
              <p:nvPr/>
            </p:nvSpPr>
            <p:spPr>
              <a:xfrm flipH="1">
                <a:off x="2524680" y="1601280"/>
                <a:ext cx="33480" cy="133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7" name=""/>
              <p:cNvSpPr/>
              <p:nvPr/>
            </p:nvSpPr>
            <p:spPr>
              <a:xfrm flipH="1" flipV="1">
                <a:off x="2580120" y="1593000"/>
                <a:ext cx="32400" cy="180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8" name=""/>
              <p:cNvSpPr/>
              <p:nvPr/>
            </p:nvSpPr>
            <p:spPr>
              <a:xfrm flipH="1" flipV="1">
                <a:off x="2609280" y="1538280"/>
                <a:ext cx="30960" cy="19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9" name=""/>
              <p:cNvSpPr/>
              <p:nvPr/>
            </p:nvSpPr>
            <p:spPr>
              <a:xfrm flipH="1">
                <a:off x="2573280" y="1540800"/>
                <a:ext cx="14400" cy="33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0" name=""/>
              <p:cNvSpPr/>
              <p:nvPr/>
            </p:nvSpPr>
            <p:spPr>
              <a:xfrm flipH="1">
                <a:off x="2552400" y="1528920"/>
                <a:ext cx="2880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1" name=""/>
              <p:cNvSpPr/>
              <p:nvPr/>
            </p:nvSpPr>
            <p:spPr>
              <a:xfrm flipH="1">
                <a:off x="2494800" y="1540080"/>
                <a:ext cx="30960" cy="10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2" name=""/>
              <p:cNvSpPr/>
              <p:nvPr/>
            </p:nvSpPr>
            <p:spPr>
              <a:xfrm>
                <a:off x="2407680" y="1498680"/>
                <a:ext cx="8928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3" name=""/>
              <p:cNvSpPr/>
              <p:nvPr/>
            </p:nvSpPr>
            <p:spPr>
              <a:xfrm>
                <a:off x="2487240" y="1455840"/>
                <a:ext cx="14400" cy="30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4" name=""/>
              <p:cNvSpPr/>
              <p:nvPr/>
            </p:nvSpPr>
            <p:spPr>
              <a:xfrm>
                <a:off x="2493360" y="1449720"/>
                <a:ext cx="62640" cy="165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5" name=""/>
              <p:cNvSpPr/>
              <p:nvPr/>
            </p:nvSpPr>
            <p:spPr>
              <a:xfrm>
                <a:off x="2516040" y="1512360"/>
                <a:ext cx="9720" cy="8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6" name=""/>
              <p:cNvSpPr/>
              <p:nvPr/>
            </p:nvSpPr>
            <p:spPr>
              <a:xfrm>
                <a:off x="2494800" y="1560240"/>
                <a:ext cx="58680" cy="21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7" name=""/>
              <p:cNvSpPr/>
              <p:nvPr/>
            </p:nvSpPr>
            <p:spPr>
              <a:xfrm flipH="1" flipV="1">
                <a:off x="2547360" y="1540800"/>
                <a:ext cx="13320" cy="324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8" name=""/>
              <p:cNvSpPr/>
              <p:nvPr/>
            </p:nvSpPr>
            <p:spPr>
              <a:xfrm flipV="1">
                <a:off x="2515320" y="1426680"/>
                <a:ext cx="39600" cy="58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19" name=""/>
            <p:cNvSpPr/>
            <p:nvPr/>
          </p:nvSpPr>
          <p:spPr>
            <a:xfrm>
              <a:off x="2287080" y="1428120"/>
              <a:ext cx="91440" cy="67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20" name=""/>
            <p:cNvGrpSpPr/>
            <p:nvPr/>
          </p:nvGrpSpPr>
          <p:grpSpPr>
            <a:xfrm>
              <a:off x="1822680" y="1667520"/>
              <a:ext cx="288720" cy="295560"/>
              <a:chOff x="1822680" y="1667520"/>
              <a:chExt cx="288720" cy="295560"/>
            </a:xfrm>
          </p:grpSpPr>
          <p:sp>
            <p:nvSpPr>
              <p:cNvPr id="1921" name=""/>
              <p:cNvSpPr/>
              <p:nvPr/>
            </p:nvSpPr>
            <p:spPr>
              <a:xfrm rot="3289200">
                <a:off x="1979640" y="1798200"/>
                <a:ext cx="29160" cy="2844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2" name=""/>
              <p:cNvSpPr/>
              <p:nvPr/>
            </p:nvSpPr>
            <p:spPr>
              <a:xfrm rot="3289200">
                <a:off x="1922760" y="1767240"/>
                <a:ext cx="28800" cy="2880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3" name=""/>
              <p:cNvSpPr/>
              <p:nvPr/>
            </p:nvSpPr>
            <p:spPr>
              <a:xfrm rot="3289200">
                <a:off x="1953000" y="1710360"/>
                <a:ext cx="28800" cy="2880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4" name=""/>
              <p:cNvSpPr/>
              <p:nvPr/>
            </p:nvSpPr>
            <p:spPr>
              <a:xfrm rot="3289200">
                <a:off x="1915560" y="1807560"/>
                <a:ext cx="28440" cy="2880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5" name=""/>
              <p:cNvSpPr/>
              <p:nvPr/>
            </p:nvSpPr>
            <p:spPr>
              <a:xfrm rot="3289200">
                <a:off x="2026440" y="1764720"/>
                <a:ext cx="29160" cy="2880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6" name=""/>
              <p:cNvSpPr/>
              <p:nvPr/>
            </p:nvSpPr>
            <p:spPr>
              <a:xfrm rot="3289200">
                <a:off x="1856160" y="1672920"/>
                <a:ext cx="28440" cy="2880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7" name=""/>
              <p:cNvSpPr/>
              <p:nvPr/>
            </p:nvSpPr>
            <p:spPr>
              <a:xfrm rot="3289200">
                <a:off x="1884600" y="1864800"/>
                <a:ext cx="29160" cy="2880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8" name=""/>
              <p:cNvSpPr/>
              <p:nvPr/>
            </p:nvSpPr>
            <p:spPr>
              <a:xfrm rot="3289200">
                <a:off x="1858680" y="1776600"/>
                <a:ext cx="28800" cy="2880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9" name=""/>
              <p:cNvSpPr/>
              <p:nvPr/>
            </p:nvSpPr>
            <p:spPr>
              <a:xfrm rot="3289200">
                <a:off x="1894680" y="1928520"/>
                <a:ext cx="28800" cy="2844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0" name=""/>
              <p:cNvSpPr/>
              <p:nvPr/>
            </p:nvSpPr>
            <p:spPr>
              <a:xfrm rot="3289200">
                <a:off x="1949040" y="1855080"/>
                <a:ext cx="28440" cy="2880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1" name=""/>
              <p:cNvSpPr/>
              <p:nvPr/>
            </p:nvSpPr>
            <p:spPr>
              <a:xfrm rot="3289200">
                <a:off x="1828080" y="1833840"/>
                <a:ext cx="28800" cy="2844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2" name=""/>
              <p:cNvSpPr/>
              <p:nvPr/>
            </p:nvSpPr>
            <p:spPr>
              <a:xfrm rot="3289200">
                <a:off x="2012760" y="1845000"/>
                <a:ext cx="28800" cy="2844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3" name=""/>
              <p:cNvSpPr/>
              <p:nvPr/>
            </p:nvSpPr>
            <p:spPr>
              <a:xfrm rot="3289200">
                <a:off x="2076840" y="1835640"/>
                <a:ext cx="28800" cy="2880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4" name=""/>
              <p:cNvSpPr/>
              <p:nvPr/>
            </p:nvSpPr>
            <p:spPr>
              <a:xfrm rot="3289200">
                <a:off x="1958760" y="1918800"/>
                <a:ext cx="28800" cy="2880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5" name=""/>
              <p:cNvSpPr/>
              <p:nvPr/>
            </p:nvSpPr>
            <p:spPr>
              <a:xfrm flipH="1">
                <a:off x="1968120" y="1819440"/>
                <a:ext cx="14040" cy="37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6" name=""/>
              <p:cNvSpPr/>
              <p:nvPr/>
            </p:nvSpPr>
            <p:spPr>
              <a:xfrm flipH="1" flipV="1">
                <a:off x="1949040" y="1788480"/>
                <a:ext cx="31680" cy="21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7" name=""/>
              <p:cNvSpPr/>
              <p:nvPr/>
            </p:nvSpPr>
            <p:spPr>
              <a:xfrm flipH="1">
                <a:off x="1947600" y="1816920"/>
                <a:ext cx="32040" cy="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8" name=""/>
              <p:cNvSpPr/>
              <p:nvPr/>
            </p:nvSpPr>
            <p:spPr>
              <a:xfrm flipH="1" flipV="1">
                <a:off x="2002680" y="1823760"/>
                <a:ext cx="15480" cy="241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9" name=""/>
              <p:cNvSpPr/>
              <p:nvPr/>
            </p:nvSpPr>
            <p:spPr>
              <a:xfrm flipH="1">
                <a:off x="1979640" y="1865520"/>
                <a:ext cx="32400" cy="3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0" name=""/>
              <p:cNvSpPr/>
              <p:nvPr/>
            </p:nvSpPr>
            <p:spPr>
              <a:xfrm>
                <a:off x="1946880" y="1828080"/>
                <a:ext cx="67320" cy="27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1" name=""/>
              <p:cNvSpPr/>
              <p:nvPr/>
            </p:nvSpPr>
            <p:spPr>
              <a:xfrm flipH="1">
                <a:off x="2007720" y="1788120"/>
                <a:ext cx="23400" cy="20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2" name=""/>
              <p:cNvSpPr/>
              <p:nvPr/>
            </p:nvSpPr>
            <p:spPr>
              <a:xfrm flipH="1">
                <a:off x="2041560" y="1850040"/>
                <a:ext cx="36360" cy="68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3" name=""/>
              <p:cNvSpPr/>
              <p:nvPr/>
            </p:nvSpPr>
            <p:spPr>
              <a:xfrm flipH="1" flipV="1">
                <a:off x="1853280" y="1860120"/>
                <a:ext cx="30240" cy="19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4" name=""/>
              <p:cNvSpPr/>
              <p:nvPr/>
            </p:nvSpPr>
            <p:spPr>
              <a:xfrm flipH="1" flipV="1">
                <a:off x="1903320" y="1892880"/>
                <a:ext cx="3960" cy="37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5" name=""/>
              <p:cNvSpPr/>
              <p:nvPr/>
            </p:nvSpPr>
            <p:spPr>
              <a:xfrm flipH="1" flipV="1">
                <a:off x="1964520" y="1885680"/>
                <a:ext cx="2160" cy="36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6" name=""/>
              <p:cNvSpPr/>
              <p:nvPr/>
            </p:nvSpPr>
            <p:spPr>
              <a:xfrm flipH="1">
                <a:off x="1913760" y="1869120"/>
                <a:ext cx="36000" cy="75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7" name=""/>
              <p:cNvSpPr/>
              <p:nvPr/>
            </p:nvSpPr>
            <p:spPr>
              <a:xfrm flipH="1" flipV="1">
                <a:off x="1938600" y="1833480"/>
                <a:ext cx="17640" cy="234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8" name=""/>
              <p:cNvSpPr/>
              <p:nvPr/>
            </p:nvSpPr>
            <p:spPr>
              <a:xfrm flipH="1" flipV="1">
                <a:off x="1888560" y="1798560"/>
                <a:ext cx="26640" cy="19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9" name=""/>
              <p:cNvSpPr/>
              <p:nvPr/>
            </p:nvSpPr>
            <p:spPr>
              <a:xfrm>
                <a:off x="1880640" y="1697760"/>
                <a:ext cx="50400" cy="73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0" name=""/>
              <p:cNvSpPr/>
              <p:nvPr/>
            </p:nvSpPr>
            <p:spPr>
              <a:xfrm flipH="1">
                <a:off x="1945080" y="1738080"/>
                <a:ext cx="16920" cy="29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1" name=""/>
              <p:cNvSpPr/>
              <p:nvPr/>
            </p:nvSpPr>
            <p:spPr>
              <a:xfrm>
                <a:off x="1970640" y="1739520"/>
                <a:ext cx="22320" cy="60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2" name=""/>
              <p:cNvSpPr/>
              <p:nvPr/>
            </p:nvSpPr>
            <p:spPr>
              <a:xfrm flipH="1">
                <a:off x="1931040" y="1794240"/>
                <a:ext cx="1440" cy="12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3" name=""/>
              <p:cNvSpPr/>
              <p:nvPr/>
            </p:nvSpPr>
            <p:spPr>
              <a:xfrm>
                <a:off x="1880640" y="1804320"/>
                <a:ext cx="15840" cy="60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4" name=""/>
              <p:cNvSpPr/>
              <p:nvPr/>
            </p:nvSpPr>
            <p:spPr>
              <a:xfrm flipV="1">
                <a:off x="1908000" y="1836000"/>
                <a:ext cx="19080" cy="29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 flipV="1">
                <a:off x="1953720" y="1776240"/>
                <a:ext cx="7092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56" name=""/>
            <p:cNvGrpSpPr/>
            <p:nvPr/>
          </p:nvGrpSpPr>
          <p:grpSpPr>
            <a:xfrm>
              <a:off x="2273400" y="1634400"/>
              <a:ext cx="329400" cy="346680"/>
              <a:chOff x="2273400" y="1634400"/>
              <a:chExt cx="329400" cy="346680"/>
            </a:xfrm>
          </p:grpSpPr>
          <p:sp>
            <p:nvSpPr>
              <p:cNvPr id="1957" name=""/>
              <p:cNvSpPr/>
              <p:nvPr/>
            </p:nvSpPr>
            <p:spPr>
              <a:xfrm rot="15467400">
                <a:off x="2340720" y="1836360"/>
                <a:ext cx="28800" cy="28800"/>
              </a:xfrm>
              <a:prstGeom prst="ellipse">
                <a:avLst/>
              </a:prstGeom>
              <a:solidFill>
                <a:srgbClr val="66cc33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 rot="15467400">
                <a:off x="2385000" y="1767600"/>
                <a:ext cx="28800" cy="28800"/>
              </a:xfrm>
              <a:prstGeom prst="ellipse">
                <a:avLst/>
              </a:prstGeom>
              <a:solidFill>
                <a:srgbClr val="66cc33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 rot="15467400">
                <a:off x="2429280" y="1698840"/>
                <a:ext cx="28800" cy="28800"/>
              </a:xfrm>
              <a:prstGeom prst="ellipse">
                <a:avLst/>
              </a:prstGeom>
              <a:solidFill>
                <a:srgbClr val="66cc33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0" name=""/>
              <p:cNvSpPr/>
              <p:nvPr/>
            </p:nvSpPr>
            <p:spPr>
              <a:xfrm rot="15467400">
                <a:off x="2316240" y="1723320"/>
                <a:ext cx="28800" cy="28800"/>
              </a:xfrm>
              <a:prstGeom prst="ellipse">
                <a:avLst/>
              </a:prstGeom>
              <a:solidFill>
                <a:srgbClr val="66cc33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 rot="15467400">
                <a:off x="2448000" y="1783800"/>
                <a:ext cx="28440" cy="28800"/>
              </a:xfrm>
              <a:prstGeom prst="ellipse">
                <a:avLst/>
              </a:prstGeom>
              <a:solidFill>
                <a:srgbClr val="66cc33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2" name=""/>
              <p:cNvSpPr/>
              <p:nvPr/>
            </p:nvSpPr>
            <p:spPr>
              <a:xfrm rot="15467400">
                <a:off x="2300400" y="1785960"/>
                <a:ext cx="28800" cy="28800"/>
              </a:xfrm>
              <a:prstGeom prst="ellipse">
                <a:avLst/>
              </a:prstGeom>
              <a:solidFill>
                <a:srgbClr val="66cc33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 rot="15467400">
                <a:off x="2397240" y="1824120"/>
                <a:ext cx="28800" cy="28800"/>
              </a:xfrm>
              <a:prstGeom prst="ellipse">
                <a:avLst/>
              </a:prstGeom>
              <a:solidFill>
                <a:srgbClr val="66cc33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 rot="15467400">
                <a:off x="2492640" y="1714680"/>
                <a:ext cx="28440" cy="28800"/>
              </a:xfrm>
              <a:prstGeom prst="ellipse">
                <a:avLst/>
              </a:prstGeom>
              <a:solidFill>
                <a:srgbClr val="66cc33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5" name=""/>
              <p:cNvSpPr/>
              <p:nvPr/>
            </p:nvSpPr>
            <p:spPr>
              <a:xfrm rot="15467400">
                <a:off x="2366640" y="1683000"/>
                <a:ext cx="28800" cy="28800"/>
              </a:xfrm>
              <a:prstGeom prst="ellipse">
                <a:avLst/>
              </a:prstGeom>
              <a:solidFill>
                <a:srgbClr val="66cc33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 rot="15467400">
                <a:off x="2510640" y="1799640"/>
                <a:ext cx="28800" cy="28800"/>
              </a:xfrm>
              <a:prstGeom prst="ellipse">
                <a:avLst/>
              </a:prstGeom>
              <a:solidFill>
                <a:srgbClr val="66cc33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 rot="15467400">
                <a:off x="2571120" y="1668240"/>
                <a:ext cx="28800" cy="28800"/>
              </a:xfrm>
              <a:prstGeom prst="ellipse">
                <a:avLst/>
              </a:prstGeom>
              <a:solidFill>
                <a:srgbClr val="66cc33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8" name=""/>
              <p:cNvSpPr/>
              <p:nvPr/>
            </p:nvSpPr>
            <p:spPr>
              <a:xfrm rot="15467400">
                <a:off x="2557440" y="1878480"/>
                <a:ext cx="28800" cy="28800"/>
              </a:xfrm>
              <a:prstGeom prst="ellipse">
                <a:avLst/>
              </a:prstGeom>
              <a:solidFill>
                <a:srgbClr val="66cc33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 rot="15467400">
                <a:off x="2437920" y="1874520"/>
                <a:ext cx="28440" cy="29160"/>
              </a:xfrm>
              <a:prstGeom prst="ellipse">
                <a:avLst/>
              </a:prstGeom>
              <a:solidFill>
                <a:srgbClr val="66cc33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 rot="15467400">
                <a:off x="2365200" y="1949400"/>
                <a:ext cx="28440" cy="28800"/>
              </a:xfrm>
              <a:prstGeom prst="ellipse">
                <a:avLst/>
              </a:prstGeom>
              <a:solidFill>
                <a:srgbClr val="66cc33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1" name=""/>
              <p:cNvSpPr/>
              <p:nvPr/>
            </p:nvSpPr>
            <p:spPr>
              <a:xfrm rot="15467400">
                <a:off x="2445840" y="1636560"/>
                <a:ext cx="28440" cy="28800"/>
              </a:xfrm>
              <a:prstGeom prst="ellipse">
                <a:avLst/>
              </a:prstGeom>
              <a:solidFill>
                <a:srgbClr val="66cc33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2" name=""/>
              <p:cNvSpPr/>
              <p:nvPr/>
            </p:nvSpPr>
            <p:spPr>
              <a:xfrm rot="15467400">
                <a:off x="2276280" y="1673280"/>
                <a:ext cx="28440" cy="28800"/>
              </a:xfrm>
              <a:prstGeom prst="ellipse">
                <a:avLst/>
              </a:prstGeom>
              <a:solidFill>
                <a:srgbClr val="66cc33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3" name=""/>
              <p:cNvSpPr/>
              <p:nvPr/>
            </p:nvSpPr>
            <p:spPr>
              <a:xfrm flipV="1">
                <a:off x="2389320" y="1896480"/>
                <a:ext cx="52560" cy="54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4" name=""/>
              <p:cNvSpPr/>
              <p:nvPr/>
            </p:nvSpPr>
            <p:spPr>
              <a:xfrm>
                <a:off x="2467080" y="1888560"/>
                <a:ext cx="90360" cy="61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5" name=""/>
              <p:cNvSpPr/>
              <p:nvPr/>
            </p:nvSpPr>
            <p:spPr>
              <a:xfrm>
                <a:off x="2395800" y="1702080"/>
                <a:ext cx="33120" cy="11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6" name=""/>
              <p:cNvSpPr/>
              <p:nvPr/>
            </p:nvSpPr>
            <p:spPr>
              <a:xfrm>
                <a:off x="2389320" y="1708200"/>
                <a:ext cx="6120" cy="615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7" name=""/>
              <p:cNvSpPr/>
              <p:nvPr/>
            </p:nvSpPr>
            <p:spPr>
              <a:xfrm flipH="1">
                <a:off x="2340720" y="1705680"/>
                <a:ext cx="27360" cy="26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8" name=""/>
              <p:cNvSpPr/>
              <p:nvPr/>
            </p:nvSpPr>
            <p:spPr>
              <a:xfrm flipV="1">
                <a:off x="2392920" y="1658520"/>
                <a:ext cx="55080" cy="30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9" name=""/>
              <p:cNvSpPr/>
              <p:nvPr/>
            </p:nvSpPr>
            <p:spPr>
              <a:xfrm>
                <a:off x="2394720" y="1706040"/>
                <a:ext cx="60120" cy="792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0" name=""/>
              <p:cNvSpPr/>
              <p:nvPr/>
            </p:nvSpPr>
            <p:spPr>
              <a:xfrm flipH="1" flipV="1">
                <a:off x="2302200" y="1687680"/>
                <a:ext cx="6372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1" name=""/>
              <p:cNvSpPr/>
              <p:nvPr/>
            </p:nvSpPr>
            <p:spPr>
              <a:xfrm flipH="1">
                <a:off x="2326320" y="1710360"/>
                <a:ext cx="48960" cy="80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2" name=""/>
              <p:cNvSpPr/>
              <p:nvPr/>
            </p:nvSpPr>
            <p:spPr>
              <a:xfrm>
                <a:off x="2324880" y="1812600"/>
                <a:ext cx="17280" cy="30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3" name=""/>
              <p:cNvSpPr/>
              <p:nvPr/>
            </p:nvSpPr>
            <p:spPr>
              <a:xfrm flipH="1">
                <a:off x="2362680" y="1794960"/>
                <a:ext cx="29520" cy="46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>
                <a:off x="2399400" y="1797480"/>
                <a:ext cx="7560" cy="29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 flipH="1" flipV="1">
                <a:off x="2422080" y="1847880"/>
                <a:ext cx="20520" cy="324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 flipV="1">
                <a:off x="2455920" y="1813320"/>
                <a:ext cx="5040" cy="62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7" name=""/>
              <p:cNvSpPr/>
              <p:nvPr/>
            </p:nvSpPr>
            <p:spPr>
              <a:xfrm>
                <a:off x="2456640" y="1720800"/>
                <a:ext cx="55800" cy="878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 flipH="1">
                <a:off x="2423880" y="1819800"/>
                <a:ext cx="87480" cy="14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 flipH="1" flipV="1">
                <a:off x="2458440" y="1713960"/>
                <a:ext cx="34560" cy="10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0" name=""/>
              <p:cNvSpPr/>
              <p:nvPr/>
            </p:nvSpPr>
            <p:spPr>
              <a:xfrm flipH="1">
                <a:off x="2518560" y="1688400"/>
                <a:ext cx="53280" cy="33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1" name=""/>
              <p:cNvSpPr/>
              <p:nvPr/>
            </p:nvSpPr>
            <p:spPr>
              <a:xfrm flipV="1">
                <a:off x="2344320" y="1722960"/>
                <a:ext cx="87120" cy="14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2" name=""/>
              <p:cNvSpPr/>
              <p:nvPr/>
            </p:nvSpPr>
            <p:spPr>
              <a:xfrm>
                <a:off x="2471040" y="1659600"/>
                <a:ext cx="30600" cy="56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3" name=""/>
              <p:cNvSpPr/>
              <p:nvPr/>
            </p:nvSpPr>
            <p:spPr>
              <a:xfrm flipH="1" flipV="1">
                <a:off x="2336400" y="1752840"/>
                <a:ext cx="17640" cy="81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4" name=""/>
              <p:cNvSpPr/>
              <p:nvPr/>
            </p:nvSpPr>
            <p:spPr>
              <a:xfrm flipH="1">
                <a:off x="2448360" y="1665720"/>
                <a:ext cx="11520" cy="32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5" name=""/>
              <p:cNvSpPr/>
              <p:nvPr/>
            </p:nvSpPr>
            <p:spPr>
              <a:xfrm flipV="1">
                <a:off x="2413800" y="1727280"/>
                <a:ext cx="24480" cy="51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6" name=""/>
              <p:cNvSpPr/>
              <p:nvPr/>
            </p:nvSpPr>
            <p:spPr>
              <a:xfrm flipH="1" flipV="1">
                <a:off x="2448720" y="1727640"/>
                <a:ext cx="12960" cy="57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7" name=""/>
              <p:cNvSpPr/>
              <p:nvPr/>
            </p:nvSpPr>
            <p:spPr>
              <a:xfrm flipH="1" flipV="1">
                <a:off x="2344680" y="1744200"/>
                <a:ext cx="40680" cy="34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98" name=""/>
            <p:cNvGrpSpPr/>
            <p:nvPr/>
          </p:nvGrpSpPr>
          <p:grpSpPr>
            <a:xfrm>
              <a:off x="1988640" y="1857960"/>
              <a:ext cx="253080" cy="234000"/>
              <a:chOff x="1988640" y="1857960"/>
              <a:chExt cx="253080" cy="234000"/>
            </a:xfrm>
          </p:grpSpPr>
          <p:sp>
            <p:nvSpPr>
              <p:cNvPr id="1999" name=""/>
              <p:cNvSpPr/>
              <p:nvPr/>
            </p:nvSpPr>
            <p:spPr>
              <a:xfrm rot="12053400">
                <a:off x="2156760" y="2058840"/>
                <a:ext cx="28800" cy="28800"/>
              </a:xfrm>
              <a:prstGeom prst="ellipse">
                <a:avLst/>
              </a:prstGeom>
              <a:solidFill>
                <a:srgbClr val="ff33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0" name=""/>
              <p:cNvSpPr/>
              <p:nvPr/>
            </p:nvSpPr>
            <p:spPr>
              <a:xfrm rot="12053400">
                <a:off x="2204280" y="2014920"/>
                <a:ext cx="28800" cy="28800"/>
              </a:xfrm>
              <a:prstGeom prst="ellipse">
                <a:avLst/>
              </a:prstGeom>
              <a:solidFill>
                <a:srgbClr val="ff33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1" name=""/>
              <p:cNvSpPr/>
              <p:nvPr/>
            </p:nvSpPr>
            <p:spPr>
              <a:xfrm rot="12053400">
                <a:off x="2041920" y="1953360"/>
                <a:ext cx="28800" cy="28800"/>
              </a:xfrm>
              <a:prstGeom prst="ellipse">
                <a:avLst/>
              </a:prstGeom>
              <a:solidFill>
                <a:srgbClr val="ff33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2" name=""/>
              <p:cNvSpPr/>
              <p:nvPr/>
            </p:nvSpPr>
            <p:spPr>
              <a:xfrm rot="12053400">
                <a:off x="2048400" y="2017800"/>
                <a:ext cx="28800" cy="28800"/>
              </a:xfrm>
              <a:prstGeom prst="ellipse">
                <a:avLst/>
              </a:prstGeom>
              <a:solidFill>
                <a:srgbClr val="ff33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3" name=""/>
              <p:cNvSpPr/>
              <p:nvPr/>
            </p:nvSpPr>
            <p:spPr>
              <a:xfrm rot="12053400">
                <a:off x="2208240" y="1923840"/>
                <a:ext cx="28800" cy="28800"/>
              </a:xfrm>
              <a:prstGeom prst="ellipse">
                <a:avLst/>
              </a:prstGeom>
              <a:solidFill>
                <a:srgbClr val="ff33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4" name=""/>
              <p:cNvSpPr/>
              <p:nvPr/>
            </p:nvSpPr>
            <p:spPr>
              <a:xfrm rot="12053400">
                <a:off x="2116800" y="1919880"/>
                <a:ext cx="29160" cy="29160"/>
              </a:xfrm>
              <a:prstGeom prst="ellipse">
                <a:avLst/>
              </a:prstGeom>
              <a:solidFill>
                <a:srgbClr val="ff33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5" name=""/>
              <p:cNvSpPr/>
              <p:nvPr/>
            </p:nvSpPr>
            <p:spPr>
              <a:xfrm rot="12053400">
                <a:off x="2045880" y="1861920"/>
                <a:ext cx="28800" cy="28800"/>
              </a:xfrm>
              <a:prstGeom prst="ellipse">
                <a:avLst/>
              </a:prstGeom>
              <a:solidFill>
                <a:srgbClr val="ff33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 rot="12053400">
                <a:off x="2112840" y="2011320"/>
                <a:ext cx="28800" cy="28800"/>
              </a:xfrm>
              <a:prstGeom prst="ellipse">
                <a:avLst/>
              </a:prstGeom>
              <a:solidFill>
                <a:srgbClr val="ff33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 flipH="1">
                <a:off x="2179800" y="2038680"/>
                <a:ext cx="27720" cy="23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8" name=""/>
              <p:cNvSpPr/>
              <p:nvPr/>
            </p:nvSpPr>
            <p:spPr>
              <a:xfrm flipV="1">
                <a:off x="2076840" y="2032200"/>
                <a:ext cx="36360" cy="7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>
                <a:off x="2061720" y="1980360"/>
                <a:ext cx="53640" cy="38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>
                <a:off x="2128320" y="1946520"/>
                <a:ext cx="1800" cy="66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1" name=""/>
              <p:cNvSpPr/>
              <p:nvPr/>
            </p:nvSpPr>
            <p:spPr>
              <a:xfrm flipH="1">
                <a:off x="2219040" y="1953000"/>
                <a:ext cx="1080" cy="630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2" name=""/>
              <p:cNvSpPr/>
              <p:nvPr/>
            </p:nvSpPr>
            <p:spPr>
              <a:xfrm>
                <a:off x="2070000" y="1889280"/>
                <a:ext cx="53280" cy="360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>
                <a:off x="1988640" y="1943280"/>
                <a:ext cx="54360" cy="19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4" name=""/>
              <p:cNvSpPr/>
              <p:nvPr/>
            </p:nvSpPr>
            <p:spPr>
              <a:xfrm>
                <a:off x="2140920" y="2021760"/>
                <a:ext cx="64080" cy="5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5" name=""/>
              <p:cNvSpPr/>
              <p:nvPr/>
            </p:nvSpPr>
            <p:spPr>
              <a:xfrm flipH="1" flipV="1">
                <a:off x="2052360" y="1983240"/>
                <a:ext cx="9360" cy="32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>
                <a:off x="2139840" y="2034720"/>
                <a:ext cx="20520" cy="270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7" name=""/>
            <p:cNvGrpSpPr/>
            <p:nvPr/>
          </p:nvGrpSpPr>
          <p:grpSpPr>
            <a:xfrm>
              <a:off x="1799640" y="1371600"/>
              <a:ext cx="491760" cy="318240"/>
              <a:chOff x="1799640" y="1371600"/>
              <a:chExt cx="491760" cy="318240"/>
            </a:xfrm>
          </p:grpSpPr>
          <p:sp>
            <p:nvSpPr>
              <p:cNvPr id="2018" name=""/>
              <p:cNvSpPr/>
              <p:nvPr/>
            </p:nvSpPr>
            <p:spPr>
              <a:xfrm>
                <a:off x="1915560" y="1400400"/>
                <a:ext cx="28800" cy="28800"/>
              </a:xfrm>
              <a:prstGeom prst="ellipse">
                <a:avLst/>
              </a:prstGeom>
              <a:solidFill>
                <a:srgbClr val="0099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>
                <a:off x="1973160" y="1458360"/>
                <a:ext cx="28800" cy="28800"/>
              </a:xfrm>
              <a:prstGeom prst="ellipse">
                <a:avLst/>
              </a:prstGeom>
              <a:solidFill>
                <a:srgbClr val="0099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0" name=""/>
              <p:cNvSpPr/>
              <p:nvPr/>
            </p:nvSpPr>
            <p:spPr>
              <a:xfrm>
                <a:off x="2031120" y="1516320"/>
                <a:ext cx="29160" cy="28800"/>
              </a:xfrm>
              <a:prstGeom prst="ellipse">
                <a:avLst/>
              </a:prstGeom>
              <a:solidFill>
                <a:srgbClr val="0099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1" name=""/>
              <p:cNvSpPr/>
              <p:nvPr/>
            </p:nvSpPr>
            <p:spPr>
              <a:xfrm>
                <a:off x="2031120" y="1400400"/>
                <a:ext cx="29160" cy="28800"/>
              </a:xfrm>
              <a:prstGeom prst="ellipse">
                <a:avLst/>
              </a:prstGeom>
              <a:solidFill>
                <a:srgbClr val="0099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2" name=""/>
              <p:cNvSpPr/>
              <p:nvPr/>
            </p:nvSpPr>
            <p:spPr>
              <a:xfrm>
                <a:off x="1944360" y="1516320"/>
                <a:ext cx="28800" cy="28800"/>
              </a:xfrm>
              <a:prstGeom prst="ellipse">
                <a:avLst/>
              </a:prstGeom>
              <a:solidFill>
                <a:srgbClr val="0099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3" name=""/>
              <p:cNvSpPr/>
              <p:nvPr/>
            </p:nvSpPr>
            <p:spPr>
              <a:xfrm>
                <a:off x="1973160" y="1371600"/>
                <a:ext cx="28800" cy="28800"/>
              </a:xfrm>
              <a:prstGeom prst="ellipse">
                <a:avLst/>
              </a:prstGeom>
              <a:solidFill>
                <a:srgbClr val="0099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4" name=""/>
              <p:cNvSpPr/>
              <p:nvPr/>
            </p:nvSpPr>
            <p:spPr>
              <a:xfrm>
                <a:off x="1915560" y="1458360"/>
                <a:ext cx="28800" cy="28800"/>
              </a:xfrm>
              <a:prstGeom prst="ellipse">
                <a:avLst/>
              </a:prstGeom>
              <a:solidFill>
                <a:srgbClr val="0099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>
                <a:off x="2117880" y="1429560"/>
                <a:ext cx="28800" cy="28800"/>
              </a:xfrm>
              <a:prstGeom prst="ellipse">
                <a:avLst/>
              </a:prstGeom>
              <a:solidFill>
                <a:srgbClr val="0099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6" name=""/>
              <p:cNvSpPr/>
              <p:nvPr/>
            </p:nvSpPr>
            <p:spPr>
              <a:xfrm>
                <a:off x="2002320" y="1574280"/>
                <a:ext cx="28800" cy="28800"/>
              </a:xfrm>
              <a:prstGeom prst="ellipse">
                <a:avLst/>
              </a:prstGeom>
              <a:solidFill>
                <a:srgbClr val="0099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7" name=""/>
              <p:cNvSpPr/>
              <p:nvPr/>
            </p:nvSpPr>
            <p:spPr>
              <a:xfrm>
                <a:off x="2060280" y="1458360"/>
                <a:ext cx="28800" cy="28800"/>
              </a:xfrm>
              <a:prstGeom prst="ellipse">
                <a:avLst/>
              </a:prstGeom>
              <a:solidFill>
                <a:srgbClr val="0099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>
                <a:off x="2147040" y="1458360"/>
                <a:ext cx="28800" cy="28800"/>
              </a:xfrm>
              <a:prstGeom prst="ellipse">
                <a:avLst/>
              </a:prstGeom>
              <a:solidFill>
                <a:srgbClr val="0099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9" name=""/>
              <p:cNvSpPr/>
              <p:nvPr/>
            </p:nvSpPr>
            <p:spPr>
              <a:xfrm>
                <a:off x="1915560" y="1574280"/>
                <a:ext cx="28800" cy="28800"/>
              </a:xfrm>
              <a:prstGeom prst="ellipse">
                <a:avLst/>
              </a:prstGeom>
              <a:solidFill>
                <a:srgbClr val="0099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0" name=""/>
              <p:cNvSpPr/>
              <p:nvPr/>
            </p:nvSpPr>
            <p:spPr>
              <a:xfrm>
                <a:off x="2262600" y="1574280"/>
                <a:ext cx="28800" cy="28800"/>
              </a:xfrm>
              <a:prstGeom prst="ellipse">
                <a:avLst/>
              </a:prstGeom>
              <a:solidFill>
                <a:srgbClr val="0099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1" name=""/>
              <p:cNvSpPr/>
              <p:nvPr/>
            </p:nvSpPr>
            <p:spPr>
              <a:xfrm>
                <a:off x="2262600" y="1400400"/>
                <a:ext cx="28800" cy="28800"/>
              </a:xfrm>
              <a:prstGeom prst="ellipse">
                <a:avLst/>
              </a:prstGeom>
              <a:solidFill>
                <a:srgbClr val="0099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2" name=""/>
              <p:cNvSpPr/>
              <p:nvPr/>
            </p:nvSpPr>
            <p:spPr>
              <a:xfrm>
                <a:off x="2175840" y="1574280"/>
                <a:ext cx="29160" cy="28800"/>
              </a:xfrm>
              <a:prstGeom prst="ellipse">
                <a:avLst/>
              </a:prstGeom>
              <a:solidFill>
                <a:srgbClr val="0099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3" name=""/>
              <p:cNvSpPr/>
              <p:nvPr/>
            </p:nvSpPr>
            <p:spPr>
              <a:xfrm>
                <a:off x="2175840" y="1371600"/>
                <a:ext cx="29160" cy="28800"/>
              </a:xfrm>
              <a:prstGeom prst="ellipse">
                <a:avLst/>
              </a:prstGeom>
              <a:solidFill>
                <a:srgbClr val="0099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4" name=""/>
              <p:cNvSpPr/>
              <p:nvPr/>
            </p:nvSpPr>
            <p:spPr>
              <a:xfrm>
                <a:off x="2147040" y="1516320"/>
                <a:ext cx="28800" cy="28800"/>
              </a:xfrm>
              <a:prstGeom prst="ellipse">
                <a:avLst/>
              </a:prstGeom>
              <a:solidFill>
                <a:srgbClr val="0099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5" name=""/>
              <p:cNvSpPr/>
              <p:nvPr/>
            </p:nvSpPr>
            <p:spPr>
              <a:xfrm>
                <a:off x="2031120" y="1661040"/>
                <a:ext cx="29160" cy="28800"/>
              </a:xfrm>
              <a:prstGeom prst="ellipse">
                <a:avLst/>
              </a:prstGeom>
              <a:solidFill>
                <a:srgbClr val="0099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6" name=""/>
              <p:cNvSpPr/>
              <p:nvPr/>
            </p:nvSpPr>
            <p:spPr>
              <a:xfrm>
                <a:off x="2117880" y="1631880"/>
                <a:ext cx="28800" cy="28800"/>
              </a:xfrm>
              <a:prstGeom prst="ellipse">
                <a:avLst/>
              </a:prstGeom>
              <a:solidFill>
                <a:srgbClr val="0099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7" name=""/>
              <p:cNvSpPr/>
              <p:nvPr/>
            </p:nvSpPr>
            <p:spPr>
              <a:xfrm>
                <a:off x="2233800" y="1487160"/>
                <a:ext cx="28800" cy="28800"/>
              </a:xfrm>
              <a:prstGeom prst="ellipse">
                <a:avLst/>
              </a:prstGeom>
              <a:solidFill>
                <a:srgbClr val="0099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8" name=""/>
              <p:cNvSpPr/>
              <p:nvPr/>
            </p:nvSpPr>
            <p:spPr>
              <a:xfrm>
                <a:off x="1828440" y="1603080"/>
                <a:ext cx="28800" cy="28800"/>
              </a:xfrm>
              <a:prstGeom prst="ellipse">
                <a:avLst/>
              </a:prstGeom>
              <a:solidFill>
                <a:srgbClr val="0099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9" name=""/>
              <p:cNvSpPr/>
              <p:nvPr/>
            </p:nvSpPr>
            <p:spPr>
              <a:xfrm>
                <a:off x="2205000" y="1661040"/>
                <a:ext cx="28800" cy="28800"/>
              </a:xfrm>
              <a:prstGeom prst="ellipse">
                <a:avLst/>
              </a:prstGeom>
              <a:solidFill>
                <a:srgbClr val="0099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0" name=""/>
              <p:cNvSpPr/>
              <p:nvPr/>
            </p:nvSpPr>
            <p:spPr>
              <a:xfrm>
                <a:off x="1857600" y="1487160"/>
                <a:ext cx="28800" cy="28800"/>
              </a:xfrm>
              <a:prstGeom prst="ellipse">
                <a:avLst/>
              </a:prstGeom>
              <a:solidFill>
                <a:srgbClr val="0099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1" name=""/>
              <p:cNvSpPr/>
              <p:nvPr/>
            </p:nvSpPr>
            <p:spPr>
              <a:xfrm>
                <a:off x="1799640" y="1400400"/>
                <a:ext cx="28800" cy="28800"/>
              </a:xfrm>
              <a:prstGeom prst="ellipse">
                <a:avLst/>
              </a:prstGeom>
              <a:solidFill>
                <a:srgbClr val="0099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2" name=""/>
              <p:cNvSpPr/>
              <p:nvPr/>
            </p:nvSpPr>
            <p:spPr>
              <a:xfrm>
                <a:off x="2089080" y="1545120"/>
                <a:ext cx="28800" cy="28800"/>
              </a:xfrm>
              <a:prstGeom prst="ellipse">
                <a:avLst/>
              </a:prstGeom>
              <a:solidFill>
                <a:srgbClr val="0099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3" name=""/>
              <p:cNvSpPr/>
              <p:nvPr/>
            </p:nvSpPr>
            <p:spPr>
              <a:xfrm>
                <a:off x="2089080" y="1371600"/>
                <a:ext cx="28800" cy="28800"/>
              </a:xfrm>
              <a:prstGeom prst="ellipse">
                <a:avLst/>
              </a:prstGeom>
              <a:solidFill>
                <a:srgbClr val="0099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4" name=""/>
              <p:cNvSpPr/>
              <p:nvPr/>
            </p:nvSpPr>
            <p:spPr>
              <a:xfrm>
                <a:off x="1824840" y="1427040"/>
                <a:ext cx="42120" cy="62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5" name=""/>
              <p:cNvSpPr/>
              <p:nvPr/>
            </p:nvSpPr>
            <p:spPr>
              <a:xfrm flipH="1">
                <a:off x="1843920" y="1516320"/>
                <a:ext cx="25200" cy="867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6" name=""/>
              <p:cNvSpPr/>
              <p:nvPr/>
            </p:nvSpPr>
            <p:spPr>
              <a:xfrm flipH="1">
                <a:off x="2047680" y="1486080"/>
                <a:ext cx="19080" cy="29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7" name=""/>
              <p:cNvSpPr/>
              <p:nvPr/>
            </p:nvSpPr>
            <p:spPr>
              <a:xfrm flipH="1" flipV="1">
                <a:off x="2000520" y="1471320"/>
                <a:ext cx="61560" cy="68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 flipH="1" flipV="1">
                <a:off x="2049120" y="1425600"/>
                <a:ext cx="20160" cy="324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9" name=""/>
              <p:cNvSpPr/>
              <p:nvPr/>
            </p:nvSpPr>
            <p:spPr>
              <a:xfrm>
                <a:off x="2080800" y="1486080"/>
                <a:ext cx="18000" cy="601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0" name=""/>
              <p:cNvSpPr/>
              <p:nvPr/>
            </p:nvSpPr>
            <p:spPr>
              <a:xfrm flipH="1">
                <a:off x="1972800" y="1483920"/>
                <a:ext cx="90360" cy="421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1" name=""/>
              <p:cNvSpPr/>
              <p:nvPr/>
            </p:nvSpPr>
            <p:spPr>
              <a:xfrm flipV="1">
                <a:off x="2085480" y="1451880"/>
                <a:ext cx="34920" cy="9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2" name=""/>
              <p:cNvSpPr/>
              <p:nvPr/>
            </p:nvSpPr>
            <p:spPr>
              <a:xfrm flipV="1">
                <a:off x="2084400" y="1397520"/>
                <a:ext cx="16560" cy="615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3" name=""/>
              <p:cNvSpPr/>
              <p:nvPr/>
            </p:nvSpPr>
            <p:spPr>
              <a:xfrm flipH="1" flipV="1">
                <a:off x="1994760" y="1399320"/>
                <a:ext cx="68400" cy="64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4" name=""/>
              <p:cNvSpPr/>
              <p:nvPr/>
            </p:nvSpPr>
            <p:spPr>
              <a:xfrm flipH="1">
                <a:off x="1940400" y="1393200"/>
                <a:ext cx="33480" cy="10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5" name=""/>
              <p:cNvSpPr/>
              <p:nvPr/>
            </p:nvSpPr>
            <p:spPr>
              <a:xfrm flipH="1" flipV="1">
                <a:off x="1936800" y="1424160"/>
                <a:ext cx="39600" cy="38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6" name=""/>
              <p:cNvSpPr/>
              <p:nvPr/>
            </p:nvSpPr>
            <p:spPr>
              <a:xfrm flipH="1">
                <a:off x="1941840" y="1469160"/>
                <a:ext cx="3096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7" name=""/>
              <p:cNvSpPr/>
              <p:nvPr/>
            </p:nvSpPr>
            <p:spPr>
              <a:xfrm flipV="1">
                <a:off x="1882440" y="1480680"/>
                <a:ext cx="36000" cy="133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8" name=""/>
              <p:cNvSpPr/>
              <p:nvPr/>
            </p:nvSpPr>
            <p:spPr>
              <a:xfrm>
                <a:off x="1883880" y="1508040"/>
                <a:ext cx="60120" cy="180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9" name=""/>
              <p:cNvSpPr/>
              <p:nvPr/>
            </p:nvSpPr>
            <p:spPr>
              <a:xfrm flipH="1">
                <a:off x="1937880" y="1541520"/>
                <a:ext cx="97560" cy="360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0" name=""/>
              <p:cNvSpPr/>
              <p:nvPr/>
            </p:nvSpPr>
            <p:spPr>
              <a:xfrm flipV="1">
                <a:off x="1927440" y="1486080"/>
                <a:ext cx="4680" cy="878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1" name=""/>
              <p:cNvSpPr/>
              <p:nvPr/>
            </p:nvSpPr>
            <p:spPr>
              <a:xfrm flipV="1">
                <a:off x="2023920" y="1544760"/>
                <a:ext cx="18000" cy="313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2" name=""/>
              <p:cNvSpPr/>
              <p:nvPr/>
            </p:nvSpPr>
            <p:spPr>
              <a:xfrm flipH="1" flipV="1">
                <a:off x="2114640" y="1393920"/>
                <a:ext cx="64800" cy="4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3" name=""/>
              <p:cNvSpPr/>
              <p:nvPr/>
            </p:nvSpPr>
            <p:spPr>
              <a:xfrm flipH="1">
                <a:off x="2087280" y="1472760"/>
                <a:ext cx="6012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4" name=""/>
              <p:cNvSpPr/>
              <p:nvPr/>
            </p:nvSpPr>
            <p:spPr>
              <a:xfrm flipH="1">
                <a:off x="2114640" y="1528200"/>
                <a:ext cx="30960" cy="20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5" name=""/>
              <p:cNvSpPr/>
              <p:nvPr/>
            </p:nvSpPr>
            <p:spPr>
              <a:xfrm flipH="1" flipV="1">
                <a:off x="2195280" y="1399320"/>
                <a:ext cx="48240" cy="878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6" name=""/>
              <p:cNvSpPr/>
              <p:nvPr/>
            </p:nvSpPr>
            <p:spPr>
              <a:xfrm flipH="1" flipV="1">
                <a:off x="2117520" y="1562040"/>
                <a:ext cx="63720" cy="165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7" name=""/>
              <p:cNvSpPr/>
              <p:nvPr/>
            </p:nvSpPr>
            <p:spPr>
              <a:xfrm flipH="1" flipV="1">
                <a:off x="2085480" y="1483920"/>
                <a:ext cx="67680" cy="360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8" name=""/>
              <p:cNvSpPr/>
              <p:nvPr/>
            </p:nvSpPr>
            <p:spPr>
              <a:xfrm flipH="1" flipV="1">
                <a:off x="2106000" y="1572840"/>
                <a:ext cx="25200" cy="612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9" name=""/>
              <p:cNvSpPr/>
              <p:nvPr/>
            </p:nvSpPr>
            <p:spPr>
              <a:xfrm flipH="1" flipV="1">
                <a:off x="2021400" y="1601640"/>
                <a:ext cx="21600" cy="59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0" name=""/>
              <p:cNvSpPr/>
              <p:nvPr/>
            </p:nvSpPr>
            <p:spPr>
              <a:xfrm flipH="1" flipV="1">
                <a:off x="2143080" y="1652400"/>
                <a:ext cx="62280" cy="144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1" name=""/>
              <p:cNvSpPr/>
              <p:nvPr/>
            </p:nvSpPr>
            <p:spPr>
              <a:xfrm flipH="1">
                <a:off x="2205000" y="1587240"/>
                <a:ext cx="5760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2" name=""/>
              <p:cNvSpPr/>
              <p:nvPr/>
            </p:nvSpPr>
            <p:spPr>
              <a:xfrm flipH="1" flipV="1">
                <a:off x="2202120" y="1391400"/>
                <a:ext cx="60120" cy="27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3" name=""/>
              <p:cNvSpPr/>
              <p:nvPr/>
            </p:nvSpPr>
            <p:spPr>
              <a:xfrm flipH="1">
                <a:off x="2143080" y="1400400"/>
                <a:ext cx="40680" cy="313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4" name=""/>
              <p:cNvSpPr/>
              <p:nvPr/>
            </p:nvSpPr>
            <p:spPr>
              <a:xfrm flipH="1">
                <a:off x="2039040" y="1428120"/>
                <a:ext cx="4680" cy="878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 flipV="1">
                <a:off x="2058840" y="1479600"/>
                <a:ext cx="91800" cy="52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6" name=""/>
              <p:cNvSpPr/>
              <p:nvPr/>
            </p:nvSpPr>
            <p:spPr>
              <a:xfrm>
                <a:off x="2111040" y="1397880"/>
                <a:ext cx="16560" cy="33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7" name=""/>
              <p:cNvSpPr/>
              <p:nvPr/>
            </p:nvSpPr>
            <p:spPr>
              <a:xfrm flipH="1">
                <a:off x="2030760" y="1568160"/>
                <a:ext cx="61560" cy="180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8" name=""/>
              <p:cNvSpPr/>
              <p:nvPr/>
            </p:nvSpPr>
            <p:spPr>
              <a:xfrm>
                <a:off x="1946520" y="1417320"/>
                <a:ext cx="831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9" name=""/>
              <p:cNvSpPr/>
              <p:nvPr/>
            </p:nvSpPr>
            <p:spPr>
              <a:xfrm>
                <a:off x="2161440" y="1484640"/>
                <a:ext cx="72360" cy="15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0" name=""/>
              <p:cNvSpPr/>
              <p:nvPr/>
            </p:nvSpPr>
            <p:spPr>
              <a:xfrm>
                <a:off x="2169000" y="1546560"/>
                <a:ext cx="20160" cy="26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1" name=""/>
              <p:cNvSpPr/>
              <p:nvPr/>
            </p:nvSpPr>
            <p:spPr>
              <a:xfrm>
                <a:off x="2143440" y="1451160"/>
                <a:ext cx="13320" cy="90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2" name=""/>
              <p:cNvSpPr/>
              <p:nvPr/>
            </p:nvSpPr>
            <p:spPr>
              <a:xfrm flipH="1" flipV="1">
                <a:off x="2060280" y="1537920"/>
                <a:ext cx="28800" cy="180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3" name=""/>
              <p:cNvSpPr/>
              <p:nvPr/>
            </p:nvSpPr>
            <p:spPr>
              <a:xfrm>
                <a:off x="1987920" y="1487160"/>
                <a:ext cx="45360" cy="34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4" name=""/>
              <p:cNvSpPr/>
              <p:nvPr/>
            </p:nvSpPr>
            <p:spPr>
              <a:xfrm flipV="1">
                <a:off x="1972080" y="1532160"/>
                <a:ext cx="58680" cy="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5" name=""/>
              <p:cNvSpPr/>
              <p:nvPr/>
            </p:nvSpPr>
            <p:spPr>
              <a:xfrm flipV="1">
                <a:off x="1994040" y="1427040"/>
                <a:ext cx="43200" cy="324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6" name=""/>
              <p:cNvSpPr/>
              <p:nvPr/>
            </p:nvSpPr>
            <p:spPr>
              <a:xfrm>
                <a:off x="1847880" y="1629720"/>
                <a:ext cx="17640" cy="46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87" name=""/>
            <p:cNvSpPr/>
            <p:nvPr/>
          </p:nvSpPr>
          <p:spPr>
            <a:xfrm flipH="1" flipV="1">
              <a:off x="2228760" y="1675800"/>
              <a:ext cx="48240" cy="90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2237400" y="1938600"/>
              <a:ext cx="129600" cy="21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9" name=""/>
            <p:cNvSpPr/>
            <p:nvPr/>
          </p:nvSpPr>
          <p:spPr>
            <a:xfrm flipH="1" flipV="1">
              <a:off x="2032560" y="1868760"/>
              <a:ext cx="17640" cy="12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0" name=""/>
            <p:cNvSpPr/>
            <p:nvPr/>
          </p:nvSpPr>
          <p:spPr>
            <a:xfrm flipV="1">
              <a:off x="2071440" y="1860120"/>
              <a:ext cx="9720" cy="6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2684520" y="1428840"/>
              <a:ext cx="62388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Verdana"/>
                </a:rPr>
                <a:t>Peers selling Games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1908360" y="2122560"/>
              <a:ext cx="84420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Verdana"/>
                </a:rPr>
                <a:t>Peers buying Games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2600280" y="1766520"/>
              <a:ext cx="547560" cy="32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Verdana"/>
                </a:rPr>
                <a:t>Peers buying Artwork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1317960" y="1869840"/>
              <a:ext cx="544320" cy="32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Verdana"/>
                </a:rPr>
                <a:t>Peers selling Artwork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1219320" y="1431720"/>
              <a:ext cx="644040" cy="32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Verdana"/>
                </a:rPr>
                <a:t>Peers buying/selling Books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6" name="PlaceHolder 1"/>
          <p:cNvSpPr>
            <a:spLocks noGrp="1"/>
          </p:cNvSpPr>
          <p:nvPr>
            <p:ph type="title"/>
          </p:nvPr>
        </p:nvSpPr>
        <p:spPr>
          <a:xfrm>
            <a:off x="466200" y="222120"/>
            <a:ext cx="4257720" cy="36360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23400" bIns="23400" anchor="t">
            <a:no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Verdana"/>
              </a:rPr>
              <a:t>Security Concerns</a:t>
            </a:r>
            <a:endParaRPr b="1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7" name="PlaceHolder 2"/>
          <p:cNvSpPr>
            <a:spLocks noGrp="1"/>
          </p:cNvSpPr>
          <p:nvPr>
            <p:ph/>
          </p:nvPr>
        </p:nvSpPr>
        <p:spPr>
          <a:xfrm>
            <a:off x="466200" y="838080"/>
            <a:ext cx="4257720" cy="2090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23400" bIns="23400" anchor="t">
            <a:normAutofit/>
          </a:bodyPr>
          <a:p>
            <a:pPr marL="230040" indent="-230040">
              <a:lnSpc>
                <a:spcPct val="90000"/>
              </a:lnSpc>
              <a:spcBef>
                <a:spcPts val="638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Identity</a:t>
            </a:r>
            <a:endParaRPr b="1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439560" indent="-207720">
              <a:lnSpc>
                <a:spcPct val="90000"/>
              </a:lnSpc>
              <a:spcBef>
                <a:spcPts val="561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1" lang="en-US" sz="1500" spc="-1" strike="noStrike">
                <a:solidFill>
                  <a:srgbClr val="0099ff"/>
                </a:solidFill>
                <a:latin typeface="Verdana"/>
              </a:rPr>
              <a:t>Individual Identity of Peer</a:t>
            </a:r>
            <a:endParaRPr b="1" lang="en-US" sz="1500" spc="-1" strike="noStrike">
              <a:solidFill>
                <a:srgbClr val="0099ff"/>
              </a:solidFill>
              <a:latin typeface="Verdana"/>
            </a:endParaRPr>
          </a:p>
          <a:p>
            <a:pPr lvl="1" marL="439560" indent="-207720">
              <a:lnSpc>
                <a:spcPct val="90000"/>
              </a:lnSpc>
              <a:spcBef>
                <a:spcPts val="561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1" lang="en-US" sz="1500" spc="-1" strike="noStrike">
                <a:solidFill>
                  <a:srgbClr val="0099ff"/>
                </a:solidFill>
                <a:latin typeface="Verdana"/>
              </a:rPr>
              <a:t>Syndicate Identity of Community</a:t>
            </a:r>
            <a:endParaRPr b="1" lang="en-US" sz="1500" spc="-1" strike="noStrike">
              <a:solidFill>
                <a:srgbClr val="0099ff"/>
              </a:solidFill>
              <a:latin typeface="Verdana"/>
            </a:endParaRPr>
          </a:p>
          <a:p>
            <a:pPr marL="230040" indent="-230040">
              <a:lnSpc>
                <a:spcPct val="90000"/>
              </a:lnSpc>
              <a:spcBef>
                <a:spcPts val="638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Authentication</a:t>
            </a:r>
            <a:endParaRPr b="1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30040" indent="-230040">
              <a:lnSpc>
                <a:spcPct val="90000"/>
              </a:lnSpc>
              <a:spcBef>
                <a:spcPts val="638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Trust or Threat</a:t>
            </a:r>
            <a:endParaRPr b="1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30040" indent="0">
              <a:lnSpc>
                <a:spcPct val="90000"/>
              </a:lnSpc>
              <a:spcBef>
                <a:spcPts val="638"/>
              </a:spcBef>
              <a:buNone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endParaRPr b="1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30040" indent="0">
              <a:lnSpc>
                <a:spcPct val="90000"/>
              </a:lnSpc>
              <a:spcBef>
                <a:spcPts val="638"/>
              </a:spcBef>
              <a:buNone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endParaRPr b="1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8" name="PlaceHolder 1"/>
          <p:cNvSpPr>
            <a:spLocks noGrp="1"/>
          </p:cNvSpPr>
          <p:nvPr>
            <p:ph type="title"/>
          </p:nvPr>
        </p:nvSpPr>
        <p:spPr>
          <a:xfrm>
            <a:off x="466200" y="222120"/>
            <a:ext cx="4257720" cy="36360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23400" bIns="23400" anchor="t">
            <a:no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Verdana"/>
              </a:rPr>
              <a:t>Security Concerns</a:t>
            </a:r>
            <a:endParaRPr b="1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9" name="PlaceHolder 2"/>
          <p:cNvSpPr>
            <a:spLocks noGrp="1"/>
          </p:cNvSpPr>
          <p:nvPr>
            <p:ph/>
          </p:nvPr>
        </p:nvSpPr>
        <p:spPr>
          <a:xfrm>
            <a:off x="466200" y="838080"/>
            <a:ext cx="4257720" cy="15919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23400" bIns="23400" anchor="t">
            <a:normAutofit/>
          </a:bodyPr>
          <a:p>
            <a:pPr marL="230040" indent="-230040">
              <a:lnSpc>
                <a:spcPct val="90000"/>
              </a:lnSpc>
              <a:spcBef>
                <a:spcPts val="488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Achilles’ Heel of these networks</a:t>
            </a:r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30040" indent="-230040">
              <a:lnSpc>
                <a:spcPct val="90000"/>
              </a:lnSpc>
              <a:spcBef>
                <a:spcPts val="488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Aggregation</a:t>
            </a:r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30040" indent="-230040">
              <a:lnSpc>
                <a:spcPct val="90000"/>
              </a:lnSpc>
              <a:spcBef>
                <a:spcPts val="488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Federation</a:t>
            </a:r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30040" indent="0">
              <a:lnSpc>
                <a:spcPct val="90000"/>
              </a:lnSpc>
              <a:spcBef>
                <a:spcPts val="488"/>
              </a:spcBef>
              <a:buNone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30040" indent="-230040">
              <a:lnSpc>
                <a:spcPct val="90000"/>
              </a:lnSpc>
              <a:spcBef>
                <a:spcPts val="488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Security projects:</a:t>
            </a:r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39560" indent="-207720">
              <a:lnSpc>
                <a:spcPct val="90000"/>
              </a:lnSpc>
              <a:spcBef>
                <a:spcPts val="414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1" lang="en-US" sz="1100" spc="-1" strike="noStrike">
                <a:solidFill>
                  <a:srgbClr val="0099ff"/>
                </a:solidFill>
                <a:latin typeface="Verdana"/>
              </a:rPr>
              <a:t>P2P Certificate Server</a:t>
            </a:r>
            <a:endParaRPr b="1" lang="en-US" sz="1100" spc="-1" strike="noStrike">
              <a:solidFill>
                <a:srgbClr val="0099ff"/>
              </a:solidFill>
              <a:latin typeface="Verdana"/>
            </a:endParaRPr>
          </a:p>
          <a:p>
            <a:pPr lvl="1" marL="439560" indent="-207720">
              <a:lnSpc>
                <a:spcPct val="90000"/>
              </a:lnSpc>
              <a:spcBef>
                <a:spcPts val="414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1" lang="en-US" sz="1100" spc="-1" strike="noStrike">
                <a:solidFill>
                  <a:srgbClr val="0099ff"/>
                </a:solidFill>
                <a:latin typeface="Verdana"/>
              </a:rPr>
              <a:t>Secret Sharing Algorithms</a:t>
            </a:r>
            <a:endParaRPr b="1" lang="en-US" sz="1100" spc="-1" strike="noStrike">
              <a:solidFill>
                <a:srgbClr val="0099ff"/>
              </a:solidFill>
              <a:latin typeface="Verdana"/>
            </a:endParaRPr>
          </a:p>
        </p:txBody>
      </p:sp>
      <p:pic>
        <p:nvPicPr>
          <p:cNvPr id="2100" name="break" descr=""/>
          <p:cNvPicPr/>
          <p:nvPr/>
        </p:nvPicPr>
        <p:blipFill>
          <a:blip r:embed="rId2"/>
          <a:stretch/>
        </p:blipFill>
        <p:spPr>
          <a:xfrm>
            <a:off x="2895480" y="1066680"/>
            <a:ext cx="1457280" cy="12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1" name="peacock2001white" descr=""/>
          <p:cNvPicPr/>
          <p:nvPr/>
        </p:nvPicPr>
        <p:blipFill>
          <a:blip r:embed="rId2"/>
          <a:stretch/>
        </p:blipFill>
        <p:spPr>
          <a:xfrm>
            <a:off x="533520" y="76320"/>
            <a:ext cx="3181320" cy="2292120"/>
          </a:xfrm>
          <a:prstGeom prst="rect">
            <a:avLst/>
          </a:prstGeom>
          <a:ln w="0">
            <a:noFill/>
          </a:ln>
        </p:spPr>
      </p:pic>
      <p:pic>
        <p:nvPicPr>
          <p:cNvPr id="2102" name="web_picture" descr=""/>
          <p:cNvPicPr/>
          <p:nvPr/>
        </p:nvPicPr>
        <p:blipFill>
          <a:blip r:embed="rId3"/>
          <a:stretch/>
        </p:blipFill>
        <p:spPr>
          <a:xfrm>
            <a:off x="3429000" y="533520"/>
            <a:ext cx="971640" cy="965160"/>
          </a:xfrm>
          <a:prstGeom prst="rect">
            <a:avLst/>
          </a:prstGeom>
          <a:ln w="0">
            <a:noFill/>
          </a:ln>
        </p:spPr>
      </p:pic>
      <p:pic>
        <p:nvPicPr>
          <p:cNvPr id="2103" name="protein_map1%20copy.pdf" descr=""/>
          <p:cNvPicPr/>
          <p:nvPr/>
        </p:nvPicPr>
        <p:blipFill>
          <a:blip r:embed="rId4"/>
          <a:stretch/>
        </p:blipFill>
        <p:spPr>
          <a:xfrm>
            <a:off x="609480" y="2286000"/>
            <a:ext cx="1292400" cy="1219320"/>
          </a:xfrm>
          <a:prstGeom prst="rect">
            <a:avLst/>
          </a:prstGeom>
          <a:ln w="0">
            <a:noFill/>
          </a:ln>
        </p:spPr>
      </p:pic>
      <p:sp>
        <p:nvSpPr>
          <p:cNvPr id="2104" name=""/>
          <p:cNvSpPr/>
          <p:nvPr/>
        </p:nvSpPr>
        <p:spPr>
          <a:xfrm>
            <a:off x="2133720" y="2514600"/>
            <a:ext cx="2438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New Science of Networks has begu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95200" y="1647720"/>
            <a:ext cx="482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j0138937(p)" descr="Click To Download"/>
          <p:cNvPicPr/>
          <p:nvPr/>
        </p:nvPicPr>
        <p:blipFill>
          <a:blip r:embed="rId2"/>
          <a:stretch/>
        </p:blipFill>
        <p:spPr>
          <a:xfrm>
            <a:off x="2057400" y="304920"/>
            <a:ext cx="1778040" cy="1778040"/>
          </a:xfrm>
          <a:prstGeom prst="rect">
            <a:avLst/>
          </a:prstGeom>
          <a:ln w="0">
            <a:noFill/>
          </a:ln>
        </p:spPr>
      </p:pic>
      <p:pic>
        <p:nvPicPr>
          <p:cNvPr id="112" name="j0213019(p)" descr="Click To Download"/>
          <p:cNvPicPr/>
          <p:nvPr/>
        </p:nvPicPr>
        <p:blipFill>
          <a:blip r:embed="rId3"/>
          <a:stretch/>
        </p:blipFill>
        <p:spPr>
          <a:xfrm>
            <a:off x="3581280" y="609480"/>
            <a:ext cx="355680" cy="355680"/>
          </a:xfrm>
          <a:prstGeom prst="rect">
            <a:avLst/>
          </a:prstGeom>
          <a:ln w="0">
            <a:noFill/>
          </a:ln>
        </p:spPr>
      </p:pic>
      <p:pic>
        <p:nvPicPr>
          <p:cNvPr id="113" name="j0213019(p)" descr="Click To Download"/>
          <p:cNvPicPr/>
          <p:nvPr/>
        </p:nvPicPr>
        <p:blipFill>
          <a:blip r:embed="rId4"/>
          <a:stretch/>
        </p:blipFill>
        <p:spPr>
          <a:xfrm>
            <a:off x="3733920" y="990720"/>
            <a:ext cx="355320" cy="355320"/>
          </a:xfrm>
          <a:prstGeom prst="rect">
            <a:avLst/>
          </a:prstGeom>
          <a:ln w="0">
            <a:noFill/>
          </a:ln>
        </p:spPr>
      </p:pic>
      <p:pic>
        <p:nvPicPr>
          <p:cNvPr id="114" name="j0213019(p)" descr="Click To Download"/>
          <p:cNvPicPr/>
          <p:nvPr/>
        </p:nvPicPr>
        <p:blipFill>
          <a:blip r:embed="rId5"/>
          <a:stretch/>
        </p:blipFill>
        <p:spPr>
          <a:xfrm>
            <a:off x="3886200" y="1371600"/>
            <a:ext cx="355680" cy="355680"/>
          </a:xfrm>
          <a:prstGeom prst="rect">
            <a:avLst/>
          </a:prstGeom>
          <a:ln w="0">
            <a:noFill/>
          </a:ln>
        </p:spPr>
      </p:pic>
      <p:pic>
        <p:nvPicPr>
          <p:cNvPr id="115" name="j0213019(p)" descr="Click To Download"/>
          <p:cNvPicPr/>
          <p:nvPr/>
        </p:nvPicPr>
        <p:blipFill>
          <a:blip r:embed="rId6"/>
          <a:stretch/>
        </p:blipFill>
        <p:spPr>
          <a:xfrm>
            <a:off x="3962520" y="609480"/>
            <a:ext cx="355320" cy="355680"/>
          </a:xfrm>
          <a:prstGeom prst="rect">
            <a:avLst/>
          </a:prstGeom>
          <a:ln w="0">
            <a:noFill/>
          </a:ln>
        </p:spPr>
      </p:pic>
      <p:pic>
        <p:nvPicPr>
          <p:cNvPr id="116" name="j0213019(p)" descr="Click To Download"/>
          <p:cNvPicPr/>
          <p:nvPr/>
        </p:nvPicPr>
        <p:blipFill>
          <a:blip r:embed="rId7"/>
          <a:stretch/>
        </p:blipFill>
        <p:spPr>
          <a:xfrm>
            <a:off x="4114800" y="990720"/>
            <a:ext cx="355680" cy="3553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981080" y="2438280"/>
            <a:ext cx="25146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fiaBo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5-year old Canadi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BS00614_(p)" descr="Click To Download"/>
          <p:cNvPicPr/>
          <p:nvPr/>
        </p:nvPicPr>
        <p:blipFill>
          <a:blip r:embed="rId8"/>
          <a:stretch/>
        </p:blipFill>
        <p:spPr>
          <a:xfrm>
            <a:off x="1676520" y="304920"/>
            <a:ext cx="822240" cy="8222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990720" y="9907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$$$$$$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mafiaboy" descr=""/>
          <p:cNvPicPr/>
          <p:nvPr/>
        </p:nvPicPr>
        <p:blipFill>
          <a:blip r:embed="rId9"/>
          <a:stretch/>
        </p:blipFill>
        <p:spPr>
          <a:xfrm>
            <a:off x="914400" y="1981080"/>
            <a:ext cx="866880" cy="8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BD00028_(p)" descr="Click To Download"/>
          <p:cNvPicPr/>
          <p:nvPr/>
        </p:nvPicPr>
        <p:blipFill>
          <a:blip r:embed="rId2"/>
          <a:stretch/>
        </p:blipFill>
        <p:spPr>
          <a:xfrm>
            <a:off x="1143000" y="127080"/>
            <a:ext cx="3301920" cy="33019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295200" y="1647720"/>
            <a:ext cx="482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57240" y="838080"/>
            <a:ext cx="3643200" cy="7653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23400" bIns="234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If a mere youth can wreak havoc on the Internet, what could a small group of trained and skilled professionals achieve?” </a:t>
            </a: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- Barabasi</a:t>
            </a:r>
            <a:endParaRPr b="1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957240" y="1859040"/>
            <a:ext cx="3379680" cy="28080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23400" bIns="234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1" i="1" lang="en-US" sz="1700" spc="-1" strike="noStrike">
                <a:solidFill>
                  <a:srgbClr val="000000"/>
                </a:solidFill>
                <a:latin typeface="Verdana"/>
              </a:rPr>
              <a:t>How vulnerable are we?</a:t>
            </a:r>
            <a:endParaRPr b="1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69520" y="222120"/>
            <a:ext cx="4257720" cy="36360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23400" bIns="23400" anchor="t">
            <a:no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Verdana"/>
              </a:rPr>
              <a:t>The Problem</a:t>
            </a:r>
            <a:endParaRPr b="1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69520" y="837720"/>
            <a:ext cx="4257720" cy="15256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23400" bIns="23400" anchor="t">
            <a:normAutofit/>
          </a:bodyPr>
          <a:p>
            <a:pPr marL="230040" indent="-230040">
              <a:lnSpc>
                <a:spcPct val="90000"/>
              </a:lnSpc>
              <a:spcBef>
                <a:spcPts val="561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Reductionism – driving research</a:t>
            </a:r>
            <a:endParaRPr b="1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439560" indent="-207720">
              <a:lnSpc>
                <a:spcPct val="90000"/>
              </a:lnSpc>
              <a:spcBef>
                <a:spcPts val="488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1" lang="en-US" sz="1300" spc="-1" strike="noStrike">
                <a:solidFill>
                  <a:srgbClr val="0099ff"/>
                </a:solidFill>
                <a:latin typeface="Verdana"/>
              </a:rPr>
              <a:t>Divide and conquer</a:t>
            </a:r>
            <a:endParaRPr b="1" lang="en-US" sz="1300" spc="-1" strike="noStrike">
              <a:solidFill>
                <a:srgbClr val="0099ff"/>
              </a:solidFill>
              <a:latin typeface="Verdana"/>
            </a:endParaRPr>
          </a:p>
          <a:p>
            <a:pPr marL="230040" indent="-230040">
              <a:lnSpc>
                <a:spcPct val="90000"/>
              </a:lnSpc>
              <a:spcBef>
                <a:spcPts val="561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Reassembly is much harder</a:t>
            </a:r>
            <a:endParaRPr b="1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439560" indent="-207720">
              <a:lnSpc>
                <a:spcPct val="90000"/>
              </a:lnSpc>
              <a:spcBef>
                <a:spcPts val="488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1" lang="en-US" sz="1300" spc="-1" strike="noStrike">
                <a:solidFill>
                  <a:srgbClr val="0099ff"/>
                </a:solidFill>
                <a:latin typeface="Verdana"/>
              </a:rPr>
              <a:t>Complex puzzle</a:t>
            </a:r>
            <a:endParaRPr b="1" lang="en-US" sz="1300" spc="-1" strike="noStrike">
              <a:solidFill>
                <a:srgbClr val="0099ff"/>
              </a:solidFill>
              <a:latin typeface="Verdana"/>
            </a:endParaRPr>
          </a:p>
          <a:p>
            <a:pPr lvl="1" marL="439560" indent="-207720">
              <a:lnSpc>
                <a:spcPct val="90000"/>
              </a:lnSpc>
              <a:spcBef>
                <a:spcPts val="488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1" lang="en-US" sz="1300" spc="-1" strike="noStrike">
                <a:solidFill>
                  <a:srgbClr val="0099ff"/>
                </a:solidFill>
                <a:latin typeface="Verdana"/>
              </a:rPr>
              <a:t>Many combinations</a:t>
            </a:r>
            <a:endParaRPr b="1" lang="en-US" sz="1300" spc="-1" strike="noStrike">
              <a:solidFill>
                <a:srgbClr val="0099ff"/>
              </a:solidFill>
              <a:latin typeface="Verdana"/>
            </a:endParaRPr>
          </a:p>
          <a:p>
            <a:pPr marL="230040" indent="-230040">
              <a:lnSpc>
                <a:spcPct val="90000"/>
              </a:lnSpc>
              <a:spcBef>
                <a:spcPts val="561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Self-organization is a mystery</a:t>
            </a:r>
            <a:endParaRPr b="1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"/>
          <p:cNvSpPr/>
          <p:nvPr/>
        </p:nvSpPr>
        <p:spPr>
          <a:xfrm>
            <a:off x="393840" y="1932120"/>
            <a:ext cx="4344840" cy="830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7880" rIns="47880" tIns="24120" bIns="24120" anchor="t">
            <a:noAutofit/>
          </a:bodyPr>
          <a:p>
            <a:pPr marL="179280" indent="-179280">
              <a:spcBef>
                <a:spcPts val="374"/>
              </a:spcBef>
              <a:buClr>
                <a:srgbClr val="ffffff"/>
              </a:buClr>
              <a:buFont typeface="Arial"/>
              <a:buChar char="•"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euler-blau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990720" y="914400"/>
            <a:ext cx="1422360" cy="787320"/>
          </a:xfrm>
          <a:prstGeom prst="rect">
            <a:avLst/>
          </a:prstGeom>
          <a:ln w="0">
            <a:noFill/>
          </a:ln>
        </p:spPr>
      </p:pic>
      <p:pic>
        <p:nvPicPr>
          <p:cNvPr id="129" name="nov1prus" descr=""/>
          <p:cNvPicPr/>
          <p:nvPr/>
        </p:nvPicPr>
        <p:blipFill>
          <a:blip r:embed="rId4"/>
          <a:stretch/>
        </p:blipFill>
        <p:spPr>
          <a:xfrm>
            <a:off x="2209680" y="76320"/>
            <a:ext cx="1168560" cy="8794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505320" y="76320"/>
            <a:ext cx="0" cy="3124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505320" y="53352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05320" y="304812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657600" y="2819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8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657600" y="304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7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505320" y="175248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657600" y="15238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7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600200" y="15228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us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Euler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09480" y="1447920"/>
            <a:ext cx="574920" cy="7110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1219320" y="1600200"/>
            <a:ext cx="99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onhard Eu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362320" y="1066680"/>
            <a:ext cx="1066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önigsberg’s Brid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646280" y="9381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646280" y="11541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932120" y="9716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031840" y="1506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49600" y="11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768320" y="9320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1814400" y="11779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euler-blau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676520" y="2438280"/>
            <a:ext cx="1422360" cy="7876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2332080" y="246204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332080" y="267804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617920" y="24955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717640" y="303048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435400" y="268128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454120" y="2455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2500200" y="27018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057400" y="2666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9480" y="2514600"/>
            <a:ext cx="1143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irth of Graph the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j0078717(p)" descr="Click To Download"/>
          <p:cNvPicPr/>
          <p:nvPr/>
        </p:nvPicPr>
        <p:blipFill>
          <a:blip r:embed="rId2"/>
          <a:stretch/>
        </p:blipFill>
        <p:spPr>
          <a:xfrm>
            <a:off x="685800" y="1219320"/>
            <a:ext cx="517680" cy="517320"/>
          </a:xfrm>
          <a:prstGeom prst="rect">
            <a:avLst/>
          </a:prstGeom>
          <a:ln w="0">
            <a:noFill/>
          </a:ln>
        </p:spPr>
      </p:pic>
      <p:pic>
        <p:nvPicPr>
          <p:cNvPr id="159" name="j0078733(p)" descr="Click To Download"/>
          <p:cNvPicPr/>
          <p:nvPr/>
        </p:nvPicPr>
        <p:blipFill>
          <a:blip r:embed="rId3"/>
          <a:stretch/>
        </p:blipFill>
        <p:spPr>
          <a:xfrm>
            <a:off x="762120" y="1828800"/>
            <a:ext cx="517320" cy="517680"/>
          </a:xfrm>
          <a:prstGeom prst="rect">
            <a:avLst/>
          </a:prstGeom>
          <a:ln w="0">
            <a:noFill/>
          </a:ln>
        </p:spPr>
      </p:pic>
      <p:pic>
        <p:nvPicPr>
          <p:cNvPr id="160" name="j0078708(p)" descr="Click To Download"/>
          <p:cNvPicPr/>
          <p:nvPr/>
        </p:nvPicPr>
        <p:blipFill>
          <a:blip r:embed="rId4"/>
          <a:stretch/>
        </p:blipFill>
        <p:spPr>
          <a:xfrm>
            <a:off x="838080" y="228600"/>
            <a:ext cx="812880" cy="812880"/>
          </a:xfrm>
          <a:prstGeom prst="rect">
            <a:avLst/>
          </a:prstGeom>
          <a:ln w="0">
            <a:noFill/>
          </a:ln>
        </p:spPr>
      </p:pic>
      <p:pic>
        <p:nvPicPr>
          <p:cNvPr id="161" name="FD01186_(p)" descr="Click To Download"/>
          <p:cNvPicPr/>
          <p:nvPr/>
        </p:nvPicPr>
        <p:blipFill>
          <a:blip r:embed="rId5"/>
          <a:stretch/>
        </p:blipFill>
        <p:spPr>
          <a:xfrm>
            <a:off x="3429000" y="2514600"/>
            <a:ext cx="660240" cy="660240"/>
          </a:xfrm>
          <a:prstGeom prst="rect">
            <a:avLst/>
          </a:prstGeom>
          <a:ln w="0">
            <a:noFill/>
          </a:ln>
        </p:spPr>
      </p:pic>
      <p:pic>
        <p:nvPicPr>
          <p:cNvPr id="162" name="j0078740(p)" descr="Click To Download"/>
          <p:cNvPicPr/>
          <p:nvPr/>
        </p:nvPicPr>
        <p:blipFill>
          <a:blip r:embed="rId6"/>
          <a:stretch/>
        </p:blipFill>
        <p:spPr>
          <a:xfrm>
            <a:off x="1219320" y="1371600"/>
            <a:ext cx="517320" cy="517680"/>
          </a:xfrm>
          <a:prstGeom prst="rect">
            <a:avLst/>
          </a:prstGeom>
          <a:ln w="0">
            <a:noFill/>
          </a:ln>
        </p:spPr>
      </p:pic>
      <p:pic>
        <p:nvPicPr>
          <p:cNvPr id="163" name="j0078717(p)" descr="Click To Download"/>
          <p:cNvPicPr/>
          <p:nvPr/>
        </p:nvPicPr>
        <p:blipFill>
          <a:blip r:embed="rId7"/>
          <a:stretch/>
        </p:blipFill>
        <p:spPr>
          <a:xfrm>
            <a:off x="1828800" y="1676520"/>
            <a:ext cx="517680" cy="517320"/>
          </a:xfrm>
          <a:prstGeom prst="rect">
            <a:avLst/>
          </a:prstGeom>
          <a:ln w="0">
            <a:noFill/>
          </a:ln>
        </p:spPr>
      </p:pic>
      <p:pic>
        <p:nvPicPr>
          <p:cNvPr id="164" name="j0078733(p)" descr="Click To Download"/>
          <p:cNvPicPr/>
          <p:nvPr/>
        </p:nvPicPr>
        <p:blipFill>
          <a:blip r:embed="rId8"/>
          <a:stretch/>
        </p:blipFill>
        <p:spPr>
          <a:xfrm>
            <a:off x="1905120" y="2286000"/>
            <a:ext cx="517320" cy="517680"/>
          </a:xfrm>
          <a:prstGeom prst="rect">
            <a:avLst/>
          </a:prstGeom>
          <a:ln w="0">
            <a:noFill/>
          </a:ln>
        </p:spPr>
      </p:pic>
      <p:pic>
        <p:nvPicPr>
          <p:cNvPr id="165" name="j0078740(p)" descr="Click To Download"/>
          <p:cNvPicPr/>
          <p:nvPr/>
        </p:nvPicPr>
        <p:blipFill>
          <a:blip r:embed="rId9"/>
          <a:stretch/>
        </p:blipFill>
        <p:spPr>
          <a:xfrm>
            <a:off x="2362320" y="1828800"/>
            <a:ext cx="517320" cy="517680"/>
          </a:xfrm>
          <a:prstGeom prst="rect">
            <a:avLst/>
          </a:prstGeom>
          <a:ln w="0">
            <a:noFill/>
          </a:ln>
        </p:spPr>
      </p:pic>
      <p:pic>
        <p:nvPicPr>
          <p:cNvPr id="166" name="j0078733(p)" descr="Click To Download"/>
          <p:cNvPicPr/>
          <p:nvPr/>
        </p:nvPicPr>
        <p:blipFill>
          <a:blip r:embed="rId10"/>
          <a:stretch/>
        </p:blipFill>
        <p:spPr>
          <a:xfrm>
            <a:off x="3048120" y="1219320"/>
            <a:ext cx="517320" cy="517320"/>
          </a:xfrm>
          <a:prstGeom prst="rect">
            <a:avLst/>
          </a:prstGeom>
          <a:ln w="0">
            <a:noFill/>
          </a:ln>
        </p:spPr>
      </p:pic>
      <p:pic>
        <p:nvPicPr>
          <p:cNvPr id="167" name="j0078740(p)" descr="Click To Download"/>
          <p:cNvPicPr/>
          <p:nvPr/>
        </p:nvPicPr>
        <p:blipFill>
          <a:blip r:embed="rId11"/>
          <a:stretch/>
        </p:blipFill>
        <p:spPr>
          <a:xfrm>
            <a:off x="3429000" y="1219320"/>
            <a:ext cx="517680" cy="517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1600200" y="45720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= 100 guests who don’t know any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85800" y="2819520"/>
            <a:ext cx="2971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ow long before your expensive port wine is over? 16 hours / 30 m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57240" y="503280"/>
            <a:ext cx="3643200" cy="36360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23400" bIns="234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Verdana"/>
              </a:rPr>
              <a:t>Complex Networks</a:t>
            </a:r>
            <a:endParaRPr b="1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957240" y="1523880"/>
            <a:ext cx="3379680" cy="36360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23400" bIns="234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Verdana"/>
              </a:rPr>
              <a:t>Random Networks</a:t>
            </a:r>
            <a:endParaRPr b="1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2286000" y="960480"/>
            <a:ext cx="304920" cy="533520"/>
          </a:xfrm>
          <a:prstGeom prst="downArrow">
            <a:avLst>
              <a:gd name="adj1" fmla="val 50000"/>
              <a:gd name="adj2" fmla="val 43743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erdos-final" descr=""/>
          <p:cNvPicPr/>
          <p:nvPr/>
        </p:nvPicPr>
        <p:blipFill>
          <a:blip r:embed="rId2"/>
          <a:stretch/>
        </p:blipFill>
        <p:spPr>
          <a:xfrm>
            <a:off x="1752480" y="2057400"/>
            <a:ext cx="755640" cy="885960"/>
          </a:xfrm>
          <a:prstGeom prst="rect">
            <a:avLst/>
          </a:prstGeom>
          <a:ln w="0">
            <a:noFill/>
          </a:ln>
        </p:spPr>
      </p:pic>
      <p:pic>
        <p:nvPicPr>
          <p:cNvPr id="174" name="RENYI" descr=""/>
          <p:cNvPicPr/>
          <p:nvPr/>
        </p:nvPicPr>
        <p:blipFill>
          <a:blip r:embed="rId3"/>
          <a:srcRect l="0" t="0" r="0" b="8145"/>
          <a:stretch/>
        </p:blipFill>
        <p:spPr>
          <a:xfrm>
            <a:off x="2514600" y="2057400"/>
            <a:ext cx="787320" cy="87804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297180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ul Erdös and Alfr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é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 R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é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y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2T21:37:57Z</dcterms:created>
  <dc:creator>Michael J. Gelb</dc:creator>
  <dc:description>Formatted:  Dionne Miller, Silver Fox </dc:description>
  <dc:language>en-US</dc:language>
  <cp:lastModifiedBy>Mujtaba Khambatti</cp:lastModifiedBy>
  <dcterms:modified xsi:type="dcterms:W3CDTF">2003-04-24T22:08:33Z</dcterms:modified>
  <cp:revision>103</cp:revision>
  <dc:subject>Seminar Online</dc:subject>
  <dc:title>How To Think Like Leonardo da Vinci</dc:title>
</cp:coreProperties>
</file>