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79A-3BCB-4F25-ACFD-C23CBDEC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A78-66F2-4768-A4CE-7B484E46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327-586F-4403-A168-F48D8193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7CF-CF64-4530-B52D-55450689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F017-6D0A-460D-A295-2DBB32E4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DCBC-B5E9-46A9-8491-06CE97EE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0CAD-9E2C-4C78-BD45-A97881B7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B6EA-3125-474C-B7FE-26C7DF56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05CC-122D-40B6-87F8-33902E5D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293F-AD00-43C6-8051-B342CF32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3E83-8E9A-461E-A60B-5199183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796-8D35-45C7-B19E-3B663734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B096-735C-488D-91CB-DF6899FC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361B-C3E3-4197-AE91-4665D190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1EF6-87BA-4AFB-B169-AC670D03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63E4-7ADE-4A42-8C1E-C25B38D7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0322-4AE2-4A80-AF68-BD18D228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DE4-32A8-4254-AAC1-AF1DBC3B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768-F1CE-457F-BEA9-A736766D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F86-2772-437A-86CD-FA6A290B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81E-7C17-4AD8-95C9-67DA711F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7E1-E1CF-4B36-97DA-19A7C8CD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83D-B68D-48E8-91BB-1E1BC826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869-7CA3-4F34-A96B-4B2F99B1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P I P E S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23920" y="37335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er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426708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0" i="1" lang="en-US" sz="2800" spc="-1" strike="noStrike">
                <a:solidFill>
                  <a:srgbClr val="c0c0c0"/>
                </a:solidFill>
                <a:latin typeface="Arial"/>
              </a:rPr>
              <a:t>for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80060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533412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586728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alk-throug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art a PIPES Client on any Machine that is part of the same dom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PESCli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131840" y="2091240"/>
            <a:ext cx="3897360" cy="1414080"/>
            <a:chOff x="1131840" y="2091240"/>
            <a:chExt cx="3897360" cy="1414080"/>
          </a:xfrm>
        </p:grpSpPr>
        <p:grpSp>
          <p:nvGrpSpPr>
            <p:cNvPr id="118" name=""/>
            <p:cNvGrpSpPr/>
            <p:nvPr/>
          </p:nvGrpSpPr>
          <p:grpSpPr>
            <a:xfrm>
              <a:off x="2971440" y="2362320"/>
              <a:ext cx="2057760" cy="1143000"/>
              <a:chOff x="2971440" y="2362320"/>
              <a:chExt cx="2057760" cy="1143000"/>
            </a:xfrm>
          </p:grpSpPr>
          <p:sp>
            <p:nvSpPr>
              <p:cNvPr id="119" name=""/>
              <p:cNvSpPr/>
              <p:nvPr/>
            </p:nvSpPr>
            <p:spPr>
              <a:xfrm>
                <a:off x="4419360" y="2362320"/>
                <a:ext cx="609840" cy="1143000"/>
              </a:xfrm>
              <a:custGeom>
                <a:avLst/>
                <a:gdLst>
                  <a:gd name="textAreaLeft" fmla="*/ 179280 w 609840"/>
                  <a:gd name="textAreaRight" fmla="*/ 610200 w 609840"/>
                  <a:gd name="textAreaTop" fmla="*/ 285840 h 1143000"/>
                  <a:gd name="textAreaBottom" fmla="*/ 85752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cap="sq" w="1015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71440" y="2971800"/>
                <a:ext cx="1447560" cy="0"/>
              </a:xfrm>
              <a:prstGeom prst="line">
                <a:avLst/>
              </a:prstGeom>
              <a:ln cap="sq" w="1015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rot="6828600">
              <a:off x="1866600" y="1731960"/>
              <a:ext cx="457200" cy="1905120"/>
            </a:xfrm>
            <a:prstGeom prst="lightningBolt">
              <a:avLst/>
            </a:prstGeom>
            <a:solidFill>
              <a:srgbClr val="008000"/>
            </a:solidFill>
            <a:ln cap="sq"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72000" y="2514600"/>
            <a:ext cx="3930480" cy="838080"/>
            <a:chOff x="4572000" y="2514600"/>
            <a:chExt cx="3930480" cy="838080"/>
          </a:xfrm>
        </p:grpSpPr>
        <p:grpSp>
          <p:nvGrpSpPr>
            <p:cNvPr id="123" name=""/>
            <p:cNvGrpSpPr/>
            <p:nvPr/>
          </p:nvGrpSpPr>
          <p:grpSpPr>
            <a:xfrm>
              <a:off x="4572000" y="2514600"/>
              <a:ext cx="2286000" cy="838080"/>
              <a:chOff x="4572000" y="2514600"/>
              <a:chExt cx="2286000" cy="838080"/>
            </a:xfrm>
          </p:grpSpPr>
          <p:sp>
            <p:nvSpPr>
              <p:cNvPr id="124" name=""/>
              <p:cNvSpPr/>
              <p:nvPr/>
            </p:nvSpPr>
            <p:spPr>
              <a:xfrm>
                <a:off x="4572000" y="2514600"/>
                <a:ext cx="838080" cy="838080"/>
              </a:xfrm>
              <a:prstGeom prst="ellipse">
                <a:avLst/>
              </a:prstGeom>
              <a:solidFill>
                <a:srgbClr val="c0c0c0"/>
              </a:solidFill>
              <a:ln cap="sq"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5410080" y="2971440"/>
                <a:ext cx="1447920" cy="0"/>
              </a:xfrm>
              <a:prstGeom prst="line">
                <a:avLst/>
              </a:prstGeom>
              <a:ln cap="sq"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 flipV="1" rot="5398800">
              <a:off x="7281720" y="1799280"/>
              <a:ext cx="471600" cy="1968480"/>
            </a:xfrm>
            <a:prstGeom prst="lightningBolt">
              <a:avLst/>
            </a:prstGeom>
            <a:solidFill>
              <a:srgbClr val="c0c0c0"/>
            </a:solidFill>
            <a:ln cap="sq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421320" y="2868120"/>
              <a:ext cx="228600" cy="87480"/>
            </a:xfrm>
            <a:prstGeom prst="line">
              <a:avLst/>
            </a:prstGeom>
            <a:ln cap="sq" w="114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971440" y="5410080"/>
            <a:ext cx="34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960" y="457200"/>
            <a:ext cx="345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89440" y="457200"/>
            <a:ext cx="34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Times New Roman"/>
              </a:rPr>
              <a:t>CLIENT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827360" y="3809880"/>
            <a:ext cx="1677960" cy="1067040"/>
            <a:chOff x="1827360" y="3809880"/>
            <a:chExt cx="1677960" cy="1067040"/>
          </a:xfrm>
        </p:grpSpPr>
        <p:sp>
          <p:nvSpPr>
            <p:cNvPr id="132" name=""/>
            <p:cNvSpPr/>
            <p:nvPr/>
          </p:nvSpPr>
          <p:spPr>
            <a:xfrm>
              <a:off x="2438280" y="3809880"/>
              <a:ext cx="1067040" cy="1067040"/>
            </a:xfrm>
            <a:prstGeom prst="flowChartMultidocument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376600">
              <a:off x="1866960" y="4152960"/>
              <a:ext cx="457200" cy="533520"/>
            </a:xfrm>
            <a:prstGeom prst="flowChartMerg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238880" y="6262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00: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1131840" y="2091240"/>
            <a:ext cx="3897360" cy="1414080"/>
            <a:chOff x="1131840" y="2091240"/>
            <a:chExt cx="3897360" cy="1414080"/>
          </a:xfrm>
        </p:grpSpPr>
        <p:grpSp>
          <p:nvGrpSpPr>
            <p:cNvPr id="136" name=""/>
            <p:cNvGrpSpPr/>
            <p:nvPr/>
          </p:nvGrpSpPr>
          <p:grpSpPr>
            <a:xfrm>
              <a:off x="2971440" y="2362320"/>
              <a:ext cx="2057760" cy="1143000"/>
              <a:chOff x="2971440" y="2362320"/>
              <a:chExt cx="2057760" cy="1143000"/>
            </a:xfrm>
          </p:grpSpPr>
          <p:sp>
            <p:nvSpPr>
              <p:cNvPr id="137" name=""/>
              <p:cNvSpPr/>
              <p:nvPr/>
            </p:nvSpPr>
            <p:spPr>
              <a:xfrm>
                <a:off x="4419360" y="2362320"/>
                <a:ext cx="609840" cy="1143000"/>
              </a:xfrm>
              <a:custGeom>
                <a:avLst/>
                <a:gdLst>
                  <a:gd name="textAreaLeft" fmla="*/ 179280 w 609840"/>
                  <a:gd name="textAreaRight" fmla="*/ 610200 w 609840"/>
                  <a:gd name="textAreaTop" fmla="*/ 285840 h 1143000"/>
                  <a:gd name="textAreaBottom" fmla="*/ 85752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cap="sq" w="1015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2971440" y="2971800"/>
                <a:ext cx="1447560" cy="0"/>
              </a:xfrm>
              <a:prstGeom prst="line">
                <a:avLst/>
              </a:prstGeom>
              <a:ln cap="sq" w="1015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rot="6828600">
              <a:off x="1866600" y="1731960"/>
              <a:ext cx="457200" cy="1905120"/>
            </a:xfrm>
            <a:prstGeom prst="lightningBolt">
              <a:avLst/>
            </a:prstGeom>
            <a:solidFill>
              <a:srgbClr val="008000"/>
            </a:solidFill>
            <a:ln cap="sq"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72000" y="2514600"/>
            <a:ext cx="3930480" cy="838080"/>
            <a:chOff x="4572000" y="2514600"/>
            <a:chExt cx="3930480" cy="838080"/>
          </a:xfrm>
        </p:grpSpPr>
        <p:grpSp>
          <p:nvGrpSpPr>
            <p:cNvPr id="141" name=""/>
            <p:cNvGrpSpPr/>
            <p:nvPr/>
          </p:nvGrpSpPr>
          <p:grpSpPr>
            <a:xfrm>
              <a:off x="4572000" y="2514600"/>
              <a:ext cx="2286000" cy="838080"/>
              <a:chOff x="4572000" y="2514600"/>
              <a:chExt cx="2286000" cy="83808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0" y="2514600"/>
                <a:ext cx="838080" cy="838080"/>
              </a:xfrm>
              <a:prstGeom prst="ellipse">
                <a:avLst/>
              </a:prstGeom>
              <a:solidFill>
                <a:srgbClr val="c0c0c0"/>
              </a:solidFill>
              <a:ln cap="sq"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5410080" y="2971440"/>
                <a:ext cx="1447920" cy="0"/>
              </a:xfrm>
              <a:prstGeom prst="line">
                <a:avLst/>
              </a:prstGeom>
              <a:ln cap="sq"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 flipV="1" rot="5398800">
              <a:off x="7281720" y="1799280"/>
              <a:ext cx="471600" cy="1968480"/>
            </a:xfrm>
            <a:prstGeom prst="lightningBolt">
              <a:avLst/>
            </a:prstGeom>
            <a:solidFill>
              <a:srgbClr val="c0c0c0"/>
            </a:solidFill>
            <a:ln cap="sq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421320" y="2868120"/>
              <a:ext cx="228600" cy="87480"/>
            </a:xfrm>
            <a:prstGeom prst="line">
              <a:avLst/>
            </a:prstGeom>
            <a:ln cap="sq" w="114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440" y="5410080"/>
            <a:ext cx="34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9960" y="457200"/>
            <a:ext cx="345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89440" y="457200"/>
            <a:ext cx="34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Times New Roman"/>
              </a:rPr>
              <a:t>CLIENT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827360" y="3809880"/>
            <a:ext cx="1677960" cy="1067040"/>
            <a:chOff x="1827360" y="3809880"/>
            <a:chExt cx="1677960" cy="1067040"/>
          </a:xfrm>
        </p:grpSpPr>
        <p:sp>
          <p:nvSpPr>
            <p:cNvPr id="150" name=""/>
            <p:cNvSpPr/>
            <p:nvPr/>
          </p:nvSpPr>
          <p:spPr>
            <a:xfrm>
              <a:off x="2438280" y="3809880"/>
              <a:ext cx="1067040" cy="1067040"/>
            </a:xfrm>
            <a:prstGeom prst="flowChartMultidocument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376600">
              <a:off x="1866960" y="4152960"/>
              <a:ext cx="457200" cy="533520"/>
            </a:xfrm>
            <a:prstGeom prst="flowChartMerg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238880" y="6262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00: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67480" y="29718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867280" y="473076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590920" y="4724280"/>
            <a:ext cx="1258920" cy="1136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838080" y="2971800"/>
            <a:ext cx="1258920" cy="113652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3201840" y="2250720"/>
            <a:ext cx="743040" cy="833400"/>
            <a:chOff x="3201840" y="2250720"/>
            <a:chExt cx="743040" cy="833400"/>
          </a:xfrm>
        </p:grpSpPr>
        <p:sp>
          <p:nvSpPr>
            <p:cNvPr id="159" name=""/>
            <p:cNvSpPr/>
            <p:nvPr/>
          </p:nvSpPr>
          <p:spPr>
            <a:xfrm rot="7839600">
              <a:off x="3340440" y="2584440"/>
              <a:ext cx="259560" cy="485640"/>
            </a:xfrm>
            <a:custGeom>
              <a:avLst/>
              <a:gdLst>
                <a:gd name="textAreaLeft" fmla="*/ 76320 w 259560"/>
                <a:gd name="textAreaRight" fmla="*/ 259920 w 25956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solidFill>
              <a:srgbClr val="969696"/>
            </a:solidFill>
            <a:ln cap="sq"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543120" y="2250720"/>
              <a:ext cx="401760" cy="467640"/>
            </a:xfrm>
            <a:prstGeom prst="line">
              <a:avLst/>
            </a:prstGeom>
            <a:ln cap="sq"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rot="14668200">
            <a:off x="4182120" y="1643760"/>
            <a:ext cx="193680" cy="811080"/>
          </a:xfrm>
          <a:prstGeom prst="lightningBol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 rot="13237800">
            <a:off x="2640960" y="3354120"/>
            <a:ext cx="199800" cy="838080"/>
          </a:xfrm>
          <a:prstGeom prst="lightningBol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864160" y="2662560"/>
            <a:ext cx="782280" cy="846000"/>
            <a:chOff x="2864160" y="2662560"/>
            <a:chExt cx="782280" cy="846000"/>
          </a:xfrm>
        </p:grpSpPr>
        <p:grpSp>
          <p:nvGrpSpPr>
            <p:cNvPr id="164" name=""/>
            <p:cNvGrpSpPr/>
            <p:nvPr/>
          </p:nvGrpSpPr>
          <p:grpSpPr>
            <a:xfrm>
              <a:off x="2864160" y="2662560"/>
              <a:ext cx="782280" cy="846000"/>
              <a:chOff x="2864160" y="2662560"/>
              <a:chExt cx="782280" cy="846000"/>
            </a:xfrm>
          </p:grpSpPr>
          <p:sp>
            <p:nvSpPr>
              <p:cNvPr id="165" name=""/>
              <p:cNvSpPr/>
              <p:nvPr/>
            </p:nvSpPr>
            <p:spPr>
              <a:xfrm rot="7839600">
                <a:off x="3216600" y="2736000"/>
                <a:ext cx="357120" cy="35532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64160" y="3039840"/>
                <a:ext cx="402480" cy="468720"/>
              </a:xfrm>
              <a:prstGeom prst="line">
                <a:avLst/>
              </a:prstGeom>
              <a:ln cap="sq"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>
              <a:off x="2954160" y="3369600"/>
              <a:ext cx="36360" cy="98280"/>
            </a:xfrm>
            <a:prstGeom prst="line">
              <a:avLst/>
            </a:prstGeom>
            <a:ln cap="sq" w="114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918960" y="2604240"/>
            <a:ext cx="524160" cy="908280"/>
            <a:chOff x="3918960" y="2604240"/>
            <a:chExt cx="524160" cy="908280"/>
          </a:xfrm>
        </p:grpSpPr>
        <p:sp>
          <p:nvSpPr>
            <p:cNvPr id="169" name=""/>
            <p:cNvSpPr/>
            <p:nvPr/>
          </p:nvSpPr>
          <p:spPr>
            <a:xfrm rot="6011400">
              <a:off x="4051080" y="3098520"/>
              <a:ext cx="259560" cy="486000"/>
            </a:xfrm>
            <a:custGeom>
              <a:avLst/>
              <a:gdLst>
                <a:gd name="textAreaLeft" fmla="*/ 76320 w 259560"/>
                <a:gd name="textAreaRight" fmla="*/ 259920 w 259560"/>
                <a:gd name="textAreaTop" fmla="*/ 121320 h 486000"/>
                <a:gd name="textAreaBottom" fmla="*/ 36468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cap="sq"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187880" y="2604240"/>
              <a:ext cx="109080" cy="606600"/>
            </a:xfrm>
            <a:prstGeom prst="line">
              <a:avLst/>
            </a:prstGeom>
            <a:ln cap="sq"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rot="12840600">
            <a:off x="4386240" y="1854000"/>
            <a:ext cx="193680" cy="811080"/>
          </a:xfrm>
          <a:prstGeom prst="lightningBol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 rot="11410200">
            <a:off x="3931920" y="4105080"/>
            <a:ext cx="200160" cy="838440"/>
          </a:xfrm>
          <a:prstGeom prst="lightningBol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54240" y="3246120"/>
            <a:ext cx="413280" cy="987120"/>
            <a:chOff x="3954240" y="3246120"/>
            <a:chExt cx="413280" cy="987120"/>
          </a:xfrm>
        </p:grpSpPr>
        <p:grpSp>
          <p:nvGrpSpPr>
            <p:cNvPr id="174" name=""/>
            <p:cNvGrpSpPr/>
            <p:nvPr/>
          </p:nvGrpSpPr>
          <p:grpSpPr>
            <a:xfrm>
              <a:off x="3954240" y="3246120"/>
              <a:ext cx="413280" cy="987120"/>
              <a:chOff x="3954240" y="3246120"/>
              <a:chExt cx="413280" cy="987120"/>
            </a:xfrm>
          </p:grpSpPr>
          <p:sp>
            <p:nvSpPr>
              <p:cNvPr id="175" name=""/>
              <p:cNvSpPr/>
              <p:nvPr/>
            </p:nvSpPr>
            <p:spPr>
              <a:xfrm rot="6011400">
                <a:off x="3982320" y="3275280"/>
                <a:ext cx="357120" cy="3556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4004640" y="3625920"/>
                <a:ext cx="109440" cy="607320"/>
              </a:xfrm>
              <a:prstGeom prst="line">
                <a:avLst/>
              </a:prstGeom>
              <a:ln cap="sq"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042800" y="4049640"/>
              <a:ext cx="18720" cy="103320"/>
            </a:xfrm>
            <a:prstGeom prst="line">
              <a:avLst/>
            </a:prstGeom>
            <a:ln cap="sq" w="114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768920" y="2602440"/>
            <a:ext cx="546120" cy="900720"/>
            <a:chOff x="4768920" y="2602440"/>
            <a:chExt cx="546120" cy="900720"/>
          </a:xfrm>
        </p:grpSpPr>
        <p:sp>
          <p:nvSpPr>
            <p:cNvPr id="179" name=""/>
            <p:cNvSpPr/>
            <p:nvPr/>
          </p:nvSpPr>
          <p:spPr>
            <a:xfrm rot="4188000">
              <a:off x="4912200" y="3054240"/>
              <a:ext cx="259560" cy="486000"/>
            </a:xfrm>
            <a:custGeom>
              <a:avLst/>
              <a:gdLst>
                <a:gd name="textAreaLeft" fmla="*/ 76320 w 259560"/>
                <a:gd name="textAreaRight" fmla="*/ 259920 w 259560"/>
                <a:gd name="textAreaTop" fmla="*/ 121320 h 486000"/>
                <a:gd name="textAreaBottom" fmla="*/ 36468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cap="sq"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4768920" y="2602440"/>
              <a:ext cx="213120" cy="578520"/>
            </a:xfrm>
            <a:prstGeom prst="line">
              <a:avLst/>
            </a:prstGeom>
            <a:ln cap="sq"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 rot="11016600">
            <a:off x="4659480" y="1806480"/>
            <a:ext cx="193680" cy="811440"/>
          </a:xfrm>
          <a:prstGeom prst="lightningBol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 rot="9586200">
            <a:off x="5415120" y="3978000"/>
            <a:ext cx="198360" cy="838440"/>
          </a:xfrm>
          <a:prstGeom prst="lightningBol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4240" y="3177360"/>
            <a:ext cx="498600" cy="981360"/>
            <a:chOff x="4854240" y="3177360"/>
            <a:chExt cx="498600" cy="981360"/>
          </a:xfrm>
        </p:grpSpPr>
        <p:grpSp>
          <p:nvGrpSpPr>
            <p:cNvPr id="184" name=""/>
            <p:cNvGrpSpPr/>
            <p:nvPr/>
          </p:nvGrpSpPr>
          <p:grpSpPr>
            <a:xfrm>
              <a:off x="4854240" y="3177360"/>
              <a:ext cx="487800" cy="981360"/>
              <a:chOff x="4854240" y="3177360"/>
              <a:chExt cx="487800" cy="981360"/>
            </a:xfrm>
          </p:grpSpPr>
          <p:sp>
            <p:nvSpPr>
              <p:cNvPr id="185" name=""/>
              <p:cNvSpPr/>
              <p:nvPr/>
            </p:nvSpPr>
            <p:spPr>
              <a:xfrm rot="4188000">
                <a:off x="4903200" y="3228840"/>
                <a:ext cx="357120" cy="353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5128920" y="3579480"/>
                <a:ext cx="213120" cy="579240"/>
              </a:xfrm>
              <a:prstGeom prst="line">
                <a:avLst/>
              </a:prstGeom>
              <a:ln cap="sq"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284800" y="3981240"/>
              <a:ext cx="68040" cy="79920"/>
            </a:xfrm>
            <a:prstGeom prst="line">
              <a:avLst/>
            </a:prstGeom>
            <a:ln cap="sq" w="114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45200" y="2440800"/>
            <a:ext cx="856080" cy="706680"/>
            <a:chOff x="5245200" y="2440800"/>
            <a:chExt cx="856080" cy="706680"/>
          </a:xfrm>
        </p:grpSpPr>
        <p:sp>
          <p:nvSpPr>
            <p:cNvPr id="189" name=""/>
            <p:cNvSpPr/>
            <p:nvPr/>
          </p:nvSpPr>
          <p:spPr>
            <a:xfrm rot="2209800">
              <a:off x="5721840" y="2632320"/>
              <a:ext cx="259560" cy="485640"/>
            </a:xfrm>
            <a:custGeom>
              <a:avLst/>
              <a:gdLst>
                <a:gd name="textAreaLeft" fmla="*/ 76320 w 259560"/>
                <a:gd name="textAreaRight" fmla="*/ 259920 w 25956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cap="sq"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245200" y="2440800"/>
              <a:ext cx="493200" cy="369720"/>
            </a:xfrm>
            <a:prstGeom prst="line">
              <a:avLst/>
            </a:prstGeom>
            <a:ln cap="sq"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rot="9039000">
            <a:off x="4924080" y="1714320"/>
            <a:ext cx="193680" cy="811080"/>
          </a:xfrm>
          <a:prstGeom prst="lightningBol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 rot="7608600">
            <a:off x="6742440" y="3119400"/>
            <a:ext cx="200160" cy="838080"/>
          </a:xfrm>
          <a:prstGeom prst="lightningBol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693400" y="2695320"/>
            <a:ext cx="875520" cy="739080"/>
            <a:chOff x="5693400" y="2695320"/>
            <a:chExt cx="875520" cy="739080"/>
          </a:xfrm>
        </p:grpSpPr>
        <p:grpSp>
          <p:nvGrpSpPr>
            <p:cNvPr id="194" name=""/>
            <p:cNvGrpSpPr/>
            <p:nvPr/>
          </p:nvGrpSpPr>
          <p:grpSpPr>
            <a:xfrm>
              <a:off x="5693400" y="2695320"/>
              <a:ext cx="875520" cy="739080"/>
              <a:chOff x="5693400" y="2695320"/>
              <a:chExt cx="875520" cy="739080"/>
            </a:xfrm>
          </p:grpSpPr>
          <p:sp>
            <p:nvSpPr>
              <p:cNvPr id="195" name=""/>
              <p:cNvSpPr/>
              <p:nvPr/>
            </p:nvSpPr>
            <p:spPr>
              <a:xfrm rot="2209800">
                <a:off x="5763960" y="2766600"/>
                <a:ext cx="357120" cy="3556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6076080" y="3065040"/>
                <a:ext cx="492840" cy="369360"/>
              </a:xfrm>
              <a:prstGeom prst="line">
                <a:avLst/>
              </a:prstGeom>
              <a:ln cap="sq"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6424920" y="3317040"/>
              <a:ext cx="99720" cy="28800"/>
            </a:xfrm>
            <a:prstGeom prst="line">
              <a:avLst/>
            </a:prstGeom>
            <a:ln cap="sq" w="114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942560" y="3245760"/>
            <a:ext cx="607680" cy="861840"/>
          </a:xfrm>
          <a:prstGeom prst="line">
            <a:avLst/>
          </a:prstGeom>
          <a:ln cap="sq" w="572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204680" y="3302280"/>
            <a:ext cx="417240" cy="402840"/>
          </a:xfrm>
          <a:prstGeom prst="line">
            <a:avLst/>
          </a:prstGeom>
          <a:ln cap="sq" w="572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687840" y="4967280"/>
            <a:ext cx="353880" cy="55440"/>
          </a:xfrm>
          <a:prstGeom prst="line">
            <a:avLst/>
          </a:prstGeom>
          <a:ln cap="sq" w="572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690160" y="4694400"/>
            <a:ext cx="323640" cy="363960"/>
          </a:xfrm>
          <a:prstGeom prst="line">
            <a:avLst/>
          </a:prstGeom>
          <a:ln cap="sq" w="572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336680"/>
            <a:ext cx="0" cy="492120"/>
          </a:xfrm>
          <a:prstGeom prst="line">
            <a:avLst/>
          </a:prstGeom>
          <a:ln cap="sq" w="63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1066680" y="457200"/>
            <a:ext cx="1384560" cy="1447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2280" y="198108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T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0880" y="38088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5280" y="419112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PES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7920" y="594360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PES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0960" y="594360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PES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160" y="419112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PES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495040" y="1801800"/>
            <a:ext cx="912240" cy="533880"/>
            <a:chOff x="5495040" y="1801800"/>
            <a:chExt cx="912240" cy="533880"/>
          </a:xfrm>
        </p:grpSpPr>
        <p:sp>
          <p:nvSpPr>
            <p:cNvPr id="211" name=""/>
            <p:cNvSpPr/>
            <p:nvPr/>
          </p:nvSpPr>
          <p:spPr>
            <a:xfrm rot="825600">
              <a:off x="6093720" y="1825560"/>
              <a:ext cx="259560" cy="486000"/>
            </a:xfrm>
            <a:custGeom>
              <a:avLst/>
              <a:gdLst>
                <a:gd name="textAreaLeft" fmla="*/ 76320 w 259560"/>
                <a:gd name="textAreaRight" fmla="*/ 259920 w 259560"/>
                <a:gd name="textAreaTop" fmla="*/ 121320 h 486000"/>
                <a:gd name="textAreaBottom" fmla="*/ 36468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cap="sq"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5495040" y="1906920"/>
              <a:ext cx="598680" cy="146520"/>
            </a:xfrm>
            <a:prstGeom prst="line">
              <a:avLst/>
            </a:prstGeom>
            <a:ln cap="sq"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rot="6551400">
            <a:off x="5033160" y="1443240"/>
            <a:ext cx="193680" cy="811440"/>
          </a:xfrm>
          <a:prstGeom prst="lightningBol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648320"/>
            <a:ext cx="1295280" cy="76176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0"/>
                </a:moveTo>
                <a:cubicBezTo>
                  <a:pt x="28" y="152"/>
                  <a:pt x="56" y="304"/>
                  <a:pt x="192" y="384"/>
                </a:cubicBezTo>
                <a:cubicBezTo>
                  <a:pt x="328" y="464"/>
                  <a:pt x="712" y="464"/>
                  <a:pt x="816" y="48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5410080"/>
            <a:ext cx="2209680" cy="1800"/>
          </a:xfrm>
          <a:custGeom>
            <a:avLst/>
            <a:gdLst/>
            <a:ahLst/>
            <a:rect l="l" t="t" r="r" b="b"/>
            <a:pathLst>
              <a:path w="1392" h="1">
                <a:moveTo>
                  <a:pt x="0" y="0"/>
                </a:moveTo>
                <a:cubicBezTo>
                  <a:pt x="580" y="0"/>
                  <a:pt x="1160" y="0"/>
                  <a:pt x="1392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4648320"/>
            <a:ext cx="1003320" cy="761760"/>
          </a:xfrm>
          <a:custGeom>
            <a:avLst/>
            <a:gdLst/>
            <a:ahLst/>
            <a:rect l="l" t="t" r="r" b="b"/>
            <a:pathLst>
              <a:path w="632" h="480">
                <a:moveTo>
                  <a:pt x="0" y="480"/>
                </a:moveTo>
                <a:cubicBezTo>
                  <a:pt x="212" y="448"/>
                  <a:pt x="424" y="416"/>
                  <a:pt x="528" y="336"/>
                </a:cubicBezTo>
                <a:cubicBezTo>
                  <a:pt x="632" y="256"/>
                  <a:pt x="608" y="56"/>
                  <a:pt x="624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711360"/>
            <a:ext cx="1905120" cy="431640"/>
          </a:xfrm>
          <a:custGeom>
            <a:avLst/>
            <a:gdLst/>
            <a:ahLst/>
            <a:rect l="l" t="t" r="r" b="b"/>
            <a:pathLst>
              <a:path w="1200" h="272">
                <a:moveTo>
                  <a:pt x="1200" y="80"/>
                </a:moveTo>
                <a:cubicBezTo>
                  <a:pt x="964" y="40"/>
                  <a:pt x="728" y="0"/>
                  <a:pt x="528" y="32"/>
                </a:cubicBezTo>
                <a:cubicBezTo>
                  <a:pt x="328" y="64"/>
                  <a:pt x="96" y="232"/>
                  <a:pt x="0" y="27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914400"/>
            <a:ext cx="2832120" cy="2057400"/>
          </a:xfrm>
          <a:custGeom>
            <a:avLst/>
            <a:gdLst/>
            <a:ahLst/>
            <a:rect l="l" t="t" r="r" b="b"/>
            <a:pathLst>
              <a:path w="1784" h="1296">
                <a:moveTo>
                  <a:pt x="1776" y="1296"/>
                </a:moveTo>
                <a:cubicBezTo>
                  <a:pt x="1780" y="1068"/>
                  <a:pt x="1784" y="840"/>
                  <a:pt x="1488" y="624"/>
                </a:cubicBezTo>
                <a:cubicBezTo>
                  <a:pt x="1192" y="408"/>
                  <a:pt x="248" y="104"/>
                  <a:pt x="0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2362320"/>
            <a:ext cx="1440" cy="533160"/>
          </a:xfrm>
          <a:custGeom>
            <a:avLst/>
            <a:gdLst/>
            <a:ahLst/>
            <a:rect l="l" t="t" r="r" b="b"/>
            <a:pathLst>
              <a:path w="1" h="336">
                <a:moveTo>
                  <a:pt x="0" y="0"/>
                </a:moveTo>
                <a:cubicBezTo>
                  <a:pt x="0" y="140"/>
                  <a:pt x="0" y="280"/>
                  <a:pt x="0" y="33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rot="21036000">
            <a:off x="380880" y="685800"/>
            <a:ext cx="8109000" cy="52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int SomeFunctio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ll in the fields of DllParam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llDllParameters(DllParam, nSiz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the Distributor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rtDCE(DllParam, nSyncType, nNumberOfMachine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int NextFunctio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5228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Sourc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1380960" y="403200"/>
            <a:ext cx="6330960" cy="5270400"/>
            <a:chOff x="1380960" y="403200"/>
            <a:chExt cx="6330960" cy="5270400"/>
          </a:xfrm>
        </p:grpSpPr>
        <p:sp>
          <p:nvSpPr>
            <p:cNvPr id="223" name=""/>
            <p:cNvSpPr/>
            <p:nvPr/>
          </p:nvSpPr>
          <p:spPr>
            <a:xfrm>
              <a:off x="1380960" y="403200"/>
              <a:ext cx="6330960" cy="4602240"/>
            </a:xfrm>
            <a:custGeom>
              <a:avLst/>
              <a:gdLst/>
              <a:ahLst/>
              <a:rect l="l" t="t" r="r" b="b"/>
              <a:pathLst>
                <a:path w="2357" h="1714">
                  <a:moveTo>
                    <a:pt x="0" y="1546"/>
                  </a:moveTo>
                  <a:lnTo>
                    <a:pt x="3" y="1582"/>
                  </a:lnTo>
                  <a:lnTo>
                    <a:pt x="10" y="1615"/>
                  </a:lnTo>
                  <a:lnTo>
                    <a:pt x="20" y="1643"/>
                  </a:lnTo>
                  <a:lnTo>
                    <a:pt x="38" y="1668"/>
                  </a:lnTo>
                  <a:lnTo>
                    <a:pt x="61" y="1686"/>
                  </a:lnTo>
                  <a:lnTo>
                    <a:pt x="89" y="1701"/>
                  </a:lnTo>
                  <a:lnTo>
                    <a:pt x="125" y="1712"/>
                  </a:lnTo>
                  <a:lnTo>
                    <a:pt x="168" y="1714"/>
                  </a:lnTo>
                  <a:lnTo>
                    <a:pt x="2187" y="1714"/>
                  </a:lnTo>
                  <a:lnTo>
                    <a:pt x="2230" y="1712"/>
                  </a:lnTo>
                  <a:lnTo>
                    <a:pt x="2266" y="1701"/>
                  </a:lnTo>
                  <a:lnTo>
                    <a:pt x="2294" y="1686"/>
                  </a:lnTo>
                  <a:lnTo>
                    <a:pt x="2319" y="1668"/>
                  </a:lnTo>
                  <a:lnTo>
                    <a:pt x="2334" y="1643"/>
                  </a:lnTo>
                  <a:lnTo>
                    <a:pt x="2347" y="1615"/>
                  </a:lnTo>
                  <a:lnTo>
                    <a:pt x="2355" y="1582"/>
                  </a:lnTo>
                  <a:lnTo>
                    <a:pt x="2357" y="1546"/>
                  </a:lnTo>
                  <a:lnTo>
                    <a:pt x="2357" y="170"/>
                  </a:lnTo>
                  <a:lnTo>
                    <a:pt x="2355" y="135"/>
                  </a:lnTo>
                  <a:lnTo>
                    <a:pt x="2347" y="102"/>
                  </a:lnTo>
                  <a:lnTo>
                    <a:pt x="2334" y="74"/>
                  </a:lnTo>
                  <a:lnTo>
                    <a:pt x="2319" y="48"/>
                  </a:lnTo>
                  <a:lnTo>
                    <a:pt x="2294" y="28"/>
                  </a:lnTo>
                  <a:lnTo>
                    <a:pt x="2266" y="13"/>
                  </a:lnTo>
                  <a:lnTo>
                    <a:pt x="2230" y="2"/>
                  </a:lnTo>
                  <a:lnTo>
                    <a:pt x="2187" y="0"/>
                  </a:lnTo>
                  <a:lnTo>
                    <a:pt x="168" y="0"/>
                  </a:lnTo>
                  <a:lnTo>
                    <a:pt x="125" y="2"/>
                  </a:lnTo>
                  <a:lnTo>
                    <a:pt x="89" y="13"/>
                  </a:lnTo>
                  <a:lnTo>
                    <a:pt x="61" y="28"/>
                  </a:lnTo>
                  <a:lnTo>
                    <a:pt x="38" y="48"/>
                  </a:lnTo>
                  <a:lnTo>
                    <a:pt x="20" y="74"/>
                  </a:lnTo>
                  <a:lnTo>
                    <a:pt x="10" y="102"/>
                  </a:lnTo>
                  <a:lnTo>
                    <a:pt x="3" y="135"/>
                  </a:lnTo>
                  <a:lnTo>
                    <a:pt x="0" y="170"/>
                  </a:lnTo>
                  <a:lnTo>
                    <a:pt x="0" y="1546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1040" y="5149800"/>
              <a:ext cx="2697120" cy="523800"/>
            </a:xfrm>
            <a:custGeom>
              <a:avLst/>
              <a:gdLst/>
              <a:ahLst/>
              <a:rect l="l" t="t" r="r" b="b"/>
              <a:pathLst>
                <a:path w="1004" h="195">
                  <a:moveTo>
                    <a:pt x="1004" y="195"/>
                  </a:moveTo>
                  <a:lnTo>
                    <a:pt x="1004" y="86"/>
                  </a:lnTo>
                  <a:lnTo>
                    <a:pt x="844" y="86"/>
                  </a:lnTo>
                  <a:lnTo>
                    <a:pt x="844" y="0"/>
                  </a:lnTo>
                  <a:lnTo>
                    <a:pt x="160" y="0"/>
                  </a:lnTo>
                  <a:lnTo>
                    <a:pt x="160" y="86"/>
                  </a:lnTo>
                  <a:lnTo>
                    <a:pt x="0" y="86"/>
                  </a:lnTo>
                  <a:lnTo>
                    <a:pt x="0" y="195"/>
                  </a:lnTo>
                  <a:lnTo>
                    <a:pt x="1004" y="195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66960" y="895320"/>
              <a:ext cx="5352840" cy="3625920"/>
            </a:xfrm>
            <a:custGeom>
              <a:avLst/>
              <a:gdLst/>
              <a:ahLst/>
              <a:rect l="l" t="t" r="r" b="b"/>
              <a:pathLst>
                <a:path w="1993" h="1351">
                  <a:moveTo>
                    <a:pt x="1863" y="1351"/>
                  </a:moveTo>
                  <a:lnTo>
                    <a:pt x="132" y="1351"/>
                  </a:lnTo>
                  <a:lnTo>
                    <a:pt x="99" y="1348"/>
                  </a:lnTo>
                  <a:lnTo>
                    <a:pt x="71" y="1340"/>
                  </a:lnTo>
                  <a:lnTo>
                    <a:pt x="48" y="1330"/>
                  </a:lnTo>
                  <a:lnTo>
                    <a:pt x="30" y="1315"/>
                  </a:lnTo>
                  <a:lnTo>
                    <a:pt x="15" y="1295"/>
                  </a:lnTo>
                  <a:lnTo>
                    <a:pt x="7" y="1274"/>
                  </a:lnTo>
                  <a:lnTo>
                    <a:pt x="2" y="1249"/>
                  </a:lnTo>
                  <a:lnTo>
                    <a:pt x="0" y="1221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7" y="76"/>
                  </a:lnTo>
                  <a:lnTo>
                    <a:pt x="15" y="56"/>
                  </a:lnTo>
                  <a:lnTo>
                    <a:pt x="30" y="36"/>
                  </a:lnTo>
                  <a:lnTo>
                    <a:pt x="48" y="20"/>
                  </a:lnTo>
                  <a:lnTo>
                    <a:pt x="71" y="10"/>
                  </a:lnTo>
                  <a:lnTo>
                    <a:pt x="99" y="3"/>
                  </a:lnTo>
                  <a:lnTo>
                    <a:pt x="132" y="0"/>
                  </a:lnTo>
                  <a:lnTo>
                    <a:pt x="1863" y="0"/>
                  </a:lnTo>
                  <a:lnTo>
                    <a:pt x="1896" y="3"/>
                  </a:lnTo>
                  <a:lnTo>
                    <a:pt x="1924" y="10"/>
                  </a:lnTo>
                  <a:lnTo>
                    <a:pt x="1945" y="20"/>
                  </a:lnTo>
                  <a:lnTo>
                    <a:pt x="1963" y="36"/>
                  </a:lnTo>
                  <a:lnTo>
                    <a:pt x="1978" y="56"/>
                  </a:lnTo>
                  <a:lnTo>
                    <a:pt x="1985" y="76"/>
                  </a:lnTo>
                  <a:lnTo>
                    <a:pt x="1991" y="102"/>
                  </a:lnTo>
                  <a:lnTo>
                    <a:pt x="1993" y="130"/>
                  </a:lnTo>
                  <a:lnTo>
                    <a:pt x="1993" y="1221"/>
                  </a:lnTo>
                  <a:lnTo>
                    <a:pt x="1991" y="1249"/>
                  </a:lnTo>
                  <a:lnTo>
                    <a:pt x="1985" y="1274"/>
                  </a:lnTo>
                  <a:lnTo>
                    <a:pt x="1978" y="1295"/>
                  </a:lnTo>
                  <a:lnTo>
                    <a:pt x="1963" y="1315"/>
                  </a:lnTo>
                  <a:lnTo>
                    <a:pt x="1945" y="1330"/>
                  </a:lnTo>
                  <a:lnTo>
                    <a:pt x="1924" y="1340"/>
                  </a:lnTo>
                  <a:lnTo>
                    <a:pt x="1896" y="1348"/>
                  </a:lnTo>
                  <a:lnTo>
                    <a:pt x="1863" y="1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61080" y="4753080"/>
              <a:ext cx="558720" cy="16344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81080" y="1066680"/>
            <a:ext cx="1524240" cy="1524240"/>
            <a:chOff x="1981080" y="1066680"/>
            <a:chExt cx="1524240" cy="1524240"/>
          </a:xfrm>
        </p:grpSpPr>
        <p:sp>
          <p:nvSpPr>
            <p:cNvPr id="228" name=""/>
            <p:cNvSpPr/>
            <p:nvPr/>
          </p:nvSpPr>
          <p:spPr>
            <a:xfrm>
              <a:off x="2209680" y="129528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0000"/>
            </a:solidFill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3200" y="129528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0000"/>
            </a:solidFill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3200" y="1905120"/>
              <a:ext cx="533520" cy="533160"/>
            </a:xfrm>
            <a:prstGeom prst="smileyFace">
              <a:avLst>
                <a:gd name="adj" fmla="val 9282"/>
              </a:avLst>
            </a:prstGeom>
            <a:solidFill>
              <a:srgbClr val="000000"/>
            </a:solidFill>
            <a:ln cap="sq"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9680" y="1905120"/>
              <a:ext cx="533520" cy="533160"/>
            </a:xfrm>
            <a:prstGeom prst="smileyFace">
              <a:avLst>
                <a:gd name="adj" fmla="val -1754"/>
              </a:avLst>
            </a:prstGeom>
            <a:solidFill>
              <a:srgbClr val="000000"/>
            </a:solidFill>
            <a:ln cap="sq"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81080" y="1066680"/>
              <a:ext cx="1524240" cy="1524240"/>
            </a:xfrm>
            <a:prstGeom prst="wedgeRoundRectCallout">
              <a:avLst>
                <a:gd name="adj1" fmla="val 78750"/>
                <a:gd name="adj2" fmla="val -9375"/>
                <a:gd name="adj3" fmla="val 16667"/>
              </a:avLst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992400" y="2133720"/>
            <a:ext cx="1463760" cy="1008720"/>
          </a:xfrm>
          <a:prstGeom prst="borderCallout1">
            <a:avLst>
              <a:gd name="adj1" fmla="val -1120"/>
              <a:gd name="adj2" fmla="val -9624"/>
              <a:gd name="adj3" fmla="val -1125"/>
              <a:gd name="adj4" fmla="val 19178"/>
            </a:avLst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st Node(s) 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67080" y="3505320"/>
            <a:ext cx="1524240" cy="838080"/>
            <a:chOff x="4267080" y="3505320"/>
            <a:chExt cx="1524240" cy="838080"/>
          </a:xfrm>
        </p:grpSpPr>
        <p:sp>
          <p:nvSpPr>
            <p:cNvPr id="235" name=""/>
            <p:cNvSpPr/>
            <p:nvPr/>
          </p:nvSpPr>
          <p:spPr>
            <a:xfrm>
              <a:off x="4267080" y="3505320"/>
              <a:ext cx="1524240" cy="838080"/>
            </a:xfrm>
            <a:prstGeom prst="wedgeRoundRectCallout">
              <a:avLst>
                <a:gd name="adj1" fmla="val -25624"/>
                <a:gd name="adj2" fmla="val -86930"/>
                <a:gd name="adj3" fmla="val 16667"/>
              </a:avLst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43400" y="36576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0000"/>
            </a:solidFill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52880" y="36576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0000"/>
            </a:solidFill>
            <a:ln cap="sq"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486400" y="1066680"/>
            <a:ext cx="1600200" cy="914400"/>
          </a:xfrm>
          <a:prstGeom prst="foldedCorner">
            <a:avLst>
              <a:gd name="adj" fmla="val 38194"/>
            </a:avLst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498680"/>
            <a:ext cx="762120" cy="635040"/>
          </a:xfrm>
          <a:custGeom>
            <a:avLst/>
            <a:gdLst/>
            <a:ahLst/>
            <a:rect l="l" t="t" r="r" b="b"/>
            <a:pathLst>
              <a:path w="480" h="400">
                <a:moveTo>
                  <a:pt x="0" y="400"/>
                </a:moveTo>
                <a:cubicBezTo>
                  <a:pt x="8" y="264"/>
                  <a:pt x="16" y="128"/>
                  <a:pt x="96" y="64"/>
                </a:cubicBezTo>
                <a:cubicBezTo>
                  <a:pt x="176" y="0"/>
                  <a:pt x="416" y="24"/>
                  <a:pt x="480" y="16"/>
                </a:cubicBezTo>
              </a:path>
            </a:pathLst>
          </a:custGeom>
          <a:noFill/>
          <a:ln cap="sq" w="2556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 flipH="1">
            <a:off x="6553080" y="3352680"/>
            <a:ext cx="457200" cy="1371600"/>
          </a:xfrm>
          <a:prstGeom prst="lightningBolt">
            <a:avLst/>
          </a:prstGeom>
          <a:solidFill>
            <a:srgbClr val="ff9900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3352680"/>
            <a:ext cx="380880" cy="1371600"/>
          </a:xfrm>
          <a:prstGeom prst="lightningBolt">
            <a:avLst/>
          </a:prstGeom>
          <a:solidFill>
            <a:srgbClr val="ff9900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371600" y="2362320"/>
            <a:ext cx="1904760" cy="1143000"/>
            <a:chOff x="1371600" y="2362320"/>
            <a:chExt cx="1904760" cy="1143000"/>
          </a:xfrm>
        </p:grpSpPr>
        <p:sp>
          <p:nvSpPr>
            <p:cNvPr id="243" name=""/>
            <p:cNvSpPr/>
            <p:nvPr/>
          </p:nvSpPr>
          <p:spPr>
            <a:xfrm>
              <a:off x="1371600" y="2743200"/>
              <a:ext cx="1600200" cy="762120"/>
            </a:xfrm>
            <a:prstGeom prst="rect">
              <a:avLst/>
            </a:prstGeom>
            <a:solidFill>
              <a:srgbClr val="000000"/>
            </a:solidFill>
            <a:ln cap="sq"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600200" y="2362320"/>
              <a:ext cx="0" cy="380880"/>
            </a:xfrm>
            <a:prstGeom prst="line">
              <a:avLst/>
            </a:prstGeom>
            <a:ln cap="sq"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71800" y="3048120"/>
              <a:ext cx="304560" cy="0"/>
            </a:xfrm>
            <a:prstGeom prst="line">
              <a:avLst/>
            </a:prstGeom>
            <a:ln cap="sq"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866920" y="2362320"/>
            <a:ext cx="1905480" cy="1143000"/>
            <a:chOff x="5866920" y="2362320"/>
            <a:chExt cx="1905480" cy="1143000"/>
          </a:xfrm>
        </p:grpSpPr>
        <p:sp>
          <p:nvSpPr>
            <p:cNvPr id="247" name=""/>
            <p:cNvSpPr/>
            <p:nvPr/>
          </p:nvSpPr>
          <p:spPr>
            <a:xfrm>
              <a:off x="6172200" y="2743200"/>
              <a:ext cx="1600200" cy="762120"/>
            </a:xfrm>
            <a:prstGeom prst="rect">
              <a:avLst/>
            </a:prstGeom>
            <a:solidFill>
              <a:srgbClr val="000000"/>
            </a:solidFill>
            <a:ln cap="sq"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467480" y="2362320"/>
              <a:ext cx="0" cy="380880"/>
            </a:xfrm>
            <a:prstGeom prst="line">
              <a:avLst/>
            </a:prstGeom>
            <a:ln cap="sq"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866920" y="3048120"/>
              <a:ext cx="304920" cy="0"/>
            </a:xfrm>
            <a:prstGeom prst="line">
              <a:avLst/>
            </a:prstGeom>
            <a:ln cap="sq"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209680" y="4724280"/>
            <a:ext cx="43434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5121360"/>
            <a:ext cx="26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chronization &amp; Marsha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609480"/>
            <a:ext cx="1600200" cy="990720"/>
          </a:xfrm>
          <a:prstGeom prst="flowChartDocument">
            <a:avLst/>
          </a:prstGeom>
          <a:solidFill>
            <a:srgbClr val="0000ff"/>
          </a:solidFill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1600200"/>
            <a:ext cx="0" cy="83808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609480"/>
            <a:ext cx="1600200" cy="990720"/>
          </a:xfrm>
          <a:prstGeom prst="flowChartDocument">
            <a:avLst/>
          </a:prstGeom>
          <a:solidFill>
            <a:srgbClr val="339966"/>
          </a:solidFill>
          <a:ln cap="sq"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o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600200"/>
            <a:ext cx="0" cy="838080"/>
          </a:xfrm>
          <a:prstGeom prst="line">
            <a:avLst/>
          </a:prstGeom>
          <a:ln cap="sq"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1295280"/>
            <a:ext cx="0" cy="37339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1800" y="380880"/>
            <a:ext cx="12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und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19320" y="1523880"/>
            <a:ext cx="5867280" cy="3657600"/>
          </a:xfrm>
          <a:prstGeom prst="rect">
            <a:avLst/>
          </a:prstGeom>
          <a:solidFill>
            <a:srgbClr val="339966"/>
          </a:solidFill>
          <a:ln w="1260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04920"/>
            <a:ext cx="5867280" cy="99036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0382000">
            <a:off x="2745000" y="262080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19320" y="1523880"/>
            <a:ext cx="5867280" cy="3657600"/>
          </a:xfrm>
          <a:prstGeom prst="rect">
            <a:avLst/>
          </a:prstGeom>
          <a:solidFill>
            <a:srgbClr val="339966"/>
          </a:solidFill>
          <a:ln w="1260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1600200"/>
            <a:ext cx="2895840" cy="3505320"/>
          </a:xfrm>
          <a:prstGeom prst="rect">
            <a:avLst/>
          </a:prstGeom>
          <a:solidFill>
            <a:srgbClr val="800000"/>
          </a:solidFill>
          <a:ln w="1260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343400"/>
            <a:ext cx="2514600" cy="685800"/>
          </a:xfrm>
          <a:prstGeom prst="rect">
            <a:avLst/>
          </a:prstGeom>
          <a:solidFill>
            <a:srgbClr val="666699"/>
          </a:solidFill>
          <a:ln cap="sq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1676520"/>
            <a:ext cx="2514600" cy="2514600"/>
          </a:xfrm>
          <a:prstGeom prst="rect">
            <a:avLst/>
          </a:prstGeom>
          <a:solidFill>
            <a:srgbClr val="0033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pre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304920"/>
            <a:ext cx="5867280" cy="99036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5181480"/>
            <a:ext cx="0" cy="6098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9989600">
            <a:off x="1985040" y="297144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P I P E S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23920" y="37335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grammer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426708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erface </a:t>
            </a:r>
            <a:r>
              <a:rPr b="0" i="1" lang="en-US" sz="2800" spc="-1" strike="noStrike">
                <a:solidFill>
                  <a:srgbClr val="c0c0c0"/>
                </a:solidFill>
                <a:latin typeface="Arial"/>
              </a:rPr>
              <a:t>for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480060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ll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33412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ec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586728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219320" y="1523880"/>
            <a:ext cx="5867280" cy="3657600"/>
          </a:xfrm>
          <a:prstGeom prst="rect">
            <a:avLst/>
          </a:prstGeom>
          <a:solidFill>
            <a:srgbClr val="339966"/>
          </a:solidFill>
          <a:ln w="1260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1600200"/>
            <a:ext cx="2895840" cy="3505320"/>
          </a:xfrm>
          <a:prstGeom prst="rect">
            <a:avLst/>
          </a:prstGeom>
          <a:solidFill>
            <a:srgbClr val="800000"/>
          </a:solidFill>
          <a:ln w="1260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590920"/>
            <a:ext cx="2743200" cy="56016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 libr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4343400"/>
            <a:ext cx="2514600" cy="685800"/>
          </a:xfrm>
          <a:prstGeom prst="rect">
            <a:avLst/>
          </a:prstGeom>
          <a:solidFill>
            <a:srgbClr val="666699"/>
          </a:solidFill>
          <a:ln cap="sq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3429000"/>
            <a:ext cx="2743200" cy="6858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C ru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1676520"/>
            <a:ext cx="2743200" cy="6858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xy / Stu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4343400"/>
            <a:ext cx="2743200" cy="6858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1676520"/>
            <a:ext cx="2514600" cy="2514600"/>
          </a:xfrm>
          <a:prstGeom prst="rect">
            <a:avLst/>
          </a:prstGeom>
          <a:solidFill>
            <a:srgbClr val="0033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pre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304920"/>
            <a:ext cx="5867280" cy="99036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5181480"/>
            <a:ext cx="0" cy="6098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5181480"/>
            <a:ext cx="0" cy="6098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PES allows you to write &amp; execute parallel or distributed programs or rewrite existing serial code easily to tap the power of a network with little or no knowledge of network programming or DC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266920" y="4591080"/>
            <a:ext cx="1190520" cy="1047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4648320"/>
            <a:ext cx="900000" cy="90144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19360" y="4676760"/>
            <a:ext cx="304920" cy="1522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4572000"/>
            <a:ext cx="1190520" cy="1047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84320" y="4657680"/>
            <a:ext cx="900000" cy="90000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43160" y="4705200"/>
            <a:ext cx="304560" cy="15264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152280"/>
            <a:ext cx="1166760" cy="946440"/>
          </a:xfrm>
          <a:prstGeom prst="cube">
            <a:avLst>
              <a:gd name="adj" fmla="val 1173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73960" y="4230720"/>
            <a:ext cx="241200" cy="717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315840" y="4230720"/>
            <a:ext cx="257400" cy="717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1558800"/>
            <a:ext cx="7620120" cy="631800"/>
          </a:xfrm>
          <a:custGeom>
            <a:avLst/>
            <a:gdLst>
              <a:gd name="textAreaLeft" fmla="*/ 0 w 7620120"/>
              <a:gd name="textAreaRight" fmla="*/ 7620480 w 762012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9" y="0"/>
                </a:lnTo>
                <a:lnTo>
                  <a:pt x="21600" y="10800"/>
                </a:lnTo>
                <a:lnTo>
                  <a:pt x="202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1981080"/>
            <a:ext cx="304560" cy="83844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523160" y="1981080"/>
            <a:ext cx="257400" cy="71784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886200" y="609480"/>
            <a:ext cx="163440" cy="3207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609480"/>
            <a:ext cx="141120" cy="3207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304920"/>
            <a:ext cx="10670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14520" y="1638360"/>
            <a:ext cx="907920" cy="46980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752480"/>
            <a:ext cx="1000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art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64120" y="1655640"/>
            <a:ext cx="907920" cy="46836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1120" y="1676520"/>
            <a:ext cx="914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 Server st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02360" y="1636560"/>
            <a:ext cx="907920" cy="46836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95960" y="1751040"/>
            <a:ext cx="8906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art D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71720" y="914400"/>
            <a:ext cx="1914480" cy="704880"/>
          </a:xfrm>
          <a:custGeom>
            <a:avLst/>
            <a:gdLst/>
            <a:ahLst/>
            <a:rect l="l" t="t" r="r" b="b"/>
            <a:pathLst>
              <a:path w="806" h="1046">
                <a:moveTo>
                  <a:pt x="806" y="0"/>
                </a:moveTo>
                <a:cubicBezTo>
                  <a:pt x="547" y="7"/>
                  <a:pt x="288" y="14"/>
                  <a:pt x="154" y="188"/>
                </a:cubicBezTo>
                <a:cubicBezTo>
                  <a:pt x="20" y="362"/>
                  <a:pt x="10" y="704"/>
                  <a:pt x="0" y="104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533520"/>
            <a:ext cx="136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ll thread at end of ap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1000" y="1704960"/>
            <a:ext cx="995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rver D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343400" y="914400"/>
            <a:ext cx="2209680" cy="685800"/>
          </a:xfrm>
          <a:custGeom>
            <a:avLst/>
            <a:gdLst/>
            <a:ahLst/>
            <a:rect l="l" t="t" r="r" b="b"/>
            <a:pathLst>
              <a:path w="806" h="1046">
                <a:moveTo>
                  <a:pt x="806" y="0"/>
                </a:moveTo>
                <a:cubicBezTo>
                  <a:pt x="547" y="7"/>
                  <a:pt x="288" y="14"/>
                  <a:pt x="154" y="188"/>
                </a:cubicBezTo>
                <a:cubicBezTo>
                  <a:pt x="20" y="362"/>
                  <a:pt x="10" y="704"/>
                  <a:pt x="0" y="104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68580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after setting server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362320"/>
            <a:ext cx="1119240" cy="990360"/>
          </a:xfrm>
          <a:prstGeom prst="flowChartMultidocumen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2666880"/>
            <a:ext cx="9907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erformance Parame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reshol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48320" y="2133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25640" y="2705040"/>
            <a:ext cx="907920" cy="46980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54320" y="2724120"/>
            <a:ext cx="911160" cy="46980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1560" y="2744640"/>
            <a:ext cx="6508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andle Cl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00480" y="2766960"/>
            <a:ext cx="650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andle Cl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029200"/>
            <a:ext cx="735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71680" y="5021280"/>
            <a:ext cx="72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76360" y="3165480"/>
            <a:ext cx="0" cy="155880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3156120"/>
            <a:ext cx="0" cy="1492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6160" y="3373560"/>
            <a:ext cx="1218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sockets to receive performance parameter in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2459160"/>
            <a:ext cx="1108080" cy="4698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29280" y="2495520"/>
            <a:ext cx="984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est Node Calcul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27082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6320" y="2065320"/>
            <a:ext cx="0" cy="393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3268800"/>
            <a:ext cx="1184400" cy="541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39000" y="3247920"/>
            <a:ext cx="1033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ad &amp; synchronize fun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45160" y="2919240"/>
            <a:ext cx="0" cy="335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46760" y="3962520"/>
            <a:ext cx="1560600" cy="382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3600" y="4010040"/>
            <a:ext cx="13716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COM Interfa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3680" y="5702400"/>
            <a:ext cx="708120" cy="517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28880" y="5791320"/>
            <a:ext cx="838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COM Interfa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5702400"/>
            <a:ext cx="707760" cy="519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5791320"/>
            <a:ext cx="723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COM Interfa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16560" y="4948200"/>
            <a:ext cx="0" cy="14432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676240" y="6400800"/>
            <a:ext cx="3647880" cy="9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697120" y="6219360"/>
            <a:ext cx="0" cy="181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15160" y="4938840"/>
            <a:ext cx="0" cy="1681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447920" y="6629400"/>
            <a:ext cx="5410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19120" y="6217920"/>
            <a:ext cx="0" cy="42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47920" y="55576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706840" y="55386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4876920"/>
            <a:ext cx="15238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ad the functions on the client machines, send parameters and synchronize the receiving of resul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2743200"/>
            <a:ext cx="1143000" cy="52704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36"/>
                </a:moveTo>
                <a:cubicBezTo>
                  <a:pt x="12" y="360"/>
                  <a:pt x="24" y="384"/>
                  <a:pt x="144" y="336"/>
                </a:cubicBezTo>
                <a:cubicBezTo>
                  <a:pt x="264" y="288"/>
                  <a:pt x="528" y="96"/>
                  <a:pt x="720" y="48"/>
                </a:cubicBezTo>
                <a:cubicBezTo>
                  <a:pt x="912" y="0"/>
                  <a:pt x="1104" y="24"/>
                  <a:pt x="1296" y="48"/>
                </a:cubicBezTo>
              </a:path>
            </a:pathLst>
          </a:custGeom>
          <a:noFill/>
          <a:ln w="9360">
            <a:solidFill>
              <a:srgbClr val="c0c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30520" y="3129120"/>
            <a:ext cx="2307960" cy="347400"/>
          </a:xfrm>
          <a:custGeom>
            <a:avLst/>
            <a:gdLst/>
            <a:ahLst/>
            <a:rect l="l" t="t" r="r" b="b"/>
            <a:pathLst>
              <a:path w="2592" h="624">
                <a:moveTo>
                  <a:pt x="0" y="0"/>
                </a:moveTo>
                <a:cubicBezTo>
                  <a:pt x="648" y="264"/>
                  <a:pt x="1296" y="528"/>
                  <a:pt x="1728" y="576"/>
                </a:cubicBezTo>
                <a:cubicBezTo>
                  <a:pt x="2160" y="624"/>
                  <a:pt x="2376" y="456"/>
                  <a:pt x="2592" y="288"/>
                </a:cubicBezTo>
              </a:path>
            </a:pathLst>
          </a:custGeom>
          <a:noFill/>
          <a:ln w="9360">
            <a:solidFill>
              <a:srgbClr val="c0c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533520"/>
            <a:ext cx="304560" cy="15228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2480" y="3809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3809880"/>
            <a:ext cx="7596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82920" y="3790800"/>
            <a:ext cx="7596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35720" y="5791320"/>
            <a:ext cx="7632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5791320"/>
            <a:ext cx="7632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6400800"/>
            <a:ext cx="7596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640080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640080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640080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5029200"/>
            <a:ext cx="995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ent D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914400"/>
            <a:ext cx="22860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53080" y="3809880"/>
            <a:ext cx="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gramm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rawal Sach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hambatti Mujtab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i Mahind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68560" y="83808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imulation of Virtual Machine Arch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ap Network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High Performance ga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est-bed for Parallel Algorith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etter Processor Throughpu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rtual Machi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oarse-grained parallelis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Heterogeneous cluster of no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Asynchronous execution of 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uilt over the Windows NT platfor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ynamic distribution of 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Clusters: </a:t>
            </a: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PVM, MPI, Linda, NOW.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 over th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load schedu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ailable over Windows 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 of Architecture          (N/w / M/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32 Development 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kets (TC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sources Requir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T Server as a PD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orkstation or 9x cli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COM configured on all mach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CP/IP net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alk-throug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tart the Application that has a PIPES Server on one Mach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et Server st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PESSer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09:26:39Z</dcterms:created>
  <dc:creator>Mujtaba Khambatti</dc:creator>
  <dc:description/>
  <dc:language>en-US</dc:language>
  <cp:lastModifiedBy>BRAZIL</cp:lastModifiedBy>
  <dcterms:modified xsi:type="dcterms:W3CDTF">1999-06-10T18:15:16Z</dcterms:modified>
  <cp:revision>76</cp:revision>
  <dc:subject/>
  <dc:title>P I P E S</dc:title>
</cp:coreProperties>
</file>