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9B0-C130-4963-B4A7-12CAA37A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FA0-88EB-4DF7-BEB4-C8095A7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4F0-C28E-4DA4-9C86-3A593FE9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40485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4C9-F310-4612-9BFD-D9183007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CD8-6ED3-49A0-B91C-05DDCB50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596-9480-4C5D-9D62-398D3CE0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481-4673-420E-BD92-81AE84D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EB5-82DB-4DC2-818F-5C3226F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10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C26-AF54-4DBE-A24A-7DE0D20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316-D2F2-4E0F-8781-9E07B59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40485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012-E5FD-49EE-A3AB-B5B56B9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485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E83-CE7E-46A9-AEB5-C36ADD89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744-551E-418E-B600-84F77A7F4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 Role-Based Trust Mod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eer-to-Peer Communities and Dynamic Coali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ujtaba Khambatti,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Microsoft Corporation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artha Dasgupta,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Arizona State University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Kyung Dong Ryu,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Arizona State University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/9/2004, IWIA 2004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irst attempt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valu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Peers create and maintain links to other peers whom they know and therefore trust (optimistically)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Since links are bi-directional, information provided by peers that have more links might be more trustworthy.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uthoritativeness in PageRank (used by Goog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Peer links offer a simple, natural trust model that can easily be revoke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 peer loses trust in its neighbor, it can break (remove) that link, thereby reducing the number of links at its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Citation graphs in scientific publication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ts who are well-known and highly regarded by most other authors tend to be highly connected 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eBay points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k of users is proportional to the number of transactions (purchase / sale) that they have completed with other eBa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blem: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s that make mistakes / provide incorrect information unintentionally can cause epi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 scholar is not necessarily correct about electr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3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ond attempt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valu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Imagine peer W with Link Weight 10 for “Biography”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Asymmetric trust relationships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 trust of 10 related to “Biography”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trust of 23 related to “Biography”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4190760" cy="180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72200" y="2286000"/>
            <a:ext cx="152280" cy="152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0574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2860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5146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13372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9810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666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895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971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1240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7432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19810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1981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666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28954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5146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236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438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19560" y="23623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019560" y="2209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095880" y="1904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248160" y="16765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248160" y="1905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324480" y="2209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553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324120" y="24382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324120" y="243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25905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43600" y="2590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72200" y="2743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3244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2514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14640" y="2209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714640" y="2133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20574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22860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19810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77320" y="2666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29600" y="1981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29600" y="22860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25146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924680" y="236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696080" y="1904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848360" y="16765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48360" y="1905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924680" y="2209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1532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7924320" y="24382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924320" y="243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2172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97520" y="3352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4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rust Value Distribution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rust value was 100, maximum was 628, minimum was 7, and mode and median were 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5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requency of peers with different trust value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648320" cy="3041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267080" y="3625920"/>
            <a:ext cx="4219560" cy="2882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09960" y="205740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9200" y="53341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4876560" y="2742840"/>
            <a:ext cx="2098440" cy="196920"/>
          </a:xfrm>
          <a:prstGeom prst="rightArrow">
            <a:avLst>
              <a:gd name="adj1" fmla="val 50343"/>
              <a:gd name="adj2" fmla="val 142035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952880"/>
            <a:ext cx="2446200" cy="230400"/>
          </a:xfrm>
          <a:prstGeom prst="rightArrow">
            <a:avLst>
              <a:gd name="adj1" fmla="val 50343"/>
              <a:gd name="adj2" fmla="val 141513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6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erification and Validation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because trust values computed from Link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Attribute Escalation algorithm (prior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w message format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Messages stored on publicly accessible blackboard (like web page)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Any peer can visit V’s blackboard and calculate Link Weights from posted messages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3733920"/>
                <a:ext cx="3905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s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urce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672720" y="4343400"/>
            <a:ext cx="517176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constructed messa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destination identity (a neighborhood peer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sender identity (i.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claimed attributes list of the send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s signature by the sender’s private 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673440" y="4873680"/>
                <a:ext cx="539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657600" y="5138640"/>
                <a:ext cx="7048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645000" y="5378400"/>
                <a:ext cx="965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699000" y="5675400"/>
                <a:ext cx="1031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333440" y="4633920"/>
            <a:ext cx="387360" cy="387360"/>
          </a:xfrm>
          <a:prstGeom prst="ellipse">
            <a:avLst/>
          </a:prstGeom>
          <a:noFill/>
          <a:ln w="25560">
            <a:solidFill>
              <a:srgbClr val="078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80f9"/>
                </a:solidFill>
                <a:latin typeface="Franklin Gothic Book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63600" y="3886200"/>
            <a:ext cx="387360" cy="3873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16080" y="4518000"/>
            <a:ext cx="387360" cy="3873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16080" y="3797280"/>
            <a:ext cx="387360" cy="3873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560" y="5511960"/>
            <a:ext cx="387360" cy="3873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512360" y="4262040"/>
            <a:ext cx="8280" cy="3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27200" y="4138560"/>
            <a:ext cx="52704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04960" y="4728960"/>
            <a:ext cx="396720" cy="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7840" y="5000760"/>
            <a:ext cx="325440" cy="5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45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 (7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03200" y="990720"/>
            <a:ext cx="4016520" cy="2620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4957560" cy="2692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1680" y="4521240"/>
            <a:ext cx="327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% false messages uncovered as % of false message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253040"/>
            <a:ext cx="2446200" cy="230040"/>
          </a:xfrm>
          <a:prstGeom prst="rightArrow">
            <a:avLst>
              <a:gd name="adj1" fmla="val 50343"/>
              <a:gd name="adj2" fmla="val 141735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550880"/>
            <a:ext cx="47242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Relationship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messages chosen to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uncovering false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messages on V’s black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messages are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messages randomly selected for V&amp;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4546440" y="1294560"/>
            <a:ext cx="2098800" cy="196920"/>
          </a:xfrm>
          <a:prstGeom prst="rightArrow">
            <a:avLst>
              <a:gd name="adj1" fmla="val 50343"/>
              <a:gd name="adj2" fmla="val 142059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plying the trust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3480" y="2519280"/>
            <a:ext cx="234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ynamic Coalition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74960" y="1179360"/>
            <a:ext cx="48290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function prototype declaration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ool CommonCommunities(int);  /* peers share communities?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[] ListTrusts(int);  /* list all known trust value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ool AskNeighbors(int);  /* 1-hop neigh share communities?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[] Lower(int[]);  /* multiply trust values by 0.5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ool Ask2HopNeighbors(int);  /* 2-hop neigh share?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ool VerifiedTrusts(int[]);  /* verify and validate value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 FIND-TRUST (peer)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[]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indTrust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Peer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t[]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; /* trust value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CommonCommunitie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istTrust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-if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skNeighbo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istTrust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list_Trus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-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sk2HopNeighbo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istTrust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Peer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list_Trus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st_Trusts =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list_Trust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-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“No trust values!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UL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-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VerifiedTrust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list_Trusts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list_Trust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“Found False Messages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list_Trust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-i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7240" y="1295280"/>
            <a:ext cx="0" cy="477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1295280"/>
            <a:ext cx="0" cy="477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3440" y="2550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66040" y="297180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cas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t cas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705720" y="32004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705720" y="27432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010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18080" y="2863800"/>
            <a:ext cx="2057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26000" y="3174840"/>
            <a:ext cx="2057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33920" y="3681360"/>
            <a:ext cx="23763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75680" y="3581280"/>
            <a:ext cx="17701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cas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t cas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Occurs 32%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plying the trust model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86080" y="1717560"/>
            <a:ext cx="3216240" cy="773280"/>
          </a:xfrm>
          <a:custGeom>
            <a:avLst/>
            <a:gdLst/>
            <a:ahLst/>
            <a:rect l="l" t="t" r="r" b="b"/>
            <a:pathLst>
              <a:path w="2026" h="487">
                <a:moveTo>
                  <a:pt x="163" y="0"/>
                </a:moveTo>
                <a:cubicBezTo>
                  <a:pt x="134" y="2"/>
                  <a:pt x="104" y="4"/>
                  <a:pt x="76" y="12"/>
                </a:cubicBezTo>
                <a:cubicBezTo>
                  <a:pt x="53" y="19"/>
                  <a:pt x="61" y="16"/>
                  <a:pt x="40" y="30"/>
                </a:cubicBezTo>
                <a:cubicBezTo>
                  <a:pt x="37" y="32"/>
                  <a:pt x="31" y="36"/>
                  <a:pt x="31" y="36"/>
                </a:cubicBezTo>
                <a:cubicBezTo>
                  <a:pt x="19" y="54"/>
                  <a:pt x="11" y="66"/>
                  <a:pt x="7" y="87"/>
                </a:cubicBezTo>
                <a:cubicBezTo>
                  <a:pt x="8" y="115"/>
                  <a:pt x="0" y="146"/>
                  <a:pt x="13" y="171"/>
                </a:cubicBezTo>
                <a:cubicBezTo>
                  <a:pt x="20" y="186"/>
                  <a:pt x="42" y="198"/>
                  <a:pt x="55" y="207"/>
                </a:cubicBezTo>
                <a:cubicBezTo>
                  <a:pt x="87" y="229"/>
                  <a:pt x="134" y="249"/>
                  <a:pt x="172" y="255"/>
                </a:cubicBezTo>
                <a:cubicBezTo>
                  <a:pt x="204" y="251"/>
                  <a:pt x="237" y="241"/>
                  <a:pt x="268" y="231"/>
                </a:cubicBezTo>
                <a:cubicBezTo>
                  <a:pt x="292" y="232"/>
                  <a:pt x="316" y="232"/>
                  <a:pt x="340" y="234"/>
                </a:cubicBezTo>
                <a:cubicBezTo>
                  <a:pt x="349" y="235"/>
                  <a:pt x="367" y="243"/>
                  <a:pt x="367" y="243"/>
                </a:cubicBezTo>
                <a:cubicBezTo>
                  <a:pt x="373" y="249"/>
                  <a:pt x="380" y="252"/>
                  <a:pt x="385" y="258"/>
                </a:cubicBezTo>
                <a:cubicBezTo>
                  <a:pt x="402" y="279"/>
                  <a:pt x="371" y="256"/>
                  <a:pt x="397" y="273"/>
                </a:cubicBezTo>
                <a:cubicBezTo>
                  <a:pt x="438" y="335"/>
                  <a:pt x="552" y="361"/>
                  <a:pt x="622" y="369"/>
                </a:cubicBezTo>
                <a:cubicBezTo>
                  <a:pt x="668" y="384"/>
                  <a:pt x="719" y="384"/>
                  <a:pt x="766" y="396"/>
                </a:cubicBezTo>
                <a:cubicBezTo>
                  <a:pt x="812" y="408"/>
                  <a:pt x="857" y="426"/>
                  <a:pt x="904" y="435"/>
                </a:cubicBezTo>
                <a:cubicBezTo>
                  <a:pt x="951" y="444"/>
                  <a:pt x="1000" y="448"/>
                  <a:pt x="1048" y="453"/>
                </a:cubicBezTo>
                <a:cubicBezTo>
                  <a:pt x="1125" y="472"/>
                  <a:pt x="1206" y="469"/>
                  <a:pt x="1285" y="471"/>
                </a:cubicBezTo>
                <a:cubicBezTo>
                  <a:pt x="1319" y="476"/>
                  <a:pt x="1353" y="480"/>
                  <a:pt x="1387" y="483"/>
                </a:cubicBezTo>
                <a:cubicBezTo>
                  <a:pt x="1483" y="482"/>
                  <a:pt x="1579" y="487"/>
                  <a:pt x="1675" y="480"/>
                </a:cubicBezTo>
                <a:cubicBezTo>
                  <a:pt x="1687" y="479"/>
                  <a:pt x="1696" y="435"/>
                  <a:pt x="1699" y="426"/>
                </a:cubicBezTo>
                <a:cubicBezTo>
                  <a:pt x="1700" y="423"/>
                  <a:pt x="1702" y="417"/>
                  <a:pt x="1702" y="417"/>
                </a:cubicBezTo>
                <a:cubicBezTo>
                  <a:pt x="1706" y="373"/>
                  <a:pt x="1707" y="336"/>
                  <a:pt x="1753" y="321"/>
                </a:cubicBezTo>
                <a:cubicBezTo>
                  <a:pt x="1779" y="324"/>
                  <a:pt x="1793" y="328"/>
                  <a:pt x="1810" y="348"/>
                </a:cubicBezTo>
                <a:cubicBezTo>
                  <a:pt x="1817" y="356"/>
                  <a:pt x="1834" y="369"/>
                  <a:pt x="1834" y="369"/>
                </a:cubicBezTo>
                <a:cubicBezTo>
                  <a:pt x="1846" y="388"/>
                  <a:pt x="1873" y="398"/>
                  <a:pt x="1894" y="405"/>
                </a:cubicBezTo>
                <a:cubicBezTo>
                  <a:pt x="1925" y="403"/>
                  <a:pt x="1970" y="410"/>
                  <a:pt x="1993" y="381"/>
                </a:cubicBezTo>
                <a:cubicBezTo>
                  <a:pt x="2005" y="365"/>
                  <a:pt x="2011" y="354"/>
                  <a:pt x="2017" y="336"/>
                </a:cubicBezTo>
                <a:cubicBezTo>
                  <a:pt x="2020" y="327"/>
                  <a:pt x="2026" y="309"/>
                  <a:pt x="2026" y="309"/>
                </a:cubicBezTo>
                <a:cubicBezTo>
                  <a:pt x="2025" y="289"/>
                  <a:pt x="2025" y="269"/>
                  <a:pt x="2023" y="249"/>
                </a:cubicBezTo>
                <a:cubicBezTo>
                  <a:pt x="2019" y="200"/>
                  <a:pt x="1974" y="188"/>
                  <a:pt x="1933" y="183"/>
                </a:cubicBezTo>
                <a:cubicBezTo>
                  <a:pt x="1910" y="184"/>
                  <a:pt x="1887" y="184"/>
                  <a:pt x="1864" y="186"/>
                </a:cubicBezTo>
                <a:cubicBezTo>
                  <a:pt x="1831" y="189"/>
                  <a:pt x="1807" y="225"/>
                  <a:pt x="1786" y="246"/>
                </a:cubicBezTo>
                <a:cubicBezTo>
                  <a:pt x="1767" y="304"/>
                  <a:pt x="1694" y="285"/>
                  <a:pt x="1654" y="312"/>
                </a:cubicBezTo>
                <a:cubicBezTo>
                  <a:pt x="1646" y="324"/>
                  <a:pt x="1636" y="331"/>
                  <a:pt x="1630" y="345"/>
                </a:cubicBezTo>
                <a:cubicBezTo>
                  <a:pt x="1625" y="357"/>
                  <a:pt x="1624" y="371"/>
                  <a:pt x="1615" y="381"/>
                </a:cubicBezTo>
                <a:cubicBezTo>
                  <a:pt x="1575" y="426"/>
                  <a:pt x="1525" y="425"/>
                  <a:pt x="1468" y="429"/>
                </a:cubicBezTo>
                <a:cubicBezTo>
                  <a:pt x="1352" y="448"/>
                  <a:pt x="1163" y="423"/>
                  <a:pt x="1039" y="420"/>
                </a:cubicBezTo>
                <a:cubicBezTo>
                  <a:pt x="1000" y="414"/>
                  <a:pt x="957" y="410"/>
                  <a:pt x="919" y="399"/>
                </a:cubicBezTo>
                <a:cubicBezTo>
                  <a:pt x="864" y="382"/>
                  <a:pt x="808" y="362"/>
                  <a:pt x="751" y="354"/>
                </a:cubicBezTo>
                <a:cubicBezTo>
                  <a:pt x="676" y="329"/>
                  <a:pt x="598" y="316"/>
                  <a:pt x="523" y="291"/>
                </a:cubicBezTo>
                <a:cubicBezTo>
                  <a:pt x="503" y="284"/>
                  <a:pt x="478" y="283"/>
                  <a:pt x="460" y="273"/>
                </a:cubicBezTo>
                <a:cubicBezTo>
                  <a:pt x="433" y="258"/>
                  <a:pt x="405" y="249"/>
                  <a:pt x="379" y="231"/>
                </a:cubicBezTo>
                <a:cubicBezTo>
                  <a:pt x="370" y="225"/>
                  <a:pt x="361" y="219"/>
                  <a:pt x="352" y="213"/>
                </a:cubicBezTo>
                <a:cubicBezTo>
                  <a:pt x="346" y="209"/>
                  <a:pt x="334" y="201"/>
                  <a:pt x="334" y="201"/>
                </a:cubicBezTo>
                <a:cubicBezTo>
                  <a:pt x="327" y="190"/>
                  <a:pt x="321" y="190"/>
                  <a:pt x="310" y="183"/>
                </a:cubicBezTo>
                <a:cubicBezTo>
                  <a:pt x="304" y="164"/>
                  <a:pt x="286" y="146"/>
                  <a:pt x="274" y="129"/>
                </a:cubicBezTo>
                <a:cubicBezTo>
                  <a:pt x="249" y="92"/>
                  <a:pt x="233" y="43"/>
                  <a:pt x="202" y="12"/>
                </a:cubicBezTo>
                <a:cubicBezTo>
                  <a:pt x="191" y="1"/>
                  <a:pt x="177" y="0"/>
                  <a:pt x="163" y="0"/>
                </a:cubicBez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897200" y="1184400"/>
            <a:ext cx="3976560" cy="1431360"/>
            <a:chOff x="1897200" y="1184400"/>
            <a:chExt cx="3976560" cy="1431360"/>
          </a:xfrm>
        </p:grpSpPr>
        <p:sp>
          <p:nvSpPr>
            <p:cNvPr id="200" name=""/>
            <p:cNvSpPr/>
            <p:nvPr/>
          </p:nvSpPr>
          <p:spPr>
            <a:xfrm>
              <a:off x="2419200" y="1314360"/>
              <a:ext cx="13032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81280" y="1574640"/>
              <a:ext cx="13032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1560" y="183492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1560" y="1314360"/>
              <a:ext cx="13032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81280" y="118440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9200" y="1574640"/>
              <a:ext cx="13032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1600" y="2095200"/>
              <a:ext cx="1299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71880" y="1574640"/>
              <a:ext cx="13176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65360" y="1574640"/>
              <a:ext cx="12888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19200" y="209520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87720" y="209520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87720" y="1314360"/>
              <a:ext cx="13032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94240" y="2095200"/>
              <a:ext cx="1317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4240" y="1184400"/>
              <a:ext cx="1317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5360" y="1834920"/>
              <a:ext cx="12888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1560" y="248580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33600" y="2355480"/>
              <a:ext cx="1317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55960" y="1704600"/>
              <a:ext cx="1317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27160" y="2225520"/>
              <a:ext cx="13176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6000" y="2485800"/>
              <a:ext cx="1299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58920" y="170460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7200" y="1314360"/>
              <a:ext cx="12996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3640" y="1965240"/>
              <a:ext cx="129960" cy="12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3640" y="1184400"/>
              <a:ext cx="1299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11320" y="1433160"/>
              <a:ext cx="1904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098440" y="1834920"/>
              <a:ext cx="114120" cy="39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17880" y="1699920"/>
              <a:ext cx="8712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05120" y="1634760"/>
              <a:ext cx="27936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024000" y="1426680"/>
              <a:ext cx="91800" cy="1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65480" y="1699920"/>
              <a:ext cx="81000" cy="27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680920" y="1687320"/>
              <a:ext cx="40788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87800" y="1518840"/>
              <a:ext cx="1332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181320" y="1303200"/>
              <a:ext cx="76320" cy="27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2779560" y="1307520"/>
              <a:ext cx="30960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533320" y="1282320"/>
              <a:ext cx="1522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517840" y="1421640"/>
              <a:ext cx="1792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540160" y="1623600"/>
              <a:ext cx="141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273400" y="1677240"/>
              <a:ext cx="1634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78080" y="1796760"/>
              <a:ext cx="27144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522520" y="1949040"/>
              <a:ext cx="44136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75000" y="1699560"/>
              <a:ext cx="2052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908440" y="1964880"/>
              <a:ext cx="8244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317760" y="1287360"/>
              <a:ext cx="29376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96800" y="1639800"/>
              <a:ext cx="2732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17400" y="1888920"/>
              <a:ext cx="14148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3682800" y="1307520"/>
              <a:ext cx="215640" cy="39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3333240" y="2040840"/>
              <a:ext cx="2890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187800" y="1686960"/>
              <a:ext cx="30312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3279600" y="2090520"/>
              <a:ext cx="11412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2898720" y="2219040"/>
              <a:ext cx="9864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47720" y="2447640"/>
              <a:ext cx="28260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725640" y="2155680"/>
              <a:ext cx="2617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714840" y="1275840"/>
              <a:ext cx="27288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336480" y="1314360"/>
              <a:ext cx="297000" cy="23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981160" y="1439640"/>
              <a:ext cx="2052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67200" y="1672560"/>
              <a:ext cx="41436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01920" y="1303200"/>
              <a:ext cx="2880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941560" y="2068200"/>
              <a:ext cx="27792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60680" y="13903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30520" y="1693800"/>
              <a:ext cx="32544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1971360"/>
              <a:ext cx="921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87600" y="1542960"/>
              <a:ext cx="12096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071880" y="1933200"/>
              <a:ext cx="13176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6440" y="1704600"/>
              <a:ext cx="20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674800" y="1904400"/>
              <a:ext cx="2667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773440" y="1432800"/>
              <a:ext cx="195120" cy="1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74920" y="1444320"/>
              <a:ext cx="13032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9960" y="1598400"/>
              <a:ext cx="131760" cy="1299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7880" y="1728720"/>
              <a:ext cx="1317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57920" y="1466640"/>
              <a:ext cx="1299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9640" y="1860480"/>
              <a:ext cx="130320" cy="129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49960" y="1336320"/>
              <a:ext cx="131760" cy="1299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080" y="1728720"/>
              <a:ext cx="1317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7920" y="1990440"/>
              <a:ext cx="1299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1680" y="2252520"/>
              <a:ext cx="1317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81720" y="1860480"/>
              <a:ext cx="129960" cy="129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87880" y="2252520"/>
              <a:ext cx="13176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11680" y="1598400"/>
              <a:ext cx="131760" cy="1299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43440" y="1336320"/>
              <a:ext cx="130320" cy="1299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43440" y="1990440"/>
              <a:ext cx="130320" cy="1314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0080" y="1723680"/>
              <a:ext cx="103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208120" y="1706400"/>
              <a:ext cx="163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311440" y="1728720"/>
              <a:ext cx="8244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5481360" y="1663560"/>
              <a:ext cx="1299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589720" y="1734840"/>
              <a:ext cx="7128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349960" y="1701720"/>
              <a:ext cx="27792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21240" y="1461960"/>
              <a:ext cx="1584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703480" y="1450800"/>
              <a:ext cx="716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224320" y="2247840"/>
              <a:ext cx="15264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75240" y="2209680"/>
              <a:ext cx="1476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5606640" y="1963440"/>
              <a:ext cx="141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443200" y="1974600"/>
              <a:ext cx="651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49960" y="1920600"/>
              <a:ext cx="1317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087520" y="1969920"/>
              <a:ext cx="14292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95840" y="1784160"/>
              <a:ext cx="403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6200" y="1587240"/>
              <a:ext cx="6516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83200" y="1560240"/>
              <a:ext cx="28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86520" y="1842840"/>
              <a:ext cx="4428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87880" y="2062080"/>
              <a:ext cx="26820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327640" y="1974240"/>
              <a:ext cx="60480" cy="1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181480" y="1455480"/>
              <a:ext cx="179640" cy="26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75000" y="1763640"/>
              <a:ext cx="279360" cy="272520"/>
            </a:xfrm>
            <a:prstGeom prst="ellipse">
              <a:avLst/>
            </a:prstGeom>
            <a:solidFill>
              <a:srgbClr val="0000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75440" y="2050920"/>
              <a:ext cx="279360" cy="272520"/>
            </a:xfrm>
            <a:prstGeom prst="ellipse">
              <a:avLst/>
            </a:prstGeom>
            <a:solidFill>
              <a:srgbClr val="0000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497400" y="3309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27280" y="385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9240" y="3917880"/>
            <a:ext cx="325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Franklin Gothic Medium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24480" y="2936880"/>
            <a:ext cx="374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ranklin Gothic Medium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27280" y="500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35080" y="5603760"/>
            <a:ext cx="2819520" cy="581040"/>
          </a:xfrm>
          <a:prstGeom prst="flowChartInputOutput">
            <a:avLst/>
          </a:prstGeom>
          <a:gradFill rotWithShape="0">
            <a:gsLst>
              <a:gs pos="0">
                <a:srgbClr val="3333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Random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Random Sign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44560" y="4460760"/>
            <a:ext cx="1600200" cy="581040"/>
          </a:xfrm>
          <a:prstGeom prst="flowChartInputOutpu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44560" y="2708280"/>
            <a:ext cx="1752840" cy="1168560"/>
          </a:xfrm>
          <a:prstGeom prst="flowChartDecision">
            <a:avLst/>
          </a:prstGeom>
          <a:gradFill rotWithShape="0">
            <a:gsLst>
              <a:gs pos="0">
                <a:srgbClr val="1c1c55"/>
              </a:gs>
              <a:gs pos="50000">
                <a:srgbClr val="333399"/>
              </a:gs>
              <a:gs pos="100000">
                <a:srgbClr val="1c1c5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ti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83200" y="2671920"/>
            <a:ext cx="1904760" cy="1269720"/>
          </a:xfrm>
          <a:prstGeom prst="flowChartDecision">
            <a:avLst/>
          </a:prstGeom>
          <a:gradFill rotWithShape="0">
            <a:gsLst>
              <a:gs pos="0">
                <a:srgbClr val="000071"/>
              </a:gs>
              <a:gs pos="50000">
                <a:srgbClr val="0000cc"/>
              </a:gs>
              <a:gs pos="100000">
                <a:srgbClr val="000071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-hop ne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re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ti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62640" y="3851280"/>
            <a:ext cx="325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Franklin Gothic Medium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75360" y="2944800"/>
            <a:ext cx="374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ranklin Gothic Medium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9360" y="3927600"/>
            <a:ext cx="2554200" cy="520560"/>
          </a:xfrm>
          <a:custGeom>
            <a:avLst/>
            <a:gdLst/>
            <a:ahLst/>
            <a:rect l="l" t="t" r="r" b="b"/>
            <a:pathLst>
              <a:path w="1609" h="328">
                <a:moveTo>
                  <a:pt x="1609" y="0"/>
                </a:moveTo>
                <a:cubicBezTo>
                  <a:pt x="1481" y="116"/>
                  <a:pt x="1353" y="232"/>
                  <a:pt x="1225" y="240"/>
                </a:cubicBezTo>
                <a:cubicBezTo>
                  <a:pt x="1097" y="248"/>
                  <a:pt x="985" y="72"/>
                  <a:pt x="841" y="48"/>
                </a:cubicBezTo>
                <a:cubicBezTo>
                  <a:pt x="697" y="24"/>
                  <a:pt x="501" y="49"/>
                  <a:pt x="361" y="96"/>
                </a:cubicBezTo>
                <a:cubicBezTo>
                  <a:pt x="221" y="143"/>
                  <a:pt x="110" y="235"/>
                  <a:pt x="0" y="3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45160" y="2671920"/>
            <a:ext cx="1905120" cy="1269720"/>
          </a:xfrm>
          <a:prstGeom prst="flowChartDecision">
            <a:avLst/>
          </a:prstGeom>
          <a:gradFill rotWithShape="0">
            <a:gsLst>
              <a:gs pos="0">
                <a:srgbClr val="474747"/>
              </a:gs>
              <a:gs pos="50000">
                <a:srgbClr val="808080"/>
              </a:gs>
              <a:gs pos="100000">
                <a:srgbClr val="474747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hop ne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re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ti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85960" y="3927600"/>
            <a:ext cx="4818240" cy="533160"/>
          </a:xfrm>
          <a:custGeom>
            <a:avLst/>
            <a:gdLst/>
            <a:ahLst/>
            <a:rect l="l" t="t" r="r" b="b"/>
            <a:pathLst>
              <a:path w="3007" h="336">
                <a:moveTo>
                  <a:pt x="3007" y="0"/>
                </a:moveTo>
                <a:cubicBezTo>
                  <a:pt x="2907" y="120"/>
                  <a:pt x="2807" y="240"/>
                  <a:pt x="2431" y="288"/>
                </a:cubicBezTo>
                <a:cubicBezTo>
                  <a:pt x="2055" y="336"/>
                  <a:pt x="1156" y="282"/>
                  <a:pt x="751" y="288"/>
                </a:cubicBezTo>
                <a:cubicBezTo>
                  <a:pt x="346" y="294"/>
                  <a:pt x="173" y="308"/>
                  <a:pt x="0" y="32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24960" y="3851280"/>
            <a:ext cx="325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Franklin Gothic Medium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 rot="300600">
            <a:off x="3344400" y="3927600"/>
            <a:ext cx="1038240" cy="3045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cale dow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402160" y="4156200"/>
            <a:ext cx="1067040" cy="196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cale down x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334120"/>
            <a:ext cx="1752840" cy="1168200"/>
          </a:xfrm>
          <a:prstGeom prst="flowChartDecision">
            <a:avLst/>
          </a:prstGeom>
          <a:gradFill rotWithShape="0">
            <a:gsLst>
              <a:gs pos="0">
                <a:srgbClr val="ff3300"/>
              </a:gs>
              <a:gs pos="100000">
                <a:srgbClr val="00ff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ed &amp; Hig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49680" y="590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591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143680" y="4948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91240" y="4994280"/>
            <a:ext cx="325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Franklin Gothic Medium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96360" y="4484520"/>
            <a:ext cx="540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19320" y="5511960"/>
            <a:ext cx="424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Wingdings 2"/>
                <a:ea typeface="Wingdings 2"/>
              </a:rPr>
              <a:t>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78680" y="3317760"/>
            <a:ext cx="1523880" cy="243864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960" y="0"/>
                </a:moveTo>
                <a:cubicBezTo>
                  <a:pt x="944" y="448"/>
                  <a:pt x="928" y="896"/>
                  <a:pt x="768" y="1152"/>
                </a:cubicBezTo>
                <a:cubicBezTo>
                  <a:pt x="608" y="1408"/>
                  <a:pt x="304" y="1472"/>
                  <a:pt x="0" y="15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9080" y="3470400"/>
            <a:ext cx="374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Franklin Gothic Medium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920" y="1684440"/>
            <a:ext cx="149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87720" y="1684440"/>
            <a:ext cx="1495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205740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3000" y="3317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3306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ggregating trust val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hange in assumption, |signature| &gt; 1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“science-fiction”, signature = {“Fiction”, “Technical”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“fiction”, signature = {“Fiction”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V is a member of both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V has higher involvement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in “fiction” than in other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Assume, W with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Technical” = 18, “Fiction” = 18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Information (“science-fiction”) from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W is more likely to be accurate than info from V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ggregation of trust values </a:t>
            </a:r>
            <a:r>
              <a:rPr b="1" lang="en-US" sz="24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iComplex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ggregation function used by all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d by each peer, stored on 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&amp;V still applies since iComplex = f(trust values) and f i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191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ggregating trust values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ll involvement value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uses 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More communities      iComplex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Larger communities      iComplex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un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fferent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19920" y="1298520"/>
          <a:ext cx="2652480" cy="4915080"/>
        </p:xfrm>
        <a:graphic>
          <a:graphicData uri="http://schemas.openxmlformats.org/drawingml/2006/table">
            <a:tbl>
              <a:tblPr/>
              <a:tblGrid>
                <a:gridCol w="512640"/>
                <a:gridCol w="1089000"/>
                <a:gridCol w="1050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ed At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BIOGRAPH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BIOGRAPH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BIOGRAPH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BIOGRAPH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BIOGRAPH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cd7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848720" y="1676520"/>
            <a:ext cx="0" cy="38088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48720" y="2209680"/>
            <a:ext cx="0" cy="91440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48720" y="3276720"/>
            <a:ext cx="0" cy="15228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3505320"/>
            <a:ext cx="0" cy="45720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4114800"/>
            <a:ext cx="0" cy="38088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4648320"/>
            <a:ext cx="0" cy="60948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5486400"/>
            <a:ext cx="0" cy="68580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190512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48720" y="274320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373392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434340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510552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48720" y="5943600"/>
            <a:ext cx="304560" cy="0"/>
          </a:xfrm>
          <a:prstGeom prst="line">
            <a:avLst/>
          </a:prstGeom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1676520"/>
            <a:ext cx="381240" cy="38088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53280" y="2514600"/>
            <a:ext cx="381240" cy="38088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153280" y="3124080"/>
            <a:ext cx="381240" cy="38124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3280" y="3581280"/>
            <a:ext cx="381240" cy="38124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4114800"/>
            <a:ext cx="381240" cy="38088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53280" y="4952880"/>
            <a:ext cx="381240" cy="38124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53280" y="5715000"/>
            <a:ext cx="381240" cy="380880"/>
          </a:xfrm>
          <a:prstGeom prst="ellipse">
            <a:avLst/>
          </a:prstGeom>
          <a:noFill/>
          <a:ln w="19080">
            <a:solidFill>
              <a:srgbClr val="ba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1828800"/>
            <a:ext cx="4495680" cy="0"/>
          </a:xfrm>
          <a:prstGeom prst="line">
            <a:avLst/>
          </a:prstGeom>
          <a:ln w="63360">
            <a:solidFill>
              <a:srgbClr val="ba00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55440" y="1668600"/>
            <a:ext cx="4338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0003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505320" y="2057400"/>
                <a:ext cx="2570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584520" y="2313000"/>
                <a:ext cx="257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this talk is ab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ole-based trust in P2P network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mode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of role-based trust values for a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pudiation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formation assurance using the trust model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that can/have used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s of the trus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s and threa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onical application: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gital library of peers shar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ggregating trust values (3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724280" cy="2992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962520" y="3710160"/>
            <a:ext cx="4952880" cy="3147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rot="10800000">
            <a:off x="4876560" y="2361960"/>
            <a:ext cx="2361960" cy="230040"/>
          </a:xfrm>
          <a:prstGeom prst="rightArrow">
            <a:avLst>
              <a:gd name="adj1" fmla="val 50343"/>
              <a:gd name="adj2" fmla="val 136854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0600" y="1752480"/>
            <a:ext cx="4038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Complex Vs. Number of communities in which peer is a s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5334120"/>
            <a:ext cx="2362320" cy="230040"/>
          </a:xfrm>
          <a:prstGeom prst="rightArrow">
            <a:avLst>
              <a:gd name="adj1" fmla="val 50343"/>
              <a:gd name="adj2" fmla="val 136875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4648320"/>
            <a:ext cx="3048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Complex Vs. Community memberships 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ggregating trust values (3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333760" cy="3378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rot="10800000">
            <a:off x="6148440" y="3124080"/>
            <a:ext cx="1641600" cy="230400"/>
          </a:xfrm>
          <a:prstGeom prst="rightArrow">
            <a:avLst>
              <a:gd name="adj1" fmla="val 50343"/>
              <a:gd name="adj2" fmla="val 94967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2455920"/>
            <a:ext cx="219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Complex Vs Average Community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plying the iComplex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ommunity-based searching (CBS) – prior work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CBS Respons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eventing actions of malicious peer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mplex provides peers with a probabilistic guarantee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it, peers might dishonestly divert traffic from another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04920" y="2971800"/>
          <a:ext cx="3103560" cy="3014640"/>
        </p:xfrm>
        <a:graphic>
          <a:graphicData uri="http://schemas.openxmlformats.org/drawingml/2006/table">
            <a:tbl>
              <a:tblPr/>
              <a:tblGrid>
                <a:gridCol w="612720"/>
                <a:gridCol w="1211400"/>
                <a:gridCol w="127944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419720" y="2971800"/>
          <a:ext cx="4383000" cy="3044880"/>
        </p:xfrm>
        <a:graphic>
          <a:graphicData uri="http://schemas.openxmlformats.org/drawingml/2006/table">
            <a:tbl>
              <a:tblPr/>
              <a:tblGrid>
                <a:gridCol w="612720"/>
                <a:gridCol w="1211040"/>
                <a:gridCol w="1279800"/>
                <a:gridCol w="127944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ompl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a0003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TECH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a0003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a0003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F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a0003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MAGAZ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9797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3505320" y="4343400"/>
            <a:ext cx="838080" cy="0"/>
          </a:xfrm>
          <a:prstGeom prst="line">
            <a:avLst/>
          </a:prstGeom>
          <a:ln w="63360">
            <a:solidFill>
              <a:srgbClr val="ba00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0720" y="61326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3480" y="61326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ocation and Non-Repudi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vocation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er maintains its own revoca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during Revocation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Similar to Random Verificatio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Follows validation phase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ers to affect Trust of pe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 number of ve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n-Repudiation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cannot lie during Random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sked whether peer i is its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Peer j provides Revocation list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verifiable Transaction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OR Peer j tells the truth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j cannot lie because its own certificates would have peer i listed as a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omain is very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e.g. digital library with constrained set of interests to allow community formation to occur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life links are not always b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ut-of-scope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peers are identified by IP addresses (e.g. IPv6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more than probabilistic guarantees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ing the channel / protocol for communication amongst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the format for interests of a peer (e.g.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nterest attributes are obtained from a peer user (e.g. UI, 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ttacks and threat assessment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s that lie infrequently and with du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ation of the P2P network by DoS attacks on s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dummy peers (e.g. solution: computationally expensive peer id generation, use of reputation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e are hiring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nd resumes to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jtabak @ microsoft.com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y Contribu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rust management for P2P systems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a role-based model for trust amongst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We show that the model is scalable, dynamic, revocable, secure, and transitive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Attributes of the trust model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trust based on peer roles an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that has 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ble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a metric to combine trust values for each role of a pee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Attributes of the combined trust value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through a simpl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2P systems are often used as distributed file store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information sharing (Napster, Gnutella, Free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ed file storage (Fars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dentified information assurance issue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btained is from anonymous peers (Free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ng peers need to trust each other im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mifications of identified issue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nerability to attacks by malicious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Spreading of viruses, trojan horses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Incorrect information (rumors)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Other damaging information</a:t>
            </a:r>
            <a:endParaRPr b="0" i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blem-domain/research attractivenes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dynamic, decentralized trust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text of this 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ynamic Coalition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information/resource sharing amongst partners (orgs, ag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Techniques: transitive delegation, cryptographic file sys, capacity sandboxing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is across different orgs in a scalable, revocable, controlled and accountable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ommunities of Peers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etwork-addressable computing elements (PC, PDA, printer, etc.) used to share / consume resources/information with known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eer is in one pre-determined group based on its human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Department / org. For home users – domain of the ISP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 declare interests.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Peer user in NY declares an interest in “wombats”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Peer user in China also declares interest in “wombats”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Both peers become part of an implicit, undiscovered community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communiti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Implicit, natural organization of peers &amp; can be efficiently uncovered / cultivated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Loosely based on “interest-groups” (MSN Communities, Yahoo Groups, Usenet newsgroups, web rings) – but communities can overlap</a:t>
            </a:r>
            <a:endParaRPr b="0" i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and Defini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rior work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 for studying P2P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to help form and discover P2P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k Weigh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described in this pres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terest Attribute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ly / explicitly obtained from a 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ied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Personal interest attribute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Claimed interest attributes (subset of “personal”)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2P Community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non-empty set N of nodes that has a non-null 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ignature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set resulting from the intersection of all the sets of claimed attributes from k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node V claims {“Magazine”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node W claims {“Golf”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ture of V &amp; W is {“History”} and they are considered a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6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and Definitions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eer Links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: web pages are hyperli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Exploited by search engines as web pages usually link to related content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s also have links – but they are overlay links (established on as-needed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Indicates relationships amongst peers (present in address book, being on the same network)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Indicates human users share something in common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Links are bi-directional communication channel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ore information about peer links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s are directly (1-hop) linked peers. Enables a peer to communicate with other p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rely directed by humans NOT by node names (D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 can first be created by a bootstrapping node and thereafter to friends / colleagues within the P2P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link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informatio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 help in computing Link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and Definitions (3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nk Weight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calculated for each claimed attribute of a peer V based on the number of links from V that can reach, after at most one indirection, other peers that claim the same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41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example digital libr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219320"/>
            <a:ext cx="4343400" cy="4952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me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523880"/>
            <a:ext cx="27432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time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3048120"/>
            <a:ext cx="2743200" cy="19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495680"/>
            <a:ext cx="2743200" cy="1981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568520"/>
            <a:ext cx="4996080" cy="4043160"/>
          </a:xfrm>
          <a:custGeom>
            <a:avLst/>
            <a:gdLst/>
            <a:ahLst/>
            <a:rect l="l" t="t" r="r" b="b"/>
            <a:pathLst>
              <a:path w="3147" h="2547">
                <a:moveTo>
                  <a:pt x="231" y="1971"/>
                </a:moveTo>
                <a:cubicBezTo>
                  <a:pt x="186" y="1965"/>
                  <a:pt x="143" y="1965"/>
                  <a:pt x="98" y="1976"/>
                </a:cubicBezTo>
                <a:cubicBezTo>
                  <a:pt x="94" y="1979"/>
                  <a:pt x="91" y="1984"/>
                  <a:pt x="87" y="1986"/>
                </a:cubicBezTo>
                <a:cubicBezTo>
                  <a:pt x="82" y="1989"/>
                  <a:pt x="76" y="1988"/>
                  <a:pt x="72" y="1991"/>
                </a:cubicBezTo>
                <a:cubicBezTo>
                  <a:pt x="67" y="1995"/>
                  <a:pt x="66" y="2002"/>
                  <a:pt x="62" y="2007"/>
                </a:cubicBezTo>
                <a:cubicBezTo>
                  <a:pt x="35" y="2040"/>
                  <a:pt x="23" y="2070"/>
                  <a:pt x="10" y="2110"/>
                </a:cubicBezTo>
                <a:cubicBezTo>
                  <a:pt x="0" y="2180"/>
                  <a:pt x="30" y="2314"/>
                  <a:pt x="93" y="2357"/>
                </a:cubicBezTo>
                <a:cubicBezTo>
                  <a:pt x="112" y="2386"/>
                  <a:pt x="154" y="2408"/>
                  <a:pt x="185" y="2423"/>
                </a:cubicBezTo>
                <a:cubicBezTo>
                  <a:pt x="198" y="2437"/>
                  <a:pt x="191" y="2434"/>
                  <a:pt x="211" y="2439"/>
                </a:cubicBezTo>
                <a:cubicBezTo>
                  <a:pt x="225" y="2443"/>
                  <a:pt x="252" y="2449"/>
                  <a:pt x="252" y="2449"/>
                </a:cubicBezTo>
                <a:cubicBezTo>
                  <a:pt x="272" y="2462"/>
                  <a:pt x="291" y="2470"/>
                  <a:pt x="314" y="2475"/>
                </a:cubicBezTo>
                <a:cubicBezTo>
                  <a:pt x="391" y="2514"/>
                  <a:pt x="482" y="2518"/>
                  <a:pt x="566" y="2531"/>
                </a:cubicBezTo>
                <a:cubicBezTo>
                  <a:pt x="580" y="2533"/>
                  <a:pt x="593" y="2536"/>
                  <a:pt x="607" y="2537"/>
                </a:cubicBezTo>
                <a:cubicBezTo>
                  <a:pt x="641" y="2540"/>
                  <a:pt x="710" y="2547"/>
                  <a:pt x="710" y="2547"/>
                </a:cubicBezTo>
                <a:cubicBezTo>
                  <a:pt x="786" y="2542"/>
                  <a:pt x="786" y="2540"/>
                  <a:pt x="843" y="2521"/>
                </a:cubicBezTo>
                <a:cubicBezTo>
                  <a:pt x="857" y="2508"/>
                  <a:pt x="866" y="2493"/>
                  <a:pt x="879" y="2480"/>
                </a:cubicBezTo>
                <a:cubicBezTo>
                  <a:pt x="893" y="2446"/>
                  <a:pt x="893" y="2397"/>
                  <a:pt x="921" y="2372"/>
                </a:cubicBezTo>
                <a:cubicBezTo>
                  <a:pt x="960" y="2255"/>
                  <a:pt x="1146" y="2231"/>
                  <a:pt x="1250" y="2228"/>
                </a:cubicBezTo>
                <a:cubicBezTo>
                  <a:pt x="1346" y="2225"/>
                  <a:pt x="1442" y="2224"/>
                  <a:pt x="1538" y="2223"/>
                </a:cubicBezTo>
                <a:cubicBezTo>
                  <a:pt x="1672" y="2221"/>
                  <a:pt x="1805" y="2220"/>
                  <a:pt x="1939" y="2218"/>
                </a:cubicBezTo>
                <a:cubicBezTo>
                  <a:pt x="2004" y="2209"/>
                  <a:pt x="2090" y="2198"/>
                  <a:pt x="2145" y="2161"/>
                </a:cubicBezTo>
                <a:cubicBezTo>
                  <a:pt x="2170" y="2144"/>
                  <a:pt x="2204" y="2124"/>
                  <a:pt x="2232" y="2115"/>
                </a:cubicBezTo>
                <a:cubicBezTo>
                  <a:pt x="2258" y="2095"/>
                  <a:pt x="2281" y="2071"/>
                  <a:pt x="2309" y="2053"/>
                </a:cubicBezTo>
                <a:cubicBezTo>
                  <a:pt x="2332" y="2038"/>
                  <a:pt x="2326" y="2049"/>
                  <a:pt x="2345" y="2033"/>
                </a:cubicBezTo>
                <a:cubicBezTo>
                  <a:pt x="2378" y="2006"/>
                  <a:pt x="2402" y="1964"/>
                  <a:pt x="2427" y="1930"/>
                </a:cubicBezTo>
                <a:cubicBezTo>
                  <a:pt x="2448" y="1902"/>
                  <a:pt x="2471" y="1876"/>
                  <a:pt x="2489" y="1847"/>
                </a:cubicBezTo>
                <a:cubicBezTo>
                  <a:pt x="2500" y="1804"/>
                  <a:pt x="2484" y="1846"/>
                  <a:pt x="2510" y="1817"/>
                </a:cubicBezTo>
                <a:cubicBezTo>
                  <a:pt x="2537" y="1787"/>
                  <a:pt x="2552" y="1751"/>
                  <a:pt x="2582" y="1724"/>
                </a:cubicBezTo>
                <a:cubicBezTo>
                  <a:pt x="2591" y="1698"/>
                  <a:pt x="2620" y="1667"/>
                  <a:pt x="2643" y="1652"/>
                </a:cubicBezTo>
                <a:cubicBezTo>
                  <a:pt x="2671" y="1613"/>
                  <a:pt x="2740" y="1573"/>
                  <a:pt x="2787" y="1559"/>
                </a:cubicBezTo>
                <a:cubicBezTo>
                  <a:pt x="2797" y="1552"/>
                  <a:pt x="2806" y="1542"/>
                  <a:pt x="2818" y="1539"/>
                </a:cubicBezTo>
                <a:cubicBezTo>
                  <a:pt x="2832" y="1536"/>
                  <a:pt x="2859" y="1529"/>
                  <a:pt x="2859" y="1529"/>
                </a:cubicBezTo>
                <a:cubicBezTo>
                  <a:pt x="2882" y="1517"/>
                  <a:pt x="2907" y="1506"/>
                  <a:pt x="2931" y="1498"/>
                </a:cubicBezTo>
                <a:cubicBezTo>
                  <a:pt x="2951" y="1484"/>
                  <a:pt x="2972" y="1485"/>
                  <a:pt x="2993" y="1472"/>
                </a:cubicBezTo>
                <a:cubicBezTo>
                  <a:pt x="3013" y="1460"/>
                  <a:pt x="3026" y="1443"/>
                  <a:pt x="3045" y="1431"/>
                </a:cubicBezTo>
                <a:cubicBezTo>
                  <a:pt x="3057" y="1412"/>
                  <a:pt x="3071" y="1410"/>
                  <a:pt x="3086" y="1395"/>
                </a:cubicBezTo>
                <a:cubicBezTo>
                  <a:pt x="3099" y="1382"/>
                  <a:pt x="3108" y="1367"/>
                  <a:pt x="3122" y="1354"/>
                </a:cubicBezTo>
                <a:cubicBezTo>
                  <a:pt x="3128" y="1334"/>
                  <a:pt x="3141" y="1327"/>
                  <a:pt x="3147" y="1307"/>
                </a:cubicBezTo>
                <a:cubicBezTo>
                  <a:pt x="3142" y="1252"/>
                  <a:pt x="3138" y="1215"/>
                  <a:pt x="3091" y="1184"/>
                </a:cubicBezTo>
                <a:cubicBezTo>
                  <a:pt x="3074" y="1159"/>
                  <a:pt x="3043" y="1132"/>
                  <a:pt x="3014" y="1122"/>
                </a:cubicBezTo>
                <a:cubicBezTo>
                  <a:pt x="2954" y="1068"/>
                  <a:pt x="2889" y="1066"/>
                  <a:pt x="2808" y="1061"/>
                </a:cubicBezTo>
                <a:cubicBezTo>
                  <a:pt x="2746" y="1053"/>
                  <a:pt x="2710" y="1051"/>
                  <a:pt x="2643" y="1055"/>
                </a:cubicBezTo>
                <a:cubicBezTo>
                  <a:pt x="2556" y="1051"/>
                  <a:pt x="2546" y="1055"/>
                  <a:pt x="2484" y="1045"/>
                </a:cubicBezTo>
                <a:cubicBezTo>
                  <a:pt x="2361" y="1025"/>
                  <a:pt x="2239" y="985"/>
                  <a:pt x="2119" y="953"/>
                </a:cubicBezTo>
                <a:cubicBezTo>
                  <a:pt x="2052" y="936"/>
                  <a:pt x="1986" y="917"/>
                  <a:pt x="1918" y="906"/>
                </a:cubicBezTo>
                <a:cubicBezTo>
                  <a:pt x="1909" y="905"/>
                  <a:pt x="1882" y="899"/>
                  <a:pt x="1872" y="896"/>
                </a:cubicBezTo>
                <a:cubicBezTo>
                  <a:pt x="1862" y="893"/>
                  <a:pt x="1851" y="889"/>
                  <a:pt x="1841" y="886"/>
                </a:cubicBezTo>
                <a:cubicBezTo>
                  <a:pt x="1836" y="884"/>
                  <a:pt x="1826" y="881"/>
                  <a:pt x="1826" y="881"/>
                </a:cubicBezTo>
                <a:cubicBezTo>
                  <a:pt x="1783" y="838"/>
                  <a:pt x="1811" y="754"/>
                  <a:pt x="1867" y="737"/>
                </a:cubicBezTo>
                <a:cubicBezTo>
                  <a:pt x="1913" y="686"/>
                  <a:pt x="2080" y="676"/>
                  <a:pt x="2139" y="675"/>
                </a:cubicBezTo>
                <a:cubicBezTo>
                  <a:pt x="2249" y="672"/>
                  <a:pt x="2359" y="672"/>
                  <a:pt x="2469" y="670"/>
                </a:cubicBezTo>
                <a:cubicBezTo>
                  <a:pt x="2581" y="659"/>
                  <a:pt x="2695" y="669"/>
                  <a:pt x="2808" y="665"/>
                </a:cubicBezTo>
                <a:cubicBezTo>
                  <a:pt x="2879" y="655"/>
                  <a:pt x="2901" y="635"/>
                  <a:pt x="2957" y="593"/>
                </a:cubicBezTo>
                <a:cubicBezTo>
                  <a:pt x="2966" y="574"/>
                  <a:pt x="2978" y="564"/>
                  <a:pt x="2988" y="546"/>
                </a:cubicBezTo>
                <a:cubicBezTo>
                  <a:pt x="3020" y="488"/>
                  <a:pt x="2997" y="522"/>
                  <a:pt x="3019" y="490"/>
                </a:cubicBezTo>
                <a:cubicBezTo>
                  <a:pt x="3027" y="455"/>
                  <a:pt x="3039" y="423"/>
                  <a:pt x="3045" y="387"/>
                </a:cubicBezTo>
                <a:cubicBezTo>
                  <a:pt x="3042" y="325"/>
                  <a:pt x="3058" y="246"/>
                  <a:pt x="3009" y="197"/>
                </a:cubicBezTo>
                <a:cubicBezTo>
                  <a:pt x="2993" y="155"/>
                  <a:pt x="2942" y="138"/>
                  <a:pt x="2901" y="130"/>
                </a:cubicBezTo>
                <a:cubicBezTo>
                  <a:pt x="2807" y="133"/>
                  <a:pt x="2735" y="135"/>
                  <a:pt x="2649" y="161"/>
                </a:cubicBezTo>
                <a:cubicBezTo>
                  <a:pt x="2624" y="157"/>
                  <a:pt x="2601" y="153"/>
                  <a:pt x="2577" y="145"/>
                </a:cubicBezTo>
                <a:cubicBezTo>
                  <a:pt x="2566" y="135"/>
                  <a:pt x="2535" y="125"/>
                  <a:pt x="2535" y="125"/>
                </a:cubicBezTo>
                <a:cubicBezTo>
                  <a:pt x="2506" y="95"/>
                  <a:pt x="2521" y="103"/>
                  <a:pt x="2494" y="94"/>
                </a:cubicBezTo>
                <a:cubicBezTo>
                  <a:pt x="2473" y="79"/>
                  <a:pt x="2458" y="61"/>
                  <a:pt x="2433" y="53"/>
                </a:cubicBezTo>
                <a:cubicBezTo>
                  <a:pt x="2413" y="33"/>
                  <a:pt x="2377" y="19"/>
                  <a:pt x="2350" y="11"/>
                </a:cubicBezTo>
                <a:cubicBezTo>
                  <a:pt x="2340" y="8"/>
                  <a:pt x="2319" y="1"/>
                  <a:pt x="2319" y="1"/>
                </a:cubicBezTo>
                <a:cubicBezTo>
                  <a:pt x="2186" y="5"/>
                  <a:pt x="2166" y="0"/>
                  <a:pt x="2067" y="47"/>
                </a:cubicBezTo>
                <a:cubicBezTo>
                  <a:pt x="2058" y="57"/>
                  <a:pt x="2046" y="63"/>
                  <a:pt x="2037" y="73"/>
                </a:cubicBezTo>
                <a:cubicBezTo>
                  <a:pt x="2034" y="77"/>
                  <a:pt x="2028" y="99"/>
                  <a:pt x="2026" y="104"/>
                </a:cubicBezTo>
                <a:cubicBezTo>
                  <a:pt x="2020" y="115"/>
                  <a:pt x="2006" y="135"/>
                  <a:pt x="2006" y="135"/>
                </a:cubicBezTo>
                <a:cubicBezTo>
                  <a:pt x="2002" y="158"/>
                  <a:pt x="1995" y="179"/>
                  <a:pt x="1990" y="202"/>
                </a:cubicBezTo>
                <a:cubicBezTo>
                  <a:pt x="1993" y="248"/>
                  <a:pt x="1991" y="287"/>
                  <a:pt x="2016" y="325"/>
                </a:cubicBezTo>
                <a:cubicBezTo>
                  <a:pt x="2018" y="332"/>
                  <a:pt x="2018" y="340"/>
                  <a:pt x="2021" y="346"/>
                </a:cubicBezTo>
                <a:cubicBezTo>
                  <a:pt x="2027" y="357"/>
                  <a:pt x="2042" y="377"/>
                  <a:pt x="2042" y="377"/>
                </a:cubicBezTo>
                <a:cubicBezTo>
                  <a:pt x="2044" y="382"/>
                  <a:pt x="2045" y="387"/>
                  <a:pt x="2047" y="392"/>
                </a:cubicBezTo>
                <a:cubicBezTo>
                  <a:pt x="2050" y="397"/>
                  <a:pt x="2055" y="401"/>
                  <a:pt x="2057" y="407"/>
                </a:cubicBezTo>
                <a:cubicBezTo>
                  <a:pt x="2061" y="417"/>
                  <a:pt x="2067" y="438"/>
                  <a:pt x="2067" y="438"/>
                </a:cubicBezTo>
                <a:cubicBezTo>
                  <a:pt x="2065" y="459"/>
                  <a:pt x="2070" y="483"/>
                  <a:pt x="2057" y="500"/>
                </a:cubicBezTo>
                <a:cubicBezTo>
                  <a:pt x="2033" y="532"/>
                  <a:pt x="1986" y="550"/>
                  <a:pt x="1949" y="562"/>
                </a:cubicBezTo>
                <a:cubicBezTo>
                  <a:pt x="1919" y="582"/>
                  <a:pt x="1872" y="594"/>
                  <a:pt x="1836" y="603"/>
                </a:cubicBezTo>
                <a:cubicBezTo>
                  <a:pt x="1822" y="612"/>
                  <a:pt x="1805" y="622"/>
                  <a:pt x="1790" y="629"/>
                </a:cubicBezTo>
                <a:cubicBezTo>
                  <a:pt x="1780" y="634"/>
                  <a:pt x="1768" y="633"/>
                  <a:pt x="1759" y="639"/>
                </a:cubicBezTo>
                <a:cubicBezTo>
                  <a:pt x="1723" y="662"/>
                  <a:pt x="1739" y="654"/>
                  <a:pt x="1713" y="665"/>
                </a:cubicBezTo>
                <a:cubicBezTo>
                  <a:pt x="1705" y="672"/>
                  <a:pt x="1694" y="676"/>
                  <a:pt x="1687" y="685"/>
                </a:cubicBezTo>
                <a:cubicBezTo>
                  <a:pt x="1668" y="710"/>
                  <a:pt x="1700" y="695"/>
                  <a:pt x="1666" y="706"/>
                </a:cubicBezTo>
                <a:cubicBezTo>
                  <a:pt x="1660" y="725"/>
                  <a:pt x="1642" y="750"/>
                  <a:pt x="1630" y="767"/>
                </a:cubicBezTo>
                <a:cubicBezTo>
                  <a:pt x="1627" y="778"/>
                  <a:pt x="1618" y="787"/>
                  <a:pt x="1615" y="798"/>
                </a:cubicBezTo>
                <a:cubicBezTo>
                  <a:pt x="1610" y="817"/>
                  <a:pt x="1609" y="836"/>
                  <a:pt x="1605" y="855"/>
                </a:cubicBezTo>
                <a:cubicBezTo>
                  <a:pt x="1607" y="876"/>
                  <a:pt x="1607" y="897"/>
                  <a:pt x="1610" y="917"/>
                </a:cubicBezTo>
                <a:cubicBezTo>
                  <a:pt x="1612" y="927"/>
                  <a:pt x="1620" y="947"/>
                  <a:pt x="1620" y="947"/>
                </a:cubicBezTo>
                <a:cubicBezTo>
                  <a:pt x="1627" y="1014"/>
                  <a:pt x="1636" y="1106"/>
                  <a:pt x="1584" y="1158"/>
                </a:cubicBezTo>
                <a:cubicBezTo>
                  <a:pt x="1574" y="1190"/>
                  <a:pt x="1542" y="1215"/>
                  <a:pt x="1517" y="1235"/>
                </a:cubicBezTo>
                <a:cubicBezTo>
                  <a:pt x="1500" y="1249"/>
                  <a:pt x="1487" y="1268"/>
                  <a:pt x="1471" y="1282"/>
                </a:cubicBezTo>
                <a:cubicBezTo>
                  <a:pt x="1442" y="1307"/>
                  <a:pt x="1410" y="1329"/>
                  <a:pt x="1378" y="1349"/>
                </a:cubicBezTo>
                <a:cubicBezTo>
                  <a:pt x="1303" y="1396"/>
                  <a:pt x="1357" y="1377"/>
                  <a:pt x="1317" y="1390"/>
                </a:cubicBezTo>
                <a:cubicBezTo>
                  <a:pt x="1290" y="1415"/>
                  <a:pt x="1255" y="1432"/>
                  <a:pt x="1229" y="1457"/>
                </a:cubicBezTo>
                <a:cubicBezTo>
                  <a:pt x="1207" y="1478"/>
                  <a:pt x="1195" y="1489"/>
                  <a:pt x="1167" y="1498"/>
                </a:cubicBezTo>
                <a:cubicBezTo>
                  <a:pt x="1144" y="1516"/>
                  <a:pt x="1133" y="1516"/>
                  <a:pt x="1111" y="1529"/>
                </a:cubicBezTo>
                <a:cubicBezTo>
                  <a:pt x="1071" y="1553"/>
                  <a:pt x="1038" y="1580"/>
                  <a:pt x="993" y="1595"/>
                </a:cubicBezTo>
                <a:cubicBezTo>
                  <a:pt x="976" y="1607"/>
                  <a:pt x="961" y="1615"/>
                  <a:pt x="941" y="1621"/>
                </a:cubicBezTo>
                <a:cubicBezTo>
                  <a:pt x="934" y="1626"/>
                  <a:pt x="929" y="1633"/>
                  <a:pt x="921" y="1637"/>
                </a:cubicBezTo>
                <a:cubicBezTo>
                  <a:pt x="911" y="1642"/>
                  <a:pt x="890" y="1647"/>
                  <a:pt x="890" y="1647"/>
                </a:cubicBezTo>
                <a:cubicBezTo>
                  <a:pt x="867" y="1668"/>
                  <a:pt x="802" y="1688"/>
                  <a:pt x="771" y="1698"/>
                </a:cubicBezTo>
                <a:cubicBezTo>
                  <a:pt x="763" y="1703"/>
                  <a:pt x="755" y="1710"/>
                  <a:pt x="746" y="1714"/>
                </a:cubicBezTo>
                <a:cubicBezTo>
                  <a:pt x="738" y="1717"/>
                  <a:pt x="728" y="1715"/>
                  <a:pt x="720" y="1719"/>
                </a:cubicBezTo>
                <a:cubicBezTo>
                  <a:pt x="710" y="1724"/>
                  <a:pt x="704" y="1734"/>
                  <a:pt x="694" y="1739"/>
                </a:cubicBezTo>
                <a:cubicBezTo>
                  <a:pt x="664" y="1754"/>
                  <a:pt x="628" y="1758"/>
                  <a:pt x="597" y="1770"/>
                </a:cubicBezTo>
                <a:cubicBezTo>
                  <a:pt x="562" y="1784"/>
                  <a:pt x="536" y="1799"/>
                  <a:pt x="499" y="1806"/>
                </a:cubicBezTo>
                <a:cubicBezTo>
                  <a:pt x="474" y="1819"/>
                  <a:pt x="455" y="1830"/>
                  <a:pt x="427" y="1837"/>
                </a:cubicBezTo>
                <a:cubicBezTo>
                  <a:pt x="411" y="1847"/>
                  <a:pt x="375" y="1858"/>
                  <a:pt x="375" y="1858"/>
                </a:cubicBezTo>
                <a:cubicBezTo>
                  <a:pt x="361" y="1867"/>
                  <a:pt x="329" y="1878"/>
                  <a:pt x="329" y="1878"/>
                </a:cubicBezTo>
                <a:cubicBezTo>
                  <a:pt x="311" y="1898"/>
                  <a:pt x="282" y="1911"/>
                  <a:pt x="257" y="1919"/>
                </a:cubicBezTo>
                <a:cubicBezTo>
                  <a:pt x="244" y="1933"/>
                  <a:pt x="232" y="1939"/>
                  <a:pt x="221" y="1955"/>
                </a:cubicBezTo>
                <a:cubicBezTo>
                  <a:pt x="226" y="1973"/>
                  <a:pt x="220" y="1971"/>
                  <a:pt x="231" y="1971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0292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7524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9810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33526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9240" y="3657600"/>
            <a:ext cx="20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es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lution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ean water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ust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xample digital library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i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Weights for each ro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 of peers known in each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peer will have at least one ro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pre-determined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volvement and Seers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is the average of link weights for elements of the signature of a P2P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Example: V claims {“Magazine”, “</a:t>
            </a:r>
            <a:r>
              <a:rPr b="1" i="1" lang="en-US" sz="1400" spc="-1" strike="noStrike">
                <a:solidFill>
                  <a:srgbClr val="5f5f5f"/>
                </a:solidFill>
                <a:latin typeface="Arial"/>
              </a:rPr>
              <a:t>History</a:t>
            </a: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”}, W claims {“Golf”, “</a:t>
            </a:r>
            <a:r>
              <a:rPr b="1" i="1" lang="en-US" sz="1400" spc="-1" strike="noStrike">
                <a:solidFill>
                  <a:srgbClr val="5f5f5f"/>
                </a:solidFill>
                <a:latin typeface="Arial"/>
              </a:rPr>
              <a:t>History</a:t>
            </a: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”}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Signature of V &amp; W is {“History”} and they are considered a community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Link weight of V for the “History” attribute = involvement of V in “History” community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Link weight of W for the “History” attribute = involvement of W in “History” community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ification: assume single attribute signatures. Link Weight = Involvement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ers with high values of involvement are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prior 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Therefore Seers know more peers within a community than the other peer members</a:t>
            </a:r>
            <a:endParaRPr b="0" i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1:51:01Z</dcterms:created>
  <dc:creator>mujtabak</dc:creator>
  <dc:description/>
  <dc:language>en-US</dc:language>
  <cp:lastModifiedBy>Mujtaba Khambatti</cp:lastModifiedBy>
  <dcterms:modified xsi:type="dcterms:W3CDTF">2004-04-09T15:33:21Z</dcterms:modified>
  <cp:revision>26</cp:revision>
  <dc:subject/>
  <dc:title>A Role-Based Trust Model for Peer-to-Peer Communities and Dynamic Coalitions</dc:title>
</cp:coreProperties>
</file>